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FBD84C-DD84-4EC4-A141-620F077CF42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D9A-2CC6-4357-B572-3B37484E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E41-7F79-4C48-856F-3D3EA649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CF0-F022-43FD-83D2-36795072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2A5-C40A-4C84-B769-E4C29078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E44-CFC0-4B2B-B0C2-AD593CC0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E96-F881-4F27-B635-BEE28C7A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41C-BFA8-4C35-8F00-BC00F8C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A4A-4650-4266-95E5-E1AE31A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2F3-0D8E-4A5E-BA75-9529E7D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04D-7DC1-44B7-A14D-617D3A27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399-8918-451D-85AE-3E001AD4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29F-3B74-4DA7-A521-36FE225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654C-C393-49A9-83D2-CDD4F9BA8EA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60217/20060210_TP0206B_Chan%20Sin%20Ting_1944.mp3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762120"/>
            <a:ext cx="80773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ng Kong University of Sciences and Techn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eneral Education Lectu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7 February 20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181480"/>
            <a:ext cx="60962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800" spc="-1" strike="noStrike">
                <a:solidFill>
                  <a:srgbClr val="ffff99"/>
                </a:solidFill>
                <a:latin typeface="Times New Roman"/>
              </a:rPr>
              <a:t>Director of Public Opinion Programm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8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0481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The Politics of Polling”</a:t>
            </a:r>
            <a:br>
              <a:rPr sz="3600"/>
            </a:br>
            <a:r>
              <a:rPr b="1" lang="zh-TW" sz="3400" spc="-1" strike="noStrike">
                <a:solidFill>
                  <a:srgbClr val="ffff00"/>
                </a:solidFill>
                <a:latin typeface="新細明體"/>
              </a:rPr>
              <a:t>「</a:t>
            </a:r>
            <a:r>
              <a:rPr b="1" lang="zh-TW" sz="3400" spc="-1" strike="noStrike">
                <a:solidFill>
                  <a:srgbClr val="ffff00"/>
                </a:solidFill>
                <a:latin typeface="Times New Roman"/>
              </a:rPr>
              <a:t>民意調查的政治</a:t>
            </a:r>
            <a:r>
              <a:rPr b="1" lang="zh-TW" sz="3400" spc="-1" strike="noStrike">
                <a:solidFill>
                  <a:srgbClr val="ffff00"/>
                </a:solidFill>
                <a:latin typeface="新細明體"/>
              </a:rPr>
              <a:t>」</a:t>
            </a:r>
            <a:r>
              <a:rPr b="1" lang="zh-TW" sz="3600" spc="-1" strike="noStrike">
                <a:solidFill>
                  <a:srgbClr val="ff0000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8954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4956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38280" y="3352680"/>
            <a:ext cx="4343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362320"/>
            <a:ext cx="7620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ports by the electronic media (radio &amp; TV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RTHK news, 15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R1 news, 18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TV news, 18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TV world news, 19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443040" cy="33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adline Daily  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420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2193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2971800"/>
            <a:ext cx="38098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ong Kong Commercial Dail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7 February 2006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284940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        17 February 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4860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35400" y="2043000"/>
            <a:ext cx="42732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30481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273204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867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o     17 Febr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8928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200400"/>
            <a:ext cx="48006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ccecff"/>
                </a:solidFill>
                <a:latin typeface="Times New Roman"/>
              </a:rPr>
              <a:t>SCMP    </a:t>
            </a:r>
            <a:endParaRPr b="0" lang="en-US" sz="23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zh-TW" sz="2300" spc="-1" strike="noStrike">
                <a:solidFill>
                  <a:srgbClr val="ccecff"/>
                </a:solidFill>
                <a:latin typeface="Times New Roman"/>
              </a:rPr>
              <a:t>17 February 2006</a:t>
            </a:r>
            <a:endParaRPr b="0" lang="en-US" sz="23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1355760" cy="54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514600"/>
            <a:ext cx="6781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6840" indent="-4543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Graphics and visual effec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1536840" indent="-45432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pecial treatment of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</a:rPr>
              <a:t>Outline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514600"/>
            <a:ext cx="6858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story unfold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politics of polling and the politicization of poll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Lessons learnt and the way ahea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8380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Politics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76964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Politics is a process by which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collective decisions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are made within groups… Politics is also defined as “the art and science of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government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.” Harold Lasswell defined politics as “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who gets what, when, and how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----  from Wikipedia, the on-line encyclope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Opinion polling thrives in democratic societi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Opinion polling is a part of the freedom of expr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Opinion polling in the Hong Kong contex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8380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liticization" is often a negative label to mean that some people bring up certain issue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ly for political gai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e typical example – How the HK British Government handled the 1988 Direct Election issue. See “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Politics of Collating Public Opinion: Two Cases of Misrepresentation of Public Opinion in Hong Kon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”, a paper presented at the World Association for Public Opinion Research (WAPOR) 2003 Annual Conference. Available also from the HKU POP Site under “POP Colum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8380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are opinion polls “politicized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The mandate of govern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can opinion polls be “politicized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Improper use of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Use of improper “polls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can opinion polling be “de-politicized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The role of independen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The need for professional codes of practi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Respect for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imes New Roman"/>
                <a:ea typeface="新細明體"/>
              </a:rPr>
              <a:t>academic freedom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 and scientific investig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14400" y="2743200"/>
            <a:ext cx="7467480" cy="3200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De-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971800"/>
            <a:ext cx="71625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principle of “minimum disclosure” and a proposed code of professional ethics and practices for public opinion research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808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De-politicization of Polling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5000" indent="-39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Some personal eff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OP’s special service polic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POP Express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 since 1996, HKU POP Site since 20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without comments until January 200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with summary tables in PRs from July 200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with FAQs in PRs from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434960" indent="-2919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OP Column established in January 2003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Call for professional practices and coope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Call for more public and general educ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765000" indent="-3902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Defending academic freedom and our own IQ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Presenta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&amp;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today’s lecture, “hkustg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16 February 2006 (Thur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opularity of SAR and Central Governme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’s confidence in the future of Hong Kong, China and “One Country, Two Systems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rust and Confiden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9-14 Febr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On the whole, do you trust the HKSAR Governm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On the whole, do you trust the Beijing Central Governm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Do you have confidence in Hong Kong’s future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Do you have confidence in China’s futur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Do you have confidence in “One Country, Two Systems”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248520" y="316224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3733920"/>
            <a:ext cx="57150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Audio: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TP0602b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Quality control (q/c) measures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20040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POP’s Releas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438280"/>
            <a:ext cx="7619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Original POP press releases of 16 February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Chinese, 13:4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English, 13:4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Bulkfax to all media, 13:4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Bulkmail via the POP Network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90920" y="3429000"/>
            <a:ext cx="3809880" cy="2209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362320"/>
            <a:ext cx="7620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 (web pag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, 15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, 14:5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, 15:1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3:13Z</dcterms:modified>
  <cp:revision>669</cp:revision>
  <dc:subject/>
  <dc:title>無投影片標題</dc:title>
</cp:coreProperties>
</file>