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642100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42000" cy="99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87820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62000" y="0"/>
            <a:ext cx="287820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44560" y="742680"/>
            <a:ext cx="495288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85960" y="4703400"/>
            <a:ext cx="4868640" cy="44578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08960"/>
            <a:ext cx="287820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62000" y="9408960"/>
            <a:ext cx="287820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1152B6A-C7F3-47EA-BE4F-1241FA375767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body"/>
          </p:nvPr>
        </p:nvSpPr>
        <p:spPr>
          <a:xfrm>
            <a:off x="885960" y="4703400"/>
            <a:ext cx="4868640" cy="445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Jun 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3762000" y="9408960"/>
            <a:ext cx="287820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018A050-C767-4417-9642-73B52BECE04B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-360" y="9408960"/>
            <a:ext cx="287820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-360" y="0"/>
            <a:ext cx="287820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3762000" y="0"/>
            <a:ext cx="287820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885960" y="4703400"/>
            <a:ext cx="4868640" cy="446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3762000" y="9408960"/>
            <a:ext cx="287820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1420475-1800-4442-81C1-204D84F708B9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-360" y="9408960"/>
            <a:ext cx="287820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-360" y="0"/>
            <a:ext cx="287820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762000" y="0"/>
            <a:ext cx="287820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885960" y="4703400"/>
            <a:ext cx="4868640" cy="446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818B-83C1-4EF0-B1AE-5623CC60A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BE8A-DC2F-4881-9C3F-291DE6F06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0F1F-BAC9-404B-A665-80B55560E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44CA-5FD0-4E1C-AE29-E412DFCE5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61C8-A505-4308-BA40-5784DED0B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B346-8F07-4CAF-AC07-3C91FB323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5F6E-0947-4AF9-87F1-3F8DE1D7F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502A-3CB6-4089-AFCC-52F056985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F838-99D3-4E00-8E7C-D888DD6A4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7D9D-3F84-4719-A0A2-567664307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EADC-5F2C-4E08-9F5A-D4110DFD7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C80E-204E-4B7A-80DB-108C8B76D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7D422-D0F4-4326-A137-D20D224D8DC5}" type="slidenum"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hkupop.hku.hk/chinese/resources/workshops/20050721/bulkmail.htm" TargetMode="External"/><Relationship Id="rId2" Type="http://schemas.openxmlformats.org/officeDocument/2006/relationships/hyperlink" Target="http://hkupop.hku.hk/chinese/resources/workshops/20050721/bulkmail.htm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hkupop.hku.hk/chinese/resources/workshops/20050721/tp0507a_que.html" TargetMode="External"/><Relationship Id="rId2" Type="http://schemas.openxmlformats.org/officeDocument/2006/relationships/hyperlink" Target="http://hkupop.hku.hk/chinese/resources/workshops/20050721/tp0507a_admin.html" TargetMode="External"/><Relationship Id="rId3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hkupop.hku.hk/" TargetMode="External"/><Relationship Id="rId2" Type="http://schemas.openxmlformats.org/officeDocument/2006/relationships/hyperlink" Target="http://hkupop.hku.hk/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hkupop.hku.hk/" TargetMode="External"/><Relationship Id="rId2" Type="http://schemas.openxmlformats.org/officeDocument/2006/relationships/hyperlink" Target="http://hkupop.hku.hk/" TargetMode="External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297144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99"/>
                </a:solidFill>
                <a:latin typeface="Times New Roman"/>
              </a:rPr>
              <a:t>Workshop on Project Management</a:t>
            </a:r>
            <a:br>
              <a:rPr sz="2800"/>
            </a:br>
            <a:r>
              <a:rPr b="1" i="1" lang="en-US" sz="2800" spc="-1" strike="noStrike">
                <a:solidFill>
                  <a:srgbClr val="ffff99"/>
                </a:solidFill>
                <a:latin typeface="Times New Roman"/>
              </a:rPr>
              <a:t>for Correctional Services Department Officers</a:t>
            </a:r>
            <a:br>
              <a:rPr sz="2800"/>
            </a:b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21 July 2005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1295280"/>
            <a:ext cx="50292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99"/>
                </a:solidFill>
                <a:latin typeface="Times New Roman"/>
              </a:rPr>
              <a:t>The University of Hong Kong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99"/>
                </a:solidFill>
                <a:latin typeface="Times New Roman"/>
              </a:rPr>
              <a:t>Public Opinion Programm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香港大學民意研究計劃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3880" y="1143000"/>
          <a:ext cx="1536840" cy="16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143000"/>
                    <a:ext cx="153684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"/>
          <p:cNvSpPr/>
          <p:nvPr/>
        </p:nvSpPr>
        <p:spPr>
          <a:xfrm>
            <a:off x="914400" y="4952880"/>
            <a:ext cx="7543800" cy="52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2000" spc="-1" strike="noStrike">
                <a:solidFill>
                  <a:srgbClr val="ffffcc"/>
                </a:solidFill>
                <a:latin typeface="Times New Roman"/>
              </a:rPr>
              <a:t>Dr Robert CHUNG Ting-yiu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1800" spc="-1" strike="noStrike">
                <a:solidFill>
                  <a:srgbClr val="ffffcc"/>
                </a:solidFill>
                <a:latin typeface="Times New Roman"/>
              </a:rPr>
              <a:t>(Director of Public Opinion Programme)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38080" y="685800"/>
            <a:ext cx="7467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Questions on the Appraisal of Acting CE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99"/>
                </a:solidFill>
                <a:latin typeface="Times New Roman"/>
              </a:rPr>
              <a:t>( 4 - 6 July 2005 )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62120" y="2133720"/>
            <a:ext cx="77724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cc"/>
                </a:solidFill>
                <a:latin typeface="Times New Roman"/>
              </a:rPr>
              <a:t>Please use a scale of </a:t>
            </a:r>
            <a:r>
              <a:rPr b="0" lang="zh-TW" sz="2400" spc="-1" strike="noStrike" u="sng">
                <a:solidFill>
                  <a:srgbClr val="ffff99"/>
                </a:solidFill>
                <a:uFillTx/>
                <a:latin typeface="Times New Roman"/>
              </a:rPr>
              <a:t>0-100 to rate your extent of support</a:t>
            </a:r>
            <a:r>
              <a:rPr b="0" lang="zh-TW" sz="2400" spc="-1" strike="noStrike">
                <a:solidFill>
                  <a:srgbClr val="ffffcc"/>
                </a:solidFill>
                <a:latin typeface="Times New Roman"/>
              </a:rPr>
              <a:t> of Chief Secretary for Administration </a:t>
            </a:r>
            <a:r>
              <a:rPr b="0" lang="zh-TW" sz="2400" spc="-1" strike="noStrike" u="sng">
                <a:solidFill>
                  <a:srgbClr val="ffff99"/>
                </a:solidFill>
                <a:uFillTx/>
                <a:latin typeface="Times New Roman"/>
              </a:rPr>
              <a:t>Rafael Hui Si-yan</a:t>
            </a:r>
            <a:r>
              <a:rPr b="0" lang="zh-TW" sz="2400" spc="-1" strike="noStrike">
                <a:solidFill>
                  <a:srgbClr val="ffffcc"/>
                </a:solidFill>
                <a:latin typeface="Times New Roman"/>
              </a:rPr>
              <a:t>, with 0 indicating absolutely not supportive, 100 indicating absolutely supportive and 50 indicating half-half. How would you rate Chief Secretary for Administration Rafael Hui Si-yan?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cc"/>
                </a:solidFill>
                <a:latin typeface="Times New Roman"/>
              </a:rPr>
              <a:t>Please use a scale of </a:t>
            </a:r>
            <a:r>
              <a:rPr b="0" lang="zh-TW" sz="2400" spc="-1" strike="noStrike" u="sng">
                <a:solidFill>
                  <a:srgbClr val="ffff99"/>
                </a:solidFill>
                <a:uFillTx/>
                <a:latin typeface="Times New Roman"/>
              </a:rPr>
              <a:t>0-100 to rate your extent of support</a:t>
            </a:r>
            <a:r>
              <a:rPr b="0" lang="zh-TW" sz="2400" spc="-1" strike="noStrike">
                <a:solidFill>
                  <a:srgbClr val="ffffcc"/>
                </a:solidFill>
                <a:latin typeface="Times New Roman"/>
              </a:rPr>
              <a:t> of Financial Secretary </a:t>
            </a:r>
            <a:r>
              <a:rPr b="0" lang="zh-TW" sz="2400" spc="-1" strike="noStrike" u="sng">
                <a:solidFill>
                  <a:srgbClr val="ffff99"/>
                </a:solidFill>
                <a:uFillTx/>
                <a:latin typeface="Times New Roman"/>
              </a:rPr>
              <a:t>Henry Tang Ying-yen</a:t>
            </a:r>
            <a:r>
              <a:rPr b="0" lang="zh-TW" sz="2400" spc="-1" strike="noStrike">
                <a:solidFill>
                  <a:srgbClr val="ffffcc"/>
                </a:solidFill>
                <a:latin typeface="Times New Roman"/>
              </a:rPr>
              <a:t>, with 0 indicating absolutely not supportive, 100 indicating absolutely supportive and 50 indicating half-half. How would you rate Financial Secretary Henry Tang Ying-yen?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38080" y="19051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38080" y="685800"/>
            <a:ext cx="7467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Questions on the Appraisal of Acting CE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99"/>
                </a:solidFill>
                <a:latin typeface="Times New Roman"/>
              </a:rPr>
              <a:t>( 4 - 6 July 2005 )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2120" y="2133720"/>
            <a:ext cx="761976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cc"/>
                </a:solidFill>
                <a:latin typeface="Times New Roman"/>
              </a:rPr>
              <a:t>Please use a scale of </a:t>
            </a:r>
            <a:r>
              <a:rPr b="0" lang="zh-TW" sz="2400" spc="-1" strike="noStrike" u="sng">
                <a:solidFill>
                  <a:srgbClr val="ffff99"/>
                </a:solidFill>
                <a:uFillTx/>
                <a:latin typeface="Times New Roman"/>
              </a:rPr>
              <a:t>0-100 to rate your extent of support</a:t>
            </a:r>
            <a:r>
              <a:rPr b="0" lang="zh-TW" sz="2400" spc="-1" strike="noStrike">
                <a:solidFill>
                  <a:srgbClr val="ffffcc"/>
                </a:solidFill>
                <a:latin typeface="Times New Roman"/>
              </a:rPr>
              <a:t> of Secretary for </a:t>
            </a:r>
            <a:r>
              <a:rPr b="0" lang="zh-TW" sz="2400" spc="-1" strike="noStrike" u="sng">
                <a:solidFill>
                  <a:srgbClr val="ffff99"/>
                </a:solidFill>
                <a:uFillTx/>
                <a:latin typeface="Times New Roman"/>
              </a:rPr>
              <a:t>Justice Elsie Leung Oi-sie</a:t>
            </a:r>
            <a:r>
              <a:rPr b="0" lang="zh-TW" sz="2400" spc="-1" strike="noStrike">
                <a:solidFill>
                  <a:srgbClr val="ffffcc"/>
                </a:solidFill>
                <a:latin typeface="Times New Roman"/>
              </a:rPr>
              <a:t>, with 0 indicating absolutely not supportive, 100 indicating absolutely supportive and 50 indicating half-half. How would you rate Secretary for Justice Elsie Leung Oi-sie?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cc"/>
                </a:solidFill>
                <a:latin typeface="Times New Roman"/>
              </a:rPr>
              <a:t>[Similar questions for John Tsang Chun-wah, Michael Suen Ming-yeung, Arthur Li Kwok-cheung, York Chow Yat-ngok, Joseph Wong Wing-ping, Patrick Ho Chi-ping, Ambrose Lee Siu-kwong , Stephen Ip Shu-kwan, Sarah Liao Sau-tung, Frederick Ma Si-hang and Stephen Lam Sui-lung.]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38080" y="19051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9480" y="9907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Standard Demographic Question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2666880"/>
            <a:ext cx="7010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853920" indent="-285480">
              <a:lnSpc>
                <a:spcPct val="100000"/>
              </a:lnSpc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Registered voter? Any voting experience?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00000"/>
              </a:lnSpc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Gender, age, education attainment, occupatio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00000"/>
              </a:lnSpc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Housing type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00000"/>
              </a:lnSpc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Arial"/>
              </a:rPr>
              <a:t>Class status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00000"/>
              </a:lnSpc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Place of birth, years of residence in HK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2120" y="205740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143000" y="2819520"/>
            <a:ext cx="721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Managing the Media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600200" y="3276720"/>
            <a:ext cx="6324480" cy="2438280"/>
          </a:xfrm>
          <a:prstGeom prst="rect">
            <a:avLst/>
          </a:prstGeom>
          <a:solidFill>
            <a:srgbClr val="ffff99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2438280"/>
            <a:ext cx="754380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ecff"/>
                </a:solidFill>
                <a:latin typeface="Times New Roman"/>
              </a:rPr>
              <a:t>The original POP press release of 12 July 2005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64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ccecff"/>
                </a:solidFill>
                <a:latin typeface="Times New Roman"/>
              </a:rPr>
              <a:t>Press release in Chinese, 13:59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64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ccecff"/>
                </a:solidFill>
                <a:latin typeface="Times New Roman"/>
              </a:rPr>
              <a:t>Press release in English, 13:59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649"/>
              </a:spcBef>
              <a:buClr>
                <a:srgbClr val="388ec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388ec8"/>
                </a:solidFill>
                <a:latin typeface="Times New Roman"/>
              </a:rPr>
              <a:t>Bulkfax to all media, 14:08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64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 u="sng">
                <a:solidFill>
                  <a:srgbClr val="0000cc"/>
                </a:solidFill>
                <a:uFillTx/>
                <a:latin typeface="Times New Roman"/>
                <a:hlinkClick r:id="rId1"/>
              </a:rPr>
              <a:t>Bulkmail</a:t>
            </a:r>
            <a:r>
              <a:rPr b="0" lang="zh-TW" sz="2600" spc="-1" strike="noStrike" u="sng">
                <a:solidFill>
                  <a:srgbClr val="0000cc"/>
                </a:solidFill>
                <a:uFillTx/>
                <a:latin typeface="Times New Roman"/>
                <a:hlinkClick r:id="rId2"/>
              </a:rPr>
              <a:t> via the POP Network, 14:02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85800" y="198108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286000" y="3429000"/>
            <a:ext cx="4419720" cy="251460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" y="205740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85800" y="2438280"/>
            <a:ext cx="762012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ecff"/>
                </a:solidFill>
                <a:latin typeface="Times New Roman"/>
              </a:rPr>
              <a:t>Reports by the electronic media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 algn="ctr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 algn="ctr">
              <a:lnSpc>
                <a:spcPct val="150000"/>
              </a:lnSpc>
              <a:spcBef>
                <a:spcPts val="64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ccecff"/>
                </a:solidFill>
                <a:latin typeface="Times New Roman"/>
              </a:rPr>
              <a:t>Metro Radio news, 15:01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 algn="ctr">
              <a:lnSpc>
                <a:spcPct val="150000"/>
              </a:lnSpc>
              <a:spcBef>
                <a:spcPts val="64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ccecff"/>
                </a:solidFill>
                <a:latin typeface="Times New Roman"/>
              </a:rPr>
              <a:t>RTHK news, 15:01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 algn="ctr">
              <a:lnSpc>
                <a:spcPct val="150000"/>
              </a:lnSpc>
              <a:spcBef>
                <a:spcPts val="64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ccecff"/>
                </a:solidFill>
                <a:latin typeface="Times New Roman"/>
              </a:rPr>
              <a:t>Ming Pao, 15:19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523880" y="3429000"/>
            <a:ext cx="6248520" cy="281952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3352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" y="205740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2438280"/>
            <a:ext cx="762012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ecff"/>
                </a:solidFill>
                <a:latin typeface="Times New Roman"/>
              </a:rPr>
              <a:t>Reports by the electronic media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 algn="ctr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 algn="ctr">
              <a:lnSpc>
                <a:spcPct val="150000"/>
              </a:lnSpc>
              <a:spcBef>
                <a:spcPts val="64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ccecff"/>
                </a:solidFill>
                <a:latin typeface="Times New Roman"/>
              </a:rPr>
              <a:t>RTHK news, 18:00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 algn="ctr">
              <a:lnSpc>
                <a:spcPct val="150000"/>
              </a:lnSpc>
              <a:spcBef>
                <a:spcPts val="64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0000cc"/>
                </a:solidFill>
                <a:latin typeface="Times New Roman"/>
              </a:rPr>
              <a:t>CR news, 15:28 (web),</a:t>
            </a:r>
            <a:r>
              <a:rPr b="1" lang="zh-TW" sz="2600" spc="-1" strike="noStrike">
                <a:solidFill>
                  <a:srgbClr val="000066"/>
                </a:solidFill>
                <a:latin typeface="Times New Roman"/>
              </a:rPr>
              <a:t> 18</a:t>
            </a:r>
            <a:r>
              <a:rPr b="1" lang="zh-TW" sz="2600" spc="-1" strike="noStrike">
                <a:solidFill>
                  <a:srgbClr val="0000cc"/>
                </a:solidFill>
                <a:latin typeface="Times New Roman"/>
              </a:rPr>
              <a:t>:00 (audio)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 algn="ctr">
              <a:lnSpc>
                <a:spcPct val="150000"/>
              </a:lnSpc>
              <a:spcBef>
                <a:spcPts val="64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ccecff"/>
                </a:solidFill>
                <a:latin typeface="Times New Roman"/>
              </a:rPr>
              <a:t>ATV news, 18:00 </a:t>
            </a:r>
            <a:r>
              <a:rPr b="1" lang="zh-TW" sz="2600" spc="-1" strike="noStrike">
                <a:solidFill>
                  <a:srgbClr val="0000cc"/>
                </a:solidFill>
                <a:latin typeface="Times New Roman"/>
              </a:rPr>
              <a:t>(Webpage)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 algn="ctr">
              <a:lnSpc>
                <a:spcPct val="150000"/>
              </a:lnSpc>
              <a:spcBef>
                <a:spcPts val="64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ccecff"/>
                </a:solidFill>
                <a:latin typeface="Times New Roman"/>
              </a:rPr>
              <a:t>TVB news, 18:30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33520" y="2286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" y="91440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562720" y="3048120"/>
            <a:ext cx="2286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Apple Daily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13 July 2005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22" name="2a_20050713_Apple%20Daily_曾蔭權民望跌%20許仕仁逾60分" descr=""/>
          <p:cNvPicPr/>
          <p:nvPr/>
        </p:nvPicPr>
        <p:blipFill>
          <a:blip r:embed="rId1"/>
          <a:stretch/>
        </p:blipFill>
        <p:spPr>
          <a:xfrm>
            <a:off x="2133720" y="1066680"/>
            <a:ext cx="2438280" cy="563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33520" y="2286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91440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0" y="3048120"/>
            <a:ext cx="4267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ecff"/>
                </a:solidFill>
                <a:latin typeface="Times New Roman"/>
              </a:rPr>
              <a:t>Wen Wei Pao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ecff"/>
                </a:solidFill>
                <a:latin typeface="Times New Roman"/>
              </a:rPr>
              <a:t>13 July 2005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27" name="2a_20050713_Wen%20Wei%20Pao_曾蔭權支持率%20升至77%25" descr=""/>
          <p:cNvPicPr/>
          <p:nvPr/>
        </p:nvPicPr>
        <p:blipFill>
          <a:blip r:embed="rId1"/>
          <a:stretch/>
        </p:blipFill>
        <p:spPr>
          <a:xfrm>
            <a:off x="1496880" y="1295280"/>
            <a:ext cx="3075120" cy="501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057400" y="52578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Hong Kong Standard    13 July 2005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32" name="2a_20050713_HK%20Standard_Chief's%20popularity%20lifting%20his%20associates,%20says%20poll" descr=""/>
          <p:cNvPicPr/>
          <p:nvPr/>
        </p:nvPicPr>
        <p:blipFill>
          <a:blip r:embed="rId1"/>
          <a:stretch/>
        </p:blipFill>
        <p:spPr>
          <a:xfrm>
            <a:off x="380880" y="2427120"/>
            <a:ext cx="8458200" cy="212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62120" y="838080"/>
            <a:ext cx="76197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ccffff"/>
                </a:solidFill>
                <a:latin typeface="Times New Roman"/>
              </a:rPr>
              <a:t>Outline of Workshop</a:t>
            </a:r>
            <a:endParaRPr b="0" lang="en-US" sz="4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38080" y="2514600"/>
            <a:ext cx="746784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92280" indent="-6922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One case study of opinion research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692280" indent="-6922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The role of the media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692280" indent="-6922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The operation and management research project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692280" indent="-6922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Compilation of project report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692280" indent="-6922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Explanation and assignment of group project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692280" indent="-6922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Discussion sessio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62120" y="205740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33520" y="2286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91440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572000" y="3048120"/>
            <a:ext cx="4267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ecff"/>
                </a:solidFill>
                <a:latin typeface="Times New Roman"/>
              </a:rPr>
              <a:t>Ming Pao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ecff"/>
                </a:solidFill>
                <a:latin typeface="Times New Roman"/>
              </a:rPr>
              <a:t>13 July 2005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37" name="2a_20050713_Ming%20Pao_官員民望許仕仁入三甲" descr=""/>
          <p:cNvPicPr/>
          <p:nvPr/>
        </p:nvPicPr>
        <p:blipFill>
          <a:blip r:embed="rId1"/>
          <a:stretch/>
        </p:blipFill>
        <p:spPr>
          <a:xfrm>
            <a:off x="1339920" y="1066680"/>
            <a:ext cx="3187800" cy="556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057400" y="52578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Oriental Daily    13 July 2005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42" name="20050713_oriental%20daily" descr=""/>
          <p:cNvPicPr/>
          <p:nvPr/>
        </p:nvPicPr>
        <p:blipFill>
          <a:blip r:embed="rId1"/>
          <a:stretch/>
        </p:blipFill>
        <p:spPr>
          <a:xfrm>
            <a:off x="762120" y="2228760"/>
            <a:ext cx="7772400" cy="244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3520" y="2286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91440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0" y="3048120"/>
            <a:ext cx="4267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ecff"/>
                </a:solidFill>
                <a:latin typeface="Times New Roman"/>
              </a:rPr>
              <a:t>Sing Pao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ecff"/>
                </a:solidFill>
                <a:latin typeface="Times New Roman"/>
              </a:rPr>
              <a:t>13 July 2005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47" name="2a_20050713_Sing%20Pao_許仕仁初上任民望超60分" descr=""/>
          <p:cNvPicPr/>
          <p:nvPr/>
        </p:nvPicPr>
        <p:blipFill>
          <a:blip r:embed="rId1"/>
          <a:stretch/>
        </p:blipFill>
        <p:spPr>
          <a:xfrm>
            <a:off x="2057400" y="1066680"/>
            <a:ext cx="2146320" cy="563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3520" y="2286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85800" y="91440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572000" y="3048120"/>
            <a:ext cx="4267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ecff"/>
                </a:solidFill>
                <a:latin typeface="Times New Roman"/>
              </a:rPr>
              <a:t>Tai Kung Pao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ecff"/>
                </a:solidFill>
                <a:latin typeface="Times New Roman"/>
              </a:rPr>
              <a:t>13 July 2005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52" name="2a_20050713_Ta%20Kung%20Pao_許仕仁民望逾60分" descr=""/>
          <p:cNvPicPr/>
          <p:nvPr/>
        </p:nvPicPr>
        <p:blipFill>
          <a:blip r:embed="rId1"/>
          <a:stretch/>
        </p:blipFill>
        <p:spPr>
          <a:xfrm>
            <a:off x="1981080" y="1143000"/>
            <a:ext cx="2167200" cy="554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33520" y="2286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" y="91440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048120"/>
            <a:ext cx="4267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Sing Tao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13 July 2005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57" name="2a_20050713_Sing%20Tao%20Daily_許仕仁民望排第三" descr=""/>
          <p:cNvPicPr/>
          <p:nvPr/>
        </p:nvPicPr>
        <p:blipFill>
          <a:blip r:embed="rId1"/>
          <a:stretch/>
        </p:blipFill>
        <p:spPr>
          <a:xfrm>
            <a:off x="1676520" y="1066680"/>
            <a:ext cx="2666880" cy="563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33520" y="2286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85800" y="91440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572000" y="3048120"/>
            <a:ext cx="4267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Hong Kong Economic Journal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13 July 2005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62" name="2a_20050713_HK%20Economic%20Journal_許仕仁民望受惠於特首" descr=""/>
          <p:cNvPicPr/>
          <p:nvPr/>
        </p:nvPicPr>
        <p:blipFill>
          <a:blip r:embed="rId1"/>
          <a:stretch/>
        </p:blipFill>
        <p:spPr>
          <a:xfrm>
            <a:off x="1371600" y="1150920"/>
            <a:ext cx="2908440" cy="547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33520" y="2286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" y="91440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791320" y="3048120"/>
            <a:ext cx="25905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Hong Kong Economic Time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13 July 2005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67" name="20050713_hket" descr=""/>
          <p:cNvPicPr/>
          <p:nvPr/>
        </p:nvPicPr>
        <p:blipFill>
          <a:blip r:embed="rId1"/>
          <a:stretch/>
        </p:blipFill>
        <p:spPr>
          <a:xfrm>
            <a:off x="914400" y="1828800"/>
            <a:ext cx="4419720" cy="362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3352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600200" y="2514600"/>
            <a:ext cx="632448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Times New Roman"/>
              </a:rPr>
              <a:t>Characteristics of “media polls”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Agenda setting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Tend to focus on negative feelings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Sensationalism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Rich graphics to achieve visual impact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Extensive coverage for exclusive polls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198108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066680" y="2819520"/>
            <a:ext cx="721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10-minute break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990720" y="2590920"/>
            <a:ext cx="7216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The Operation of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Opinion Research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62120" y="838080"/>
            <a:ext cx="76197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ccffff"/>
                </a:solidFill>
                <a:latin typeface="Times New Roman"/>
              </a:rPr>
              <a:t>Outline of Workshop</a:t>
            </a:r>
            <a:endParaRPr b="0" lang="en-US" sz="4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38080" y="2514600"/>
            <a:ext cx="746784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92280" indent="-6922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One case study of opinion research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692280" indent="-6922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The role of the media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692280" indent="-6922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The operation and management research project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692280" indent="-6922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Compilation of project report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692280" indent="-6922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Explanation and assignment of group project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692280" indent="-6922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Discussion sessio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205740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676520" y="4648320"/>
            <a:ext cx="6476760" cy="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676520" y="3581280"/>
            <a:ext cx="6476760" cy="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6248520" y="3162240"/>
            <a:ext cx="1143000" cy="533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91440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Operation of the Surveys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62120" y="205740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791320" y="3200400"/>
            <a:ext cx="1143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2514600"/>
            <a:ext cx="769608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Demonstration of POP’s operatio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ccffff"/>
                </a:solidFill>
                <a:latin typeface="Times New Roman"/>
              </a:rPr>
              <a:t>CATI and WEBCATI </a:t>
            </a:r>
            <a:r>
              <a:rPr b="0" lang="zh-TW" sz="2400" spc="-1" strike="noStrike">
                <a:solidFill>
                  <a:srgbClr val="ccffff"/>
                </a:solidFill>
                <a:latin typeface="Times New Roman"/>
              </a:rPr>
              <a:t>(Audio: TP0507a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 u="sng">
                <a:solidFill>
                  <a:srgbClr val="ffffcc"/>
                </a:solidFill>
                <a:uFillTx/>
                <a:latin typeface="Times New Roman"/>
              </a:rPr>
              <a:t>WEBCATI input demonstration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 u="sng">
                <a:solidFill>
                  <a:srgbClr val="ffffcc"/>
                </a:solidFill>
                <a:uFillTx/>
                <a:latin typeface="Times New Roman"/>
              </a:rPr>
              <a:t>Quality control (q/c) measures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ccffff"/>
                </a:solidFill>
                <a:latin typeface="Times New Roman"/>
              </a:rPr>
              <a:t>Press release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705720" y="4572000"/>
            <a:ext cx="914400" cy="380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781680" y="3962520"/>
            <a:ext cx="914400" cy="380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33520" y="91440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Operation of the Survey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62120" y="205740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62120" y="2590920"/>
            <a:ext cx="77724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Demonstration of POP’s operatio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ccffff"/>
                </a:solidFill>
                <a:latin typeface="Times New Roman"/>
              </a:rPr>
              <a:t>CATI and WEBCATI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 u="sng">
                <a:solidFill>
                  <a:srgbClr val="ffffcc"/>
                </a:solidFill>
                <a:uFillTx/>
                <a:latin typeface="Times New Roman"/>
              </a:rPr>
              <a:t>WEBCATI input demonstration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0" lang="zh-TW" sz="2400" spc="-1" strike="noStrike">
                <a:solidFill>
                  <a:srgbClr val="ffffcc"/>
                </a:solidFill>
                <a:latin typeface="Times New Roman"/>
              </a:rPr>
              <a:t>(</a:t>
            </a:r>
            <a:r>
              <a:rPr b="0" lang="zh-TW" sz="2000" spc="-1" strike="noStrike" u="sng">
                <a:solidFill>
                  <a:srgbClr val="0000cc"/>
                </a:solidFill>
                <a:uFillTx/>
                <a:latin typeface="Times New Roman"/>
                <a:hlinkClick r:id="rId1"/>
              </a:rPr>
              <a:t>TP0507a</a:t>
            </a:r>
            <a:r>
              <a:rPr b="0" lang="zh-TW" sz="24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 u="sng">
                <a:solidFill>
                  <a:srgbClr val="ffffcc"/>
                </a:solidFill>
                <a:uFillTx/>
                <a:latin typeface="Times New Roman"/>
              </a:rPr>
              <a:t>Quality control (q/c) measures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zh-TW" sz="2400" spc="-1" strike="noStrike">
                <a:solidFill>
                  <a:srgbClr val="ffffcc"/>
                </a:solidFill>
                <a:latin typeface="Times New Roman"/>
              </a:rPr>
              <a:t>(</a:t>
            </a:r>
            <a:r>
              <a:rPr b="0" lang="zh-TW" sz="2000" spc="-1" strike="noStrike" u="sng">
                <a:solidFill>
                  <a:srgbClr val="0000cc"/>
                </a:solidFill>
                <a:uFillTx/>
                <a:latin typeface="Times New Roman"/>
                <a:hlinkClick r:id="rId2"/>
              </a:rPr>
              <a:t>TP0507a</a:t>
            </a:r>
            <a:r>
              <a:rPr b="0" lang="zh-TW" sz="24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ccffff"/>
                </a:solidFill>
                <a:latin typeface="Times New Roman"/>
              </a:rPr>
              <a:t>Press releases (to be discussed later)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3352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The Operation of Opinion Research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38080" y="1752480"/>
            <a:ext cx="739152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 algn="ctr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Times New Roman"/>
              </a:rPr>
              <a:t>Different stages in conducting an “opinion poll”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Identification of research objectives and areas of investigatio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Sampling / questionnaire desig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Fieldwork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Data analysis and cleaning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Report compilatio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Release of finding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85800" y="14479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85800" y="685800"/>
            <a:ext cx="7620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The Basics of Project Managemen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371600" y="2438280"/>
            <a:ext cx="67816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Laying down objectives and activitie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Drawing network diagram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Estimating activity duration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Control: analyze, re-plan, and update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Resources consideration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Contingency plan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2120" y="190512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ffff"/>
                </a:solidFill>
                <a:latin typeface="Times New Roman"/>
              </a:rPr>
              <a:t>A Sample Project Schedule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066680" y="4038480"/>
            <a:ext cx="7391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Jan 26:  Briefing and orientation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Phase 1:  Literature review; initial design of the study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March 13-19:  Finalizing research strategy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Phase 2:  Fieldwork and confronting practical problem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Phase 3:  Data analysis and report compilation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May 3:  Final touch-up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991080" y="2209680"/>
            <a:ext cx="7085520" cy="1573200"/>
            <a:chOff x="991080" y="2209680"/>
            <a:chExt cx="7085520" cy="1573200"/>
          </a:xfrm>
        </p:grpSpPr>
        <p:grpSp>
          <p:nvGrpSpPr>
            <p:cNvPr id="196" name=""/>
            <p:cNvGrpSpPr/>
            <p:nvPr/>
          </p:nvGrpSpPr>
          <p:grpSpPr>
            <a:xfrm>
              <a:off x="991080" y="3120120"/>
              <a:ext cx="7085520" cy="662760"/>
              <a:chOff x="991080" y="3120120"/>
              <a:chExt cx="7085520" cy="662760"/>
            </a:xfrm>
          </p:grpSpPr>
          <p:sp>
            <p:nvSpPr>
              <p:cNvPr id="197" name=""/>
              <p:cNvSpPr/>
              <p:nvPr/>
            </p:nvSpPr>
            <p:spPr>
              <a:xfrm>
                <a:off x="1073520" y="3120120"/>
                <a:ext cx="7003080" cy="483840"/>
              </a:xfrm>
              <a:prstGeom prst="rightArrow">
                <a:avLst>
                  <a:gd name="adj1" fmla="val 36602"/>
                  <a:gd name="adj2" fmla="val 59504"/>
                </a:avLst>
              </a:prstGeom>
              <a:gradFill rotWithShape="0">
                <a:gsLst>
                  <a:gs pos="0">
                    <a:srgbClr val="9999ff"/>
                  </a:gs>
                  <a:gs pos="100000">
                    <a:srgbClr val="cc99ff"/>
                  </a:gs>
                </a:gsLst>
                <a:lin ang="10800000"/>
              </a:gradFill>
              <a:ln w="0">
                <a:noFill/>
              </a:ln>
              <a:effectLst>
                <a:outerShdw dist="17819" dir="2700000" blurRad="0" rotWithShape="0">
                  <a:srgbClr val="795b9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991080" y="347400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ccecff"/>
                    </a:solidFill>
                    <a:latin typeface="Arial"/>
                    <a:ea typeface="Arial_Unicode_MS"/>
                  </a:rPr>
                  <a:t>2/2</a:t>
                </a:r>
                <a:endParaRPr b="0" lang="en-US" sz="1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1567080" y="347400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ccecff"/>
                    </a:solidFill>
                    <a:latin typeface="Arial"/>
                    <a:ea typeface="Arial_Unicode_MS"/>
                  </a:rPr>
                  <a:t>16/2</a:t>
                </a:r>
                <a:endParaRPr b="0" lang="en-US" sz="1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2180160" y="347400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ccecff"/>
                    </a:solidFill>
                    <a:latin typeface="Arial"/>
                    <a:ea typeface="Arial_Unicode_MS"/>
                  </a:rPr>
                  <a:t>23/2</a:t>
                </a:r>
                <a:endParaRPr b="0" lang="en-US" sz="1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2832120" y="347400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ccecff"/>
                    </a:solidFill>
                    <a:latin typeface="Arial"/>
                    <a:ea typeface="Arial_Unicode_MS"/>
                  </a:rPr>
                  <a:t>1/3</a:t>
                </a:r>
                <a:endParaRPr b="0" lang="en-US" sz="1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3457440" y="347400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ccecff"/>
                    </a:solidFill>
                    <a:latin typeface="Arial"/>
                    <a:ea typeface="Arial_Unicode_MS"/>
                  </a:rPr>
                  <a:t>8/3</a:t>
                </a:r>
                <a:endParaRPr b="0" lang="en-US" sz="1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146120" y="347400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ccecff"/>
                    </a:solidFill>
                    <a:latin typeface="Arial"/>
                    <a:ea typeface="Arial_Unicode_MS"/>
                  </a:rPr>
                  <a:t>22/3</a:t>
                </a:r>
                <a:endParaRPr b="0" lang="en-US" sz="1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4735080" y="347400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ccecff"/>
                    </a:solidFill>
                    <a:latin typeface="Arial"/>
                    <a:ea typeface="Arial_Unicode_MS"/>
                  </a:rPr>
                  <a:t>29/3</a:t>
                </a:r>
                <a:endParaRPr b="0" lang="en-US" sz="1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386680" y="347400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ccecff"/>
                    </a:solidFill>
                    <a:latin typeface="Arial"/>
                    <a:ea typeface="Arial_Unicode_MS"/>
                  </a:rPr>
                  <a:t>5/4</a:t>
                </a:r>
                <a:endParaRPr b="0" lang="en-US" sz="1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5999400" y="347400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ccecff"/>
                    </a:solidFill>
                    <a:latin typeface="Arial"/>
                    <a:ea typeface="Arial_Unicode_MS"/>
                  </a:rPr>
                  <a:t>12/4</a:t>
                </a:r>
                <a:endParaRPr b="0" lang="en-US" sz="1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6600600" y="347400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ccecff"/>
                    </a:solidFill>
                    <a:latin typeface="Arial"/>
                    <a:ea typeface="Arial_Unicode_MS"/>
                  </a:rPr>
                  <a:t>19/4</a:t>
                </a:r>
                <a:endParaRPr b="0" lang="en-US" sz="1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7264080" y="347580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ccecff"/>
                    </a:solidFill>
                    <a:latin typeface="Arial"/>
                    <a:ea typeface="Arial_Unicode_MS"/>
                  </a:rPr>
                  <a:t>26/5</a:t>
                </a:r>
                <a:endParaRPr b="0" lang="en-US" sz="1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1157040" y="2209680"/>
              <a:ext cx="2667600" cy="151920"/>
            </a:xfrm>
            <a:prstGeom prst="flowChartProcess">
              <a:avLst/>
            </a:prstGeom>
            <a:solidFill>
              <a:srgbClr val="cc99ff"/>
            </a:solidFill>
            <a:ln w="0">
              <a:noFill/>
            </a:ln>
            <a:effectLst>
              <a:outerShdw dist="17819" dir="2700000" blurRad="0" rotWithShape="0">
                <a:srgbClr val="795b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ccecff"/>
                  </a:solidFill>
                  <a:latin typeface="Arial"/>
                </a:rPr>
                <a:t>Phase 1</a:t>
              </a:r>
              <a:endParaRPr b="0" lang="en-US" sz="1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825000" y="2513160"/>
              <a:ext cx="2084400" cy="151560"/>
            </a:xfrm>
            <a:prstGeom prst="flowChartProcess">
              <a:avLst/>
            </a:prstGeom>
            <a:solidFill>
              <a:srgbClr val="cc99ff"/>
            </a:solidFill>
            <a:ln w="0">
              <a:noFill/>
            </a:ln>
            <a:effectLst>
              <a:outerShdw dist="17819" dir="2700000" blurRad="0" rotWithShape="0">
                <a:srgbClr val="795b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ccecff"/>
                  </a:solidFill>
                  <a:latin typeface="Arial"/>
                </a:rPr>
                <a:t>Phase 2</a:t>
              </a:r>
              <a:endParaRPr b="0" lang="en-US" sz="1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909400" y="2817000"/>
              <a:ext cx="1834200" cy="151560"/>
            </a:xfrm>
            <a:prstGeom prst="flowChartProcess">
              <a:avLst/>
            </a:prstGeom>
            <a:solidFill>
              <a:srgbClr val="cc99ff"/>
            </a:solidFill>
            <a:ln w="0">
              <a:noFill/>
            </a:ln>
            <a:effectLst>
              <a:outerShdw dist="17819" dir="2700000" blurRad="0" rotWithShape="0">
                <a:srgbClr val="795b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ccecff"/>
                  </a:solidFill>
                  <a:latin typeface="Arial"/>
                </a:rPr>
                <a:t>Phase 3</a:t>
              </a:r>
              <a:endParaRPr b="0" lang="en-US" sz="1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762120" y="167652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Times New Roman"/>
              </a:rPr>
              <a:t>Background Readings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43000" y="2590560"/>
            <a:ext cx="73152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Zimmerman, D.E. and Muraski, M.L. (1995). The Elements of Information Gathering. Arizona: Oryx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ff"/>
                </a:solidFill>
                <a:latin typeface="Times New Roman"/>
              </a:rPr>
              <a:t>Babbie, E.R. (1990)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. Survey Research Methods, 2</a:t>
            </a:r>
            <a:r>
              <a:rPr b="1" lang="en-GB" sz="2800" spc="-1" strike="noStrike" baseline="30000">
                <a:solidFill>
                  <a:srgbClr val="ffffff"/>
                </a:solidFill>
                <a:latin typeface="Times New Roman"/>
              </a:rPr>
              <a:t>nd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ed. California: Wadsworth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HKU POP Site at </a:t>
            </a:r>
            <a:r>
              <a:rPr b="0" lang="en-GB" sz="2800" spc="-1" strike="noStrike" u="sng">
                <a:solidFill>
                  <a:srgbClr val="ffffcc"/>
                </a:solidFill>
                <a:uFillTx/>
                <a:latin typeface="Times New Roman"/>
                <a:hlinkClick r:id="rId1"/>
              </a:rPr>
              <a:t>http:/</a:t>
            </a:r>
            <a:r>
              <a:rPr b="0" lang="en-GB" sz="2800" spc="-1" strike="noStrike" u="sng">
                <a:solidFill>
                  <a:srgbClr val="ffffcc"/>
                </a:solidFill>
                <a:uFillTx/>
                <a:latin typeface="Times New Roman"/>
                <a:hlinkClick r:id="rId2"/>
              </a:rPr>
              <a:t>/hkupop.hku.hk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62120" y="1981080"/>
            <a:ext cx="76197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Different Parts of a Research Proposal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447920" y="2133360"/>
            <a:ext cx="68580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Introduction/preamble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Literature review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Research design or methodology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Questionnaire (if applicable)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Project schedule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Budget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Research team member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62120" y="198108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Approaching a Research Problem…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42640" y="2514240"/>
            <a:ext cx="71629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What is the research problem? How wide? How deep?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What is the desired method of data collection?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When must it be finished?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How should the finding be presented?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What is the academic/intellectual value of the study? What further questions have been generated?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62120" y="198108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Different Methods of Data Collection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47920" y="2437920"/>
            <a:ext cx="68580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Interviews: face-to-face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Observation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Case studie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Focus group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Questionnaire survey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Electronic resource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Library resource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62120" y="198108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ifferent Parts of a Study Report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447920" y="2514240"/>
            <a:ext cx="6858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Executive summary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Introduction/preambl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Research design or methodology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Research finding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Conclusions with or without recommendation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The questionnaire (in appendix, if applicable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Other documents (in appendix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Research team members (in appendix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62120" y="198108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838080"/>
            <a:ext cx="7620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Times New Roman"/>
              </a:rPr>
              <a:t>Opening Remarks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90720" y="2590920"/>
            <a:ext cx="73152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ffff"/>
                </a:solidFill>
                <a:latin typeface="Times New Roman"/>
              </a:rPr>
              <a:t>Features of this course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ffff"/>
                </a:solidFill>
                <a:latin typeface="Times New Roman"/>
              </a:rPr>
              <a:t>All course material placed on-lin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ffff"/>
                </a:solidFill>
                <a:latin typeface="Times New Roman"/>
              </a:rPr>
              <a:t>Communication with lecturer and instructors any tim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ffff"/>
                </a:solidFill>
                <a:latin typeface="Times New Roman"/>
              </a:rPr>
              <a:t>On-line forum to promote open discussion among participant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ffff"/>
                </a:solidFill>
                <a:latin typeface="Times New Roman"/>
              </a:rPr>
              <a:t>Build-in course evaluation to facilitate future planning, as well as actual example of opinion survey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62120" y="213372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066680" y="2819520"/>
            <a:ext cx="721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10-minute break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990720" y="2590920"/>
            <a:ext cx="7216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Group Projects and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Individual Assignments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imelines for Group Projects (again)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21 July 2005, afternoon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Division of labour among group members fixed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23 July 2005, by 2359 the latest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On-line completion of workshop evaluation questionnaire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99"/>
                </a:solidFill>
                <a:latin typeface="Times New Roman"/>
              </a:rPr>
              <a:t>1 August 2005, by 2359 - </a:t>
            </a:r>
            <a:r>
              <a:rPr b="1" lang="zh-TW" sz="2000" spc="-1" strike="noStrike" u="sng">
                <a:solidFill>
                  <a:srgbClr val="ffff99"/>
                </a:solidFill>
                <a:uFillTx/>
                <a:latin typeface="Times New Roman"/>
              </a:rPr>
              <a:t>Submission of first assignments</a:t>
            </a:r>
            <a:r>
              <a:rPr b="1" lang="zh-TW" sz="2000" spc="-1" strike="noStrike">
                <a:solidFill>
                  <a:srgbClr val="ffff99"/>
                </a:solidFill>
                <a:latin typeface="Times New Roman"/>
              </a:rPr>
              <a:t> on-line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11 August 2005 - First assignments marked and returned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99"/>
                </a:solidFill>
                <a:latin typeface="Times New Roman"/>
              </a:rPr>
              <a:t>1 September 2005 - </a:t>
            </a:r>
            <a:r>
              <a:rPr b="1" lang="zh-TW" sz="2000" spc="-1" strike="noStrike" u="sng">
                <a:solidFill>
                  <a:srgbClr val="ffff99"/>
                </a:solidFill>
                <a:uFillTx/>
                <a:latin typeface="Times New Roman"/>
              </a:rPr>
              <a:t>Submission of group project</a:t>
            </a:r>
            <a:r>
              <a:rPr b="1" lang="zh-TW" sz="2000" spc="-1" strike="noStrike">
                <a:solidFill>
                  <a:srgbClr val="ffff99"/>
                </a:solidFill>
                <a:latin typeface="Times New Roman"/>
              </a:rPr>
              <a:t> to CSD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000" spc="-1" strike="noStrike">
                <a:solidFill>
                  <a:srgbClr val="ccecff"/>
                </a:solidFill>
                <a:latin typeface="Times New Roman"/>
              </a:rPr>
              <a:t>	</a:t>
            </a: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3 – 9 September 2005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On-line completion of programme evaluation questionnaire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152388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opics for Group Projects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Times New Roman"/>
                <a:ea typeface=""/>
              </a:rPr>
              <a:t>(1)  Plan and conduct a study on Hong Kong people’s reaction to Hong Kong stag the 2008 Olympic Equestrian Events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Give a background of the event.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What was the public’s initial reaction?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Who were the  opinion leaders?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What was the government’s role?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Do people support the government? How do you know?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How would you collect data for your study?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How would you distinguish between facts and opinion?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What is the importance of this study?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What are the limitations of your study?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Are you going to make some policy recommendation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38080" y="152388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opics for Group Projects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"/>
              </a:rPr>
              <a:t>(2)  Plan and conduct a study on Hong Kong people’s reaction to Donald Tsang’s being elected the Chief Executive of the HKSAR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How would you measure people’s support of the CE candidates? How many ways are there?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What was the public’s reaction before, during and after the election?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How would you collect your data?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How would you distinguish between facts and opinion?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How has the media influence public opinion?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What is the importance of this study?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What are the limitations of your study?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838080" y="152388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opics for Group Projects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7720" y="1828440"/>
            <a:ext cx="76964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Times New Roman"/>
                <a:ea typeface=""/>
              </a:rPr>
              <a:t>(3) Plan and conduct a study on Hong Kong people’s reaction to Ma Ying-jeou’s being elected Chairman of Kuomintang in Taiwan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Give a background of the event.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Why should we be interested in studying this election?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What was the reaction of the Hong Kong public?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What was the reaction of Hong Kong’s opinion leaders?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How would you collect data for your study? How would you distinguish between facts and opinion?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What are the limitations of your study?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What lessons does Hong Kong learn from this election?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838080" y="152388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990720" y="2590920"/>
            <a:ext cx="7216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Questions and Answers for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Projects and Assignments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914400" y="2514600"/>
            <a:ext cx="753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Some References for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Further Studies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33520" y="4572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On-line Resource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120" y="1447920"/>
            <a:ext cx="754380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4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ccecff"/>
                </a:solidFill>
                <a:latin typeface="Times New Roman"/>
              </a:rPr>
              <a:t>Workshop teaching aid: </a:t>
            </a:r>
            <a:r>
              <a:rPr b="0" lang="zh-TW" sz="2000" spc="-1" strike="noStrike" u="sng">
                <a:solidFill>
                  <a:srgbClr val="ccecff"/>
                </a:solidFill>
                <a:uFillTx/>
                <a:latin typeface="Times New Roman"/>
              </a:rPr>
              <a:t>Findings of the MRSHK pilot study of August 2002</a:t>
            </a:r>
            <a:r>
              <a:rPr b="0" lang="zh-TW" sz="2000" spc="-1" strike="noStrike">
                <a:solidFill>
                  <a:srgbClr val="ccecff"/>
                </a:solidFill>
                <a:latin typeface="Times New Roman"/>
              </a:rPr>
              <a:t> at </a:t>
            </a:r>
            <a:r>
              <a:rPr b="0" i="1" lang="zh-TW" sz="2000" spc="-1" strike="noStrike">
                <a:solidFill>
                  <a:srgbClr val="ffff99"/>
                </a:solidFill>
                <a:latin typeface="Times New Roman"/>
              </a:rPr>
              <a:t>http://hkupop.hku.hk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4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ccecff"/>
                </a:solidFill>
                <a:latin typeface="Times New Roman"/>
              </a:rPr>
              <a:t>Workshop teaching aid: </a:t>
            </a:r>
            <a:r>
              <a:rPr b="0" lang="zh-TW" sz="2000" spc="-1" strike="noStrike" u="sng">
                <a:solidFill>
                  <a:srgbClr val="ccecff"/>
                </a:solidFill>
                <a:uFillTx/>
                <a:latin typeface="Times New Roman"/>
              </a:rPr>
              <a:t>Proposed Code of Professional Ethics and Practices for Public Opinion Research in Hong Kong</a:t>
            </a:r>
            <a:r>
              <a:rPr b="0" lang="zh-TW" sz="2000" spc="-1" strike="noStrike">
                <a:solidFill>
                  <a:srgbClr val="ccecff"/>
                </a:solidFill>
                <a:latin typeface="Times New Roman"/>
              </a:rPr>
              <a:t> at </a:t>
            </a:r>
            <a:r>
              <a:rPr b="0" i="1" lang="zh-TW" sz="2000" spc="-1" strike="noStrike">
                <a:solidFill>
                  <a:srgbClr val="ffff99"/>
                </a:solidFill>
                <a:latin typeface="Times New Roman"/>
              </a:rPr>
              <a:t>http://hkupop.hku.hk</a:t>
            </a:r>
            <a:r>
              <a:rPr b="0" lang="zh-TW" sz="2000" spc="-1" strike="noStrike">
                <a:solidFill>
                  <a:srgbClr val="ccecff"/>
                </a:solidFill>
                <a:latin typeface="Times New Roman"/>
              </a:rPr>
              <a:t>at </a:t>
            </a:r>
            <a:r>
              <a:rPr b="0" i="1" lang="zh-TW" sz="2000" spc="-1" strike="noStrike">
                <a:solidFill>
                  <a:srgbClr val="ffff99"/>
                </a:solidFill>
                <a:latin typeface="Times New Roman"/>
              </a:rPr>
              <a:t>http://hkupop.hku.hk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4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ccecff"/>
                </a:solidFill>
                <a:latin typeface="Times New Roman"/>
              </a:rPr>
              <a:t>WAPOR website at </a:t>
            </a:r>
            <a:r>
              <a:rPr b="0" i="1" lang="zh-TW" sz="2000" spc="-1" strike="noStrike">
                <a:solidFill>
                  <a:srgbClr val="ffff99"/>
                </a:solidFill>
                <a:latin typeface="Times New Roman"/>
              </a:rPr>
              <a:t>http://www.unl.edu/wapor</a:t>
            </a:r>
            <a:r>
              <a:rPr b="0" lang="zh-TW" sz="2000" spc="-1" strike="noStrike">
                <a:solidFill>
                  <a:srgbClr val="cce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4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ccecff"/>
                </a:solidFill>
                <a:latin typeface="Times New Roman"/>
              </a:rPr>
              <a:t>AAPOR website at </a:t>
            </a:r>
            <a:r>
              <a:rPr b="0" i="1" lang="zh-TW" sz="2000" spc="-1" strike="noStrike">
                <a:solidFill>
                  <a:srgbClr val="ffff99"/>
                </a:solidFill>
                <a:latin typeface="Times New Roman"/>
              </a:rPr>
              <a:t>http://www.aapor.org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4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ccecff"/>
                </a:solidFill>
                <a:latin typeface="Times New Roman"/>
              </a:rPr>
              <a:t>ESOMAR (World Association of Research Professionals) website at </a:t>
            </a:r>
            <a:r>
              <a:rPr b="0" i="1" lang="zh-TW" sz="2000" spc="-1" strike="noStrike">
                <a:solidFill>
                  <a:srgbClr val="ffff99"/>
                </a:solidFill>
                <a:latin typeface="Times New Roman"/>
              </a:rPr>
              <a:t>http://www.esomar.org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4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ccecff"/>
                </a:solidFill>
                <a:latin typeface="Times New Roman"/>
              </a:rPr>
              <a:t>NCPP website at </a:t>
            </a:r>
            <a:r>
              <a:rPr b="0" i="1" lang="zh-TW" sz="2000" spc="-1" strike="noStrike">
                <a:solidFill>
                  <a:srgbClr val="ffff99"/>
                </a:solidFill>
                <a:latin typeface="Times New Roman"/>
              </a:rPr>
              <a:t>http://www.ncpp.org </a:t>
            </a:r>
            <a:r>
              <a:rPr b="0" lang="zh-TW" sz="2000" spc="-1" strike="noStrike">
                <a:solidFill>
                  <a:srgbClr val="ccecff"/>
                </a:solidFill>
                <a:latin typeface="Times New Roman"/>
              </a:rPr>
              <a:t>(National Council on Public Polls of USA)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4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ccecff"/>
                </a:solidFill>
                <a:latin typeface="Times New Roman"/>
              </a:rPr>
              <a:t>Gallup polls at </a:t>
            </a:r>
            <a:r>
              <a:rPr b="0" i="1" lang="zh-TW" sz="2000" spc="-1" strike="noStrike">
                <a:solidFill>
                  <a:srgbClr val="ffff99"/>
                </a:solidFill>
                <a:latin typeface="Times New Roman"/>
              </a:rPr>
              <a:t>http://gallup.com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62120" y="121932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838080" y="2362320"/>
            <a:ext cx="73915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Times New Roman"/>
              </a:rPr>
              <a:t>Thank you very much!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85800" y="21337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62120" y="441972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133720" y="3429000"/>
            <a:ext cx="502920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838080"/>
            <a:ext cx="7620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Times New Roman"/>
              </a:rPr>
              <a:t>Opening Remarks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143000" y="2514600"/>
            <a:ext cx="68580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 algn="ctr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ccffff"/>
                </a:solidFill>
                <a:latin typeface="Times New Roman"/>
              </a:rPr>
              <a:t>Make use of the HKU POP Site –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0" lang="zh-TW" sz="3600" spc="-1" strike="noStrike" u="sng">
                <a:solidFill>
                  <a:srgbClr val="0000cc"/>
                </a:solidFill>
                <a:uFillTx/>
                <a:latin typeface="Times New Roman"/>
                <a:hlinkClick r:id="rId1"/>
              </a:rPr>
              <a:t>http:/</a:t>
            </a:r>
            <a:r>
              <a:rPr b="0" lang="zh-TW" sz="3600" spc="-1" strike="noStrike" u="sng">
                <a:solidFill>
                  <a:srgbClr val="0000cc"/>
                </a:solidFill>
                <a:uFillTx/>
                <a:latin typeface="Times New Roman"/>
                <a:hlinkClick r:id="rId2"/>
              </a:rPr>
              <a:t>/hkupop.hku.hk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POP Resources </a:t>
            </a:r>
            <a:r>
              <a:rPr b="1" lang="zh-TW" sz="2800" spc="-1" strike="noStrike">
                <a:solidFill>
                  <a:srgbClr val="ccffff"/>
                </a:solidFill>
                <a:latin typeface="Wingdings"/>
                <a:ea typeface="Wingdings"/>
              </a:rPr>
              <a:t>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 Public Opinion Lectures and Workshop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[ today’s workshop, “july05”]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13372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09480" y="457200"/>
            <a:ext cx="7620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Times New Roman"/>
              </a:rPr>
              <a:t>Opening Remarks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2120" y="1600200"/>
            <a:ext cx="75438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ffff"/>
                </a:solidFill>
                <a:latin typeface="Times New Roman"/>
              </a:rPr>
              <a:t>A quick look at the assignment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 u="sng">
                <a:solidFill>
                  <a:srgbClr val="ffff99"/>
                </a:solidFill>
                <a:uFillTx/>
                <a:latin typeface="Times New Roman"/>
              </a:rPr>
              <a:t>The Timeline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ccffff"/>
                </a:solidFill>
                <a:latin typeface="Times New Roman"/>
              </a:rPr>
              <a:t>21 July 2005, during workshop – Formation of project group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ccffff"/>
                </a:solidFill>
                <a:latin typeface="Times New Roman"/>
              </a:rPr>
              <a:t>21 July 2005, afternoon - Division of labour among group member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ccffff"/>
                </a:solidFill>
                <a:latin typeface="Times New Roman"/>
              </a:rPr>
              <a:t>23 July 2005, 2359 the latest - On-line completion of workshop evaluation questionnaire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 u="sng">
                <a:solidFill>
                  <a:srgbClr val="ffff99"/>
                </a:solidFill>
                <a:uFillTx/>
                <a:latin typeface="Times New Roman"/>
              </a:rPr>
              <a:t>1 August 2005</a:t>
            </a:r>
            <a:r>
              <a:rPr b="0" lang="zh-TW" sz="2000" spc="-1" strike="noStrike">
                <a:solidFill>
                  <a:srgbClr val="ccffff"/>
                </a:solidFill>
                <a:latin typeface="Times New Roman"/>
              </a:rPr>
              <a:t>, 2359 the latest - Submission of first assignments on-line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ccffff"/>
                </a:solidFill>
                <a:latin typeface="Times New Roman"/>
              </a:rPr>
              <a:t>11 August 2005 - First assignments marked and returned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 u="sng">
                <a:solidFill>
                  <a:srgbClr val="ffff99"/>
                </a:solidFill>
                <a:uFillTx/>
                <a:latin typeface="Times New Roman"/>
              </a:rPr>
              <a:t>1 September 2005</a:t>
            </a:r>
            <a:r>
              <a:rPr b="0" lang="zh-TW" sz="2000" spc="-1" strike="noStrike">
                <a:solidFill>
                  <a:srgbClr val="ccffff"/>
                </a:solidFill>
                <a:latin typeface="Times New Roman"/>
              </a:rPr>
              <a:t> - Submission of group project to CSD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ccffff"/>
                </a:solidFill>
                <a:latin typeface="Times New Roman"/>
              </a:rPr>
              <a:t>3-9 September 2005 - On-line completion of programme evaluation questionnaire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62120" y="137160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09480" y="457200"/>
            <a:ext cx="7620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Times New Roman"/>
              </a:rPr>
              <a:t>Opening Remarks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62120" y="1600200"/>
            <a:ext cx="769608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ffff"/>
                </a:solidFill>
                <a:latin typeface="Times New Roman"/>
              </a:rPr>
              <a:t>A quick look at the assignment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 u="sng">
                <a:solidFill>
                  <a:srgbClr val="ffff99"/>
                </a:solidFill>
                <a:uFillTx/>
                <a:latin typeface="Times New Roman"/>
              </a:rPr>
              <a:t>Topics for Group Project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ffff"/>
                </a:solidFill>
                <a:latin typeface="Times New Roman"/>
              </a:rPr>
              <a:t>(1) Plan and conduct a study on Hong Kong people’s reaction to Hong Kong stag the 2008 </a:t>
            </a:r>
            <a:r>
              <a:rPr b="0" lang="zh-TW" sz="2400" spc="-1" strike="noStrike">
                <a:solidFill>
                  <a:srgbClr val="ffff99"/>
                </a:solidFill>
                <a:latin typeface="Times New Roman"/>
              </a:rPr>
              <a:t>Olympic Equestrian Events</a:t>
            </a:r>
            <a:r>
              <a:rPr b="0" lang="zh-TW" sz="2400" spc="-1" strike="noStrike">
                <a:solidFill>
                  <a:srgbClr val="cc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ffff"/>
                </a:solidFill>
                <a:latin typeface="Times New Roman"/>
              </a:rPr>
              <a:t>(2) Plan and conduct a study on Hong Kong people’s reaction to </a:t>
            </a:r>
            <a:r>
              <a:rPr b="0" lang="zh-TW" sz="2400" spc="-1" strike="noStrike">
                <a:solidFill>
                  <a:srgbClr val="ffff99"/>
                </a:solidFill>
                <a:latin typeface="Times New Roman"/>
              </a:rPr>
              <a:t>Donald Tsang</a:t>
            </a:r>
            <a:r>
              <a:rPr b="0" lang="zh-TW" sz="2400" spc="-1" strike="noStrike">
                <a:solidFill>
                  <a:srgbClr val="ccffff"/>
                </a:solidFill>
                <a:latin typeface="Times New Roman"/>
              </a:rPr>
              <a:t>’s being elected the Chief Executive of the HKSAR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ffff"/>
                </a:solidFill>
                <a:latin typeface="Times New Roman"/>
              </a:rPr>
              <a:t>(3) Plan and conduct a study on Hong Kong people’s reaction to </a:t>
            </a:r>
            <a:r>
              <a:rPr b="0" lang="zh-TW" sz="2400" spc="-1" strike="noStrike">
                <a:solidFill>
                  <a:srgbClr val="ffff99"/>
                </a:solidFill>
                <a:latin typeface="Times New Roman"/>
              </a:rPr>
              <a:t>Ma Ying-jeou</a:t>
            </a:r>
            <a:r>
              <a:rPr b="0" lang="zh-TW" sz="2400" spc="-1" strike="noStrike">
                <a:solidFill>
                  <a:srgbClr val="ccffff"/>
                </a:solidFill>
                <a:latin typeface="Times New Roman"/>
              </a:rPr>
              <a:t>’s being elected Chairman of Kuomintang in Taiwan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62120" y="137160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33520" y="8380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A Case Study…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143000" y="2590920"/>
            <a:ext cx="701028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POP release of 12 July 2005 (Tuesday)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50000"/>
              </a:lnSpc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  <a:ea typeface="新細明體"/>
              </a:rPr>
              <a:t>Latest popularity figures of CE Donald Tsang and the Principal Official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50000"/>
              </a:lnSpc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  <a:ea typeface="新細明體"/>
              </a:rPr>
              <a:t>16  key opinion questions + a standard set of demographic question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62120" y="220968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685800"/>
            <a:ext cx="7467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Questions on the Appraisal of Acting CE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99"/>
                </a:solidFill>
                <a:latin typeface="Times New Roman"/>
              </a:rPr>
              <a:t>( 4 - 6 July 2005 )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62120" y="2286000"/>
            <a:ext cx="76197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cc"/>
                </a:solidFill>
                <a:latin typeface="Times New Roman"/>
              </a:rPr>
              <a:t>Please use a scale of </a:t>
            </a:r>
            <a:r>
              <a:rPr b="0" lang="zh-TW" sz="2400" spc="-1" strike="noStrike" u="sng">
                <a:solidFill>
                  <a:srgbClr val="ffff99"/>
                </a:solidFill>
                <a:uFillTx/>
                <a:latin typeface="Times New Roman"/>
              </a:rPr>
              <a:t>0-100 to rate your extent of support</a:t>
            </a:r>
            <a:r>
              <a:rPr b="0" lang="zh-TW" sz="2400" spc="-1" strike="noStrike">
                <a:solidFill>
                  <a:srgbClr val="ffffcc"/>
                </a:solidFill>
                <a:latin typeface="Times New Roman"/>
              </a:rPr>
              <a:t> of Chief Executive Donald Tsang Yam-kuen, with 0 indicating absolutely not supportive, 100 indicating absolutely supportive and 50 indicating half-half.  How would you rate Chief Executive Donald Tsang Yam-kuen?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cc"/>
                </a:solidFill>
                <a:latin typeface="Times New Roman"/>
              </a:rPr>
              <a:t>If a general election of the Chief Executive were to be held tomorrow, and you had the right to vote, </a:t>
            </a:r>
            <a:r>
              <a:rPr b="0" lang="zh-TW" sz="2400" spc="-1" strike="noStrike" u="sng">
                <a:solidFill>
                  <a:srgbClr val="ffff99"/>
                </a:solidFill>
                <a:uFillTx/>
                <a:latin typeface="Times New Roman"/>
              </a:rPr>
              <a:t>would you vote for Donald Tsang Yam-kuen</a:t>
            </a:r>
            <a:r>
              <a:rPr b="0" lang="zh-TW" sz="2400" spc="-1" strike="noStrike">
                <a:solidFill>
                  <a:srgbClr val="ffffcc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38080" y="19051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4T10:00:10Z</dcterms:created>
  <dc:creator>lee</dc:creator>
  <dc:description/>
  <dc:language>en-US</dc:language>
  <cp:lastModifiedBy>HKUPOP</cp:lastModifiedBy>
  <cp:lastPrinted>2001-04-04T10:00:24Z</cp:lastPrinted>
  <dcterms:modified xsi:type="dcterms:W3CDTF">2006-03-31T02:25:06Z</dcterms:modified>
  <cp:revision>633</cp:revision>
  <dc:subject/>
  <dc:title>無投影片標題</dc:title>
</cp:coreProperties>
</file>