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4ACA4D-CE87-4692-858A-FE4873DD0BC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F123AB-93CC-456E-A311-1A2731D5F5D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268EF5-40FF-4C0B-BE01-0A0C531DBB7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B0B3DF-C8DF-490F-A9AD-618F80A4476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1BB-165D-4119-A618-4B63934E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EB3-FFFC-4F37-A39C-4B739FEF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1C1-561C-409F-BAAA-863DE24F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5E9-2C00-453F-8D9F-EF4E619A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069-E2A8-407D-BE6B-47954F83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75F-EADA-409A-AF25-DF393F70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43A-95AD-47E7-8092-BD94C094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48B-C8B5-4F32-B93F-1DEEFDC5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E2F-FD54-486C-8A26-7A3A86C6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F5E-BF6C-4FDF-9F1B-BBBAA7C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AA6-A1F4-423E-B1EB-2F7D9306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F7B-5CD4-4A59-9ECD-1462B9BD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D5D-F2C4-4ED7-8392-EE18B34992B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621/20050531_pr_chi.htm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RESARCH WORKSHOP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調研工作坊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876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22/6/2005, 1830-21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1460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91440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Lee Shiu Socio-Economic Study Project 2005</a:t>
            </a:r>
            <a:r>
              <a:rPr b="0" lang="zh-TW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ccecff"/>
                </a:solidFill>
                <a:latin typeface="MingLiU"/>
              </a:rPr>
              <a:t>李韶社會經濟考察計劃</a:t>
            </a:r>
            <a:r>
              <a:rPr b="0" lang="zh-TW" sz="2800" spc="-1" strike="noStrike">
                <a:solidFill>
                  <a:srgbClr val="ccecff"/>
                </a:solidFill>
                <a:latin typeface="MingLiU"/>
              </a:rPr>
              <a:t>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43828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31 May 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Press release in Chinese, 13:4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4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Bulkfax to all media, 13:5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mail via the POP Network, 13:5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66880" y="3429000"/>
            <a:ext cx="381024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5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2a_20050601_Apple%20Daily_56%25受訪者支持平反六四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87631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48769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2a_20050601_Oriental%20Daily%20News_支聯會評分跌破50分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18148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327672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2a_20050601_Ming%20Pao_56%25支持平反六四回歸新高" descr=""/>
          <p:cNvPicPr/>
          <p:nvPr/>
        </p:nvPicPr>
        <p:blipFill>
          <a:blip r:embed="rId1"/>
          <a:stretch/>
        </p:blipFill>
        <p:spPr>
          <a:xfrm>
            <a:off x="762120" y="1085760"/>
            <a:ext cx="563868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     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2a_20050601_HK%20Economic%20Times_支持平反六四創新高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518148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Hong Kong Daily News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（新報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2a_20050601_HK%20Daily%20News_五成六人支持平反六四" descr=""/>
          <p:cNvPicPr/>
          <p:nvPr/>
        </p:nvPicPr>
        <p:blipFill>
          <a:blip r:embed="rId1"/>
          <a:stretch/>
        </p:blipFill>
        <p:spPr>
          <a:xfrm>
            <a:off x="1523880" y="1914480"/>
            <a:ext cx="603576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    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2a_20050601_Sing%20Pao_支持平反六四回歸新高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043440" cy="26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048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M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2a_20050601_SCMP_Rising%20sympathy%20for%20Tiananmen%20sturdent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2847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2514600"/>
            <a:ext cx="6324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514600"/>
            <a:ext cx="6705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e case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e case of field observ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basics of social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2514600"/>
            <a:ext cx="7467480" cy="35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ield Observat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oject…..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MingLiU"/>
              </a:rPr>
              <a:t>台灣總統大選研習團</a:t>
            </a:r>
            <a:r>
              <a:rPr b="0" lang="zh-TW" sz="2800" spc="-1" strike="noStrike">
                <a:solidFill>
                  <a:srgbClr val="ffff00"/>
                </a:solidFill>
                <a:latin typeface="MingLiU"/>
              </a:rPr>
              <a:t>2004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香港大學學生會、香港大學學生研究隊主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透過到台灣觀選，讓同學感受大選氣氛，了解台灣政黨發展以及台灣學界、傳媒和民眾對大選的關注；從而引發同學對香港政黨發展，政制改革的探討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004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月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7-20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9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名同學 ＋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名單位代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eld Observation …..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author has been to Taiwan to observe the elections there for many years, he has always kept an eye on the development of the public opinion survey in Taiwan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first exit poll of the presidential election in Taiwan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roblems observed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the media in Taiwan is not neutra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academics in Taiwan also not neutra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the civil service also not neutral civil service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there is a serious lack of independent middle force in Taiwan society, which is not good for democratic development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As a result, they cannot provide a credible middle force to societ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62320" y="5257800"/>
            <a:ext cx="5257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4724280"/>
            <a:ext cx="52578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4267080"/>
            <a:ext cx="5029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Column Article …..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0" lang="zh-TW" sz="3000" spc="-1" strike="noStrike">
                <a:solidFill>
                  <a:srgbClr val="ccecff"/>
                </a:solidFill>
                <a:latin typeface="Times New Roman"/>
              </a:rPr>
              <a:t>Inadequate Support Mechanisms in Taiwan’s Democratic System”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ecff"/>
                </a:solidFill>
                <a:latin typeface="Times New Roman"/>
              </a:rPr>
              <a:t>「台灣民主制度配套不足」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Hong Kong Economic Journal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The Chinese version at POP Site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The English version at POP Site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251460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Basic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cial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net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-depth 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 leeshiu0506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f applicable, 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419112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arch 10:  Finalizing research strate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170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Background Reading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immerman, D.E. and Muraski, M.L. (1995). The Elements of Information Gathering. Arizona: Oryx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Babbie, E.R. (1990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Survey Research Methods,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d. California: Wadswor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ncpp.org 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ree Discuss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Topics for Discuss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How would you conduct a study on Hong Kong people’s receptiveness to the proposed abolition of estate duty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Give a background of the ev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as initial reaction of the public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as the initial reaction of the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different opinions from different secto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Workshop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31 May 2005 (Tue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Annual survey on June Fourt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11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June Fourt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21 - 24 Ma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Beijing students did the right thing in the June 4 Incid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Chinese Government did the right thing in the June 4 Incid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ared to 1989, do you think China's human right condition has become better or wors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human right condition in China will be better or even worse in three years' tim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June Fourt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21 - 24 Ma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286000"/>
            <a:ext cx="7924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Hong Kong people have a responsibility to instigate the development of democracy in China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Hong Kong people have a responsibility to instigate economic development in China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Hong Kong people should put more effort on instigating development in China's economy or democracy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ch do you think China needs more: economic or democratic developm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June Fourt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21 - 24 Ma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743200"/>
            <a:ext cx="7086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support a reversion of the official stand on the June 4 Incid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Alliance should be disbanded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ting of the Hong Kong Alliance in Support of the Patriotic Democratic Movement in China before June 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Coverag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2:26:21Z</dcterms:modified>
  <cp:revision>631</cp:revision>
  <dc:subject/>
  <dc:title>無投影片標題</dc:title>
</cp:coreProperties>
</file>