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7EA9E2-66E0-46BB-A2B2-97B61E286B0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F5E974-6950-4F7A-8460-520E7E85E12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8597B7-3B2B-471B-9331-13F7B4175B0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027-D72D-4CA6-BF61-4E5CCD06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E43-4E34-48FE-8FEA-F58B7D20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B3A-EF24-4C6C-B854-173AF813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440-E705-4157-8727-07E5530C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9CE-287C-48E0-B8F6-D2CB386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47E-976C-415F-AFF4-58C68EB1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881-1772-4703-A63E-1A1C747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85B-BA11-4E77-92CF-C2573C98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22D-3922-466F-8409-E7930668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93C-5001-4800-A4F2-A31D861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9FD-FD91-4857-8E42-8F670E3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DB4-1FA4-48D6-AA26-A021D5C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183-3B29-424A-89D9-B680EF3CF45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20050418_TP0504C_Chan%20To%20Lam_%202006.mp3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tp0504c_que.htm" TargetMode="External"/><Relationship Id="rId2" Type="http://schemas.openxmlformats.org/officeDocument/2006/relationships/hyperlink" Target="http://hkupop.hku.hk/chinese/resources/workshops/20050510/tp0504c_admin_2.html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10 Ma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67280" y="3200400"/>
            <a:ext cx="12193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  (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audio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7120" y="4419720"/>
            <a:ext cx="12189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809880"/>
            <a:ext cx="121932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12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13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26 April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6880" y="3429000"/>
            <a:ext cx="381024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 on-line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1" name="2a_20050427_Apple%20Daily_曾蔭權民望跌3.5分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68152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2a_20050427_Wen%20Wei%20Po_72%25市民望曾蔭權當特首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4197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1" name="2a_20050427_HK%20Standard_Tsang's%20ratings%20dip%20on%20%60snobbish'%20mien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549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312408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6" name="2a_20050427_HK%20Economic%20Journal_曾蔭權民望七天跌3.5分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379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4320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1" name="2a_20050427_HK%20Economic%20Times_座駕切綫拖累%20民望跌3.5分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2743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Commercial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2a_20050427_HK%20Commercial%20Daily_港府民望3個月來最高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72464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438280"/>
            <a:ext cx="70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Open discussion among participants most welco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Your evaluation of all activities invi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0481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2a_20050427_Oriental%20Daily%20News_曾蔭權支持度仍高企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743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6" name="2a_20050427_The%20Sun_曾蔭權民望回落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3611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2a_20050427_Ta%20Kung%20Pao_曾蔭權民望有回落%20明出席答問大會民建聯關注民生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1814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2767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2a_20050427_Sing%20Pao_董建華再籲社會支持曾蔭權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5008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0 Ma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2 Ma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20 May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0 May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6 June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8-14 June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support of the government in the last three month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the government’s popularity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need to, or have time for, a primary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secondary sources which would be relevant to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the latest toll increase at the Eastern Harbour Tunnel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tunnel toll increas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csd05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 Plan a comprehensive study to gauge Hong Kong people’s view on building a super pris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key issues involved in building a super prison, with reference to public discussions in the pas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often would you conduct your measure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4)  Plan a comprehensive study to gauge Hong Kong people’s view on cross-strait rel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events, including the recent visits of Lien Chan and James Soong Chu-yu to the mainlan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ortance of conducting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lication of your findings on the administration of our local govern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the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the Acting Chief Executive Donald Tsang Yam-kuen, with 0 indicating absolutely not supportive, 100 indicating absolutely supportive and 50 indicating half-half. 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economic prosperity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people’s livelihood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5146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man rights and freedom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mocratic develop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elation with the Central Govern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5-10T09:20:45Z</dcterms:modified>
  <cp:revision>604</cp:revision>
  <dc:subject/>
  <dc:title>無投影片標題</dc:title>
</cp:coreProperties>
</file>