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091D-00A2-486E-B304-6456F0F55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B24A-D5D2-4328-96BD-F374460FF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777E-46B2-45AA-B92E-1E41D7869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C5E9-ED8A-425A-93C8-FC5068FD5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2606-6CDE-44BE-B6FB-13D534421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3BF4-F4C8-414B-8D68-F66EB4313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E6CE-E6C8-45E3-8FAD-CA007EB10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355E-CB74-47F8-9F42-A573F9ABB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96BF-4846-43ED-8577-E95252745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5157-9E39-447B-9B6F-F7697AB8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CD49-0965-4425-8560-987B8DDE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C2B6-B466-44EE-8BAB-C47902B6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1C0C6-79BE-473B-B89E-FD50487A4CC3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hkupop.hku.hk/chinese/resources/workshops/20050430/tp0504c_que.htm" TargetMode="External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hkupop.hku.hk/" TargetMode="External"/><Relationship Id="rId2" Type="http://schemas.openxmlformats.org/officeDocument/2006/relationships/hyperlink" Target="http://hkupop.hku.hk/" TargetMode="External"/><Relationship Id="rId3" Type="http://schemas.openxmlformats.org/officeDocument/2006/relationships/hyperlink" Target="http://hkupop.hku.hk/chinese/resources/workshops/20050430/bulkmail.htm" TargetMode="External"/><Relationship Id="rId4" Type="http://schemas.openxmlformats.org/officeDocument/2006/relationships/hyperlink" Target="http://hkupop.hku.hk/chinese/resources/workshops/20050430/bulkmail.htm" TargetMode="External"/><Relationship Id="rId5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hkupop.hku.hk/chinese/resources/workshops/20050430/N_TP_20050426_RTHK_1800.mp3" TargetMode="External"/><Relationship Id="rId2" Type="http://schemas.openxmlformats.org/officeDocument/2006/relationships/hyperlink" Target="http://hkupop.hku.hk/chinese/resources/workshops/20050430/HKATV.htm" TargetMode="External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hkupop.hku.hk/" TargetMode="External"/><Relationship Id="rId2" Type="http://schemas.openxmlformats.org/officeDocument/2006/relationships/hyperlink" Target="http://hkupop.hku.hk/" TargetMode="External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97144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Public Lecture on the Analysis of Sample Surveys:</a:t>
            </a:r>
            <a:br>
              <a:rPr sz="2800"/>
            </a:b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Public Opinion Surveys</a:t>
            </a:r>
            <a:br>
              <a:rPr sz="2800"/>
            </a:b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(HKU Course STAT1304, 30 April 2005)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1295280"/>
            <a:ext cx="50292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香港大學民意研究計劃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523880" y="1143000"/>
          <a:ext cx="153684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143000"/>
                    <a:ext cx="153684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914400" y="4952880"/>
            <a:ext cx="7543800" cy="5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000" spc="-1" strike="noStrike">
                <a:solidFill>
                  <a:srgbClr val="ffffcc"/>
                </a:solidFill>
                <a:latin typeface="Times New Roman"/>
              </a:rPr>
              <a:t>Dr Robert CHUNG Ting-yiu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1800" spc="-1" strike="noStrike">
                <a:solidFill>
                  <a:srgbClr val="ffffcc"/>
                </a:solidFill>
                <a:latin typeface="Times New Roman"/>
              </a:rPr>
              <a:t>(Director of Public Opinion Programme)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9144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Operation of the Survey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2514600"/>
            <a:ext cx="76960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Demonstration of the POP’s oper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ffff"/>
                </a:solidFill>
                <a:latin typeface="Times New Roman"/>
              </a:rPr>
              <a:t>CATI and WEBCATI (audio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ffffcc"/>
                </a:solidFill>
                <a:uFillTx/>
                <a:latin typeface="Times New Roman"/>
              </a:rPr>
              <a:t>WEBCATI input demonstration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ffffcc"/>
                </a:solidFill>
                <a:uFillTx/>
                <a:latin typeface="Times New Roman"/>
              </a:rPr>
              <a:t>Quality control (q/c) measures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ffff"/>
                </a:solidFill>
                <a:latin typeface="Times New Roman"/>
              </a:rPr>
              <a:t>Press releas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2120" y="20574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9144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Operation of the Survey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2514600"/>
            <a:ext cx="76960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Demonstration of the POP’s oper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CATI and WEBCATI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WEBCATI input demonstration </a:t>
            </a:r>
            <a:r>
              <a:rPr b="0" lang="en-US" sz="2800" spc="-1" strike="noStrike" u="sng">
                <a:solidFill>
                  <a:srgbClr val="0000cc"/>
                </a:solidFill>
                <a:uFillTx/>
                <a:latin typeface="Times New Roman"/>
                <a:hlinkClick r:id="rId1"/>
              </a:rPr>
              <a:t>(1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Quality control (q/c) measures (1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Press releas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2120" y="20574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The Operation of Opinion Research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752480"/>
            <a:ext cx="72388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Different stages in conducting an “opinion poll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Identification of research objectives and areas of investig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Sampling desig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Questionnaire desig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Fieldwork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Data analysis and cleani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Report compil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Release of finding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143000" y="2819520"/>
            <a:ext cx="721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23880" y="2286000"/>
            <a:ext cx="64008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The POP Site at </a:t>
            </a:r>
            <a:r>
              <a:rPr b="0" lang="zh-TW" sz="2600" spc="-1" strike="noStrike" u="sng">
                <a:solidFill>
                  <a:srgbClr val="0000cc"/>
                </a:solidFill>
                <a:uFillTx/>
                <a:latin typeface="Times New Roman"/>
                <a:hlinkClick r:id="rId1"/>
              </a:rPr>
              <a:t>http:/</a:t>
            </a:r>
            <a:r>
              <a:rPr b="0" lang="zh-TW" sz="2600" spc="-1" strike="noStrike" u="sng">
                <a:solidFill>
                  <a:srgbClr val="0000cc"/>
                </a:solidFill>
                <a:uFillTx/>
                <a:latin typeface="Times New Roman"/>
                <a:hlinkClick r:id="rId2"/>
              </a:rPr>
              <a:t>/hkupop.hku.hk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POP press release of 26 April 2005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Press release in Chinese, 13:32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Press release in English, 13:32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Bulkfax to all media, 13:38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 u="sng">
                <a:solidFill>
                  <a:srgbClr val="0000cc"/>
                </a:solidFill>
                <a:uFillTx/>
                <a:latin typeface="Times New Roman"/>
                <a:hlinkClick r:id="rId3"/>
              </a:rPr>
              <a:t>Bulkmail</a:t>
            </a:r>
            <a:r>
              <a:rPr b="0" lang="zh-TW" sz="2600" spc="-1" strike="noStrike" u="sng">
                <a:solidFill>
                  <a:srgbClr val="0000cc"/>
                </a:solidFill>
                <a:uFillTx/>
                <a:latin typeface="Times New Roman"/>
                <a:hlinkClick r:id="rId4"/>
              </a:rPr>
              <a:t> via the POP Network, 13:45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18288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2438280"/>
            <a:ext cx="76201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How the story was reported by the electronic media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 u="sng">
                <a:solidFill>
                  <a:srgbClr val="0000cc"/>
                </a:solidFill>
                <a:uFillTx/>
                <a:latin typeface="Times New Roman"/>
                <a:hlinkClick r:id="rId1"/>
              </a:rPr>
              <a:t>RTHK news, 18:00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 u="sng">
                <a:solidFill>
                  <a:srgbClr val="0000cc"/>
                </a:solidFill>
                <a:uFillTx/>
                <a:latin typeface="Times New Roman"/>
                <a:hlinkClick r:id="rId2"/>
              </a:rPr>
              <a:t>ATV news on-line</a:t>
            </a: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TVB news, 23:35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20574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00200" y="2514600"/>
            <a:ext cx="63244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Characteristics of “media polls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Agenda setting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Tend to focus on negative feeling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Sensationalism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Rich graphics to achieve visual impact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Extensive coverage for exclusive poll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19810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2120" y="762120"/>
            <a:ext cx="7619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90720" y="2743200"/>
            <a:ext cx="716256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just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Introducing the preliminary findings of the MRSHK Project (19-25/8/2002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just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just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The principle of “minimum disclosure” (For reference: Proposed Code of Professional Ethics and Practices for Public Opinion Research in Hong Kong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21337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914400" y="2514600"/>
            <a:ext cx="753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Some references for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further studie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On-line Resource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1828800"/>
            <a:ext cx="70866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ecff"/>
                </a:solidFill>
                <a:latin typeface="Times New Roman"/>
              </a:rPr>
              <a:t>The HKU POP Site at </a:t>
            </a:r>
            <a:r>
              <a:rPr b="0" i="1" lang="zh-TW" sz="2500" spc="-1" strike="noStrike">
                <a:solidFill>
                  <a:srgbClr val="ffff99"/>
                </a:solidFill>
                <a:latin typeface="Times New Roman"/>
              </a:rPr>
              <a:t>http://hkupop.hku.hk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ecff"/>
                </a:solidFill>
                <a:latin typeface="Times New Roman"/>
              </a:rPr>
              <a:t>WAPOR’s website at </a:t>
            </a:r>
            <a:r>
              <a:rPr b="0" i="1" lang="zh-TW" sz="2500" spc="-1" strike="noStrike">
                <a:solidFill>
                  <a:srgbClr val="ffff99"/>
                </a:solidFill>
                <a:latin typeface="Times New Roman"/>
              </a:rPr>
              <a:t>http://www.unl.edu/wapor</a:t>
            </a:r>
            <a:r>
              <a:rPr b="0" lang="zh-TW" sz="25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ecff"/>
                </a:solidFill>
                <a:latin typeface="Times New Roman"/>
              </a:rPr>
              <a:t>AAPOR’s website at </a:t>
            </a:r>
            <a:r>
              <a:rPr b="0" i="1" lang="zh-TW" sz="2500" spc="-1" strike="noStrike">
                <a:solidFill>
                  <a:srgbClr val="ffff99"/>
                </a:solidFill>
                <a:latin typeface="Times New Roman"/>
              </a:rPr>
              <a:t>http://www.aapor.org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ecff"/>
                </a:solidFill>
                <a:latin typeface="Times New Roman"/>
              </a:rPr>
              <a:t>ESOMAR’s (The World Association of Research Professionals) website at </a:t>
            </a:r>
            <a:r>
              <a:rPr b="0" i="1" lang="zh-TW" sz="2500" spc="-1" strike="noStrike">
                <a:solidFill>
                  <a:srgbClr val="ffff99"/>
                </a:solidFill>
                <a:latin typeface="Times New Roman"/>
              </a:rPr>
              <a:t>http://www.esomar.org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ecff"/>
                </a:solidFill>
                <a:latin typeface="Times New Roman"/>
              </a:rPr>
              <a:t>NCPP’s website </a:t>
            </a:r>
            <a:r>
              <a:rPr b="0" i="1" lang="zh-TW" sz="2500" spc="-1" strike="noStrike">
                <a:solidFill>
                  <a:srgbClr val="ffff99"/>
                </a:solidFill>
                <a:latin typeface="Times New Roman"/>
              </a:rPr>
              <a:t>http://www.ncpp.org </a:t>
            </a:r>
            <a:r>
              <a:rPr b="0" lang="zh-TW" sz="2500" spc="-1" strike="noStrike">
                <a:solidFill>
                  <a:srgbClr val="ccecff"/>
                </a:solidFill>
                <a:latin typeface="Times New Roman"/>
              </a:rPr>
              <a:t>(The National Council on Public Polls of USA)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ecff"/>
                </a:solidFill>
                <a:latin typeface="Times New Roman"/>
              </a:rPr>
              <a:t>Gallup polls at </a:t>
            </a:r>
            <a:r>
              <a:rPr b="0" i="1" lang="zh-TW" sz="2500" spc="-1" strike="noStrike">
                <a:solidFill>
                  <a:srgbClr val="ffff99"/>
                </a:solidFill>
                <a:latin typeface="Times New Roman"/>
              </a:rPr>
              <a:t>http://gallup.com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14600"/>
            <a:ext cx="6858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ffff"/>
                </a:solidFill>
                <a:latin typeface="Times New Roman"/>
              </a:rPr>
              <a:t>Please visit the POP Site –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lang="zh-TW" sz="3600" spc="-1" strike="noStrike" u="sng">
                <a:solidFill>
                  <a:srgbClr val="0000cc"/>
                </a:solidFill>
                <a:uFillTx/>
                <a:latin typeface="Times New Roman"/>
                <a:hlinkClick r:id="rId1"/>
              </a:rPr>
              <a:t>http:/</a:t>
            </a:r>
            <a:r>
              <a:rPr b="0" lang="zh-TW" sz="3600" spc="-1" strike="noStrike" u="sng">
                <a:solidFill>
                  <a:srgbClr val="0000cc"/>
                </a:solidFill>
                <a:uFillTx/>
                <a:latin typeface="Times New Roman"/>
                <a:hlinkClick r:id="rId2"/>
              </a:rPr>
              <a:t>/hkupop.hku.hk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POP Resources </a:t>
            </a:r>
            <a:r>
              <a:rPr b="1" lang="zh-TW" sz="2800" spc="-1" strike="noStrike">
                <a:solidFill>
                  <a:srgbClr val="ccffff"/>
                </a:solidFill>
                <a:latin typeface="Wingdings"/>
                <a:ea typeface="Wingdings"/>
              </a:rPr>
              <a:t>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 Public Opinion Lectures and Workshop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[ today’s talk, “ stat05 ” ]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21337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2133720"/>
            <a:ext cx="73915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End of Lecture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Questions Welcome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914400"/>
            <a:ext cx="7619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ffff"/>
                </a:solidFill>
                <a:latin typeface="Times New Roman"/>
              </a:rPr>
              <a:t>Outline of Presentation</a:t>
            </a:r>
            <a:endParaRPr b="0" lang="en-US" sz="4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95280" y="2743200"/>
            <a:ext cx="6858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7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A case study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The operation of opinion research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Media reports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Some references</a:t>
            </a: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22860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One Case Study…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90720" y="2743200"/>
            <a:ext cx="723888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POP release of 26 April 2005 (Tuesday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5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Latest popularity figures of Acting CE and HKSAR Government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5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8  key opinion questions + demographic question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220968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685800"/>
            <a:ext cx="7467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Questions on the Appraisal of Acting CE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Times New Roman"/>
              </a:rPr>
              <a:t>( 18 – 21 April 2005 )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21337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Please use a scale of 0-100 to rate your extent of support to the Acting Chief Executive Donald Tsang Yam-kuen, with 0 indicating absolutely not supportive, 100 indicating absolutely supportive and 50 indicating half-half. How would you rate the Acting Chief Executive Donald Tsang Yam-kuen?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If a general election of the Chief Executive were to be held tomorrow, and you had the right to vote, would you vote for Donald Tsang Yam-kuen?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19051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762120"/>
            <a:ext cx="80769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Questions on the HKSAR Government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Times New Roman"/>
              </a:rPr>
              <a:t>( 18 – 21 April 2005 )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2286000"/>
            <a:ext cx="769608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spcBef>
                <a:spcPts val="13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Are you satisfied with the overall performance of the HKSAR Government ? 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3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Are you satisfied with the HKSAR Government’s performance on the maintenance of economic prosperity? 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3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Are you satisfied with the HKSAR Government’s performance on the improvement of people’s livelihood? 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198108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762120"/>
            <a:ext cx="80769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Questions on the HKSAR Government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Times New Roman"/>
              </a:rPr>
              <a:t>( 18 – 21 April 2005 )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2286000"/>
            <a:ext cx="7315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Are you satisfied with the HKSAR Government’s performance on the protection of human rights and freedom?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Are you satisfied with the HKSAR Government’s performance on the pace of democratic development?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Are you satisfied with the overall performance of the HKSAR Government’s handling of its relation with the Central Government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2120" y="198108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9907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Standard Demographic Question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43000" y="2666880"/>
            <a:ext cx="7010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53920" indent="-285480">
              <a:lnSpc>
                <a:spcPct val="10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Registered voter? Any voting experience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0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Gender, age, education attainment, occup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0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Housing type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0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Arial"/>
              </a:rPr>
              <a:t>Class status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0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Place of birth, years of residence in HK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20574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990720" y="2590920"/>
            <a:ext cx="721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The Operation of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Opinion Research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HKUPOP</cp:lastModifiedBy>
  <cp:lastPrinted>2001-04-04T10:00:24Z</cp:lastPrinted>
  <dcterms:modified xsi:type="dcterms:W3CDTF">2006-03-31T03:19:40Z</dcterms:modified>
  <cp:revision>570</cp:revision>
  <dc:subject/>
  <dc:title>無投影片標題</dc:title>
</cp:coreProperties>
</file>