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B8B-660E-4FAF-9BD7-BB289E25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9A1-8456-4346-8D28-652A0B62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659-0F07-4CA2-8F62-F5B549FB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592-60E3-465F-8084-7ACECE6C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22E-F207-4117-AA9B-B635AA15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3DD-E555-4B07-966E-F2BDD7CB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865-6ABA-4F49-921C-981F1CD0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1C3-75B1-46F2-99E8-D035E62B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373-2F18-4B9A-9A4D-536C3D88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815-6EA6-4AF2-9887-CC36C936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9EF-2E54-465A-9021-BB48DCD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FA0-CD44-45EB-91E7-7020342D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B868-B649-4E29-80C7-109634A0A6D8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07/tp0503b_que.htm" TargetMode="External"/><Relationship Id="rId2" Type="http://schemas.openxmlformats.org/officeDocument/2006/relationships/hyperlink" Target="http://hkupop.hku.hk/chinese/resources/workshops/20050407/tp0503c_que.htm" TargetMode="External"/><Relationship Id="rId3" Type="http://schemas.openxmlformats.org/officeDocument/2006/relationships/hyperlink" Target="http://hkupop.hku.hk/chinese/resources/workshops/20050407/tp0503b_admin.html" TargetMode="External"/><Relationship Id="rId4" Type="http://schemas.openxmlformats.org/officeDocument/2006/relationships/hyperlink" Target="http://hkupop.hku.hk/chinese/resources/workshops/20050407/tp0503c_admin.html" TargetMode="External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hyperlink" Target="http://hkupop.hku.hk/" TargetMode="Externa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07/rthk/rthk.htm" TargetMode="External"/><Relationship Id="rId2" Type="http://schemas.openxmlformats.org/officeDocument/2006/relationships/hyperlink" Target="http://hkupop.hku.hk/chinese/resources/workshops/20050407/Metro%20Radio.htm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Media and Public Opinion </a:t>
            </a:r>
            <a:br>
              <a:rPr sz="3600"/>
            </a:b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(Lecture for S4 and S6 students of Queen’s College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25780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, Director of Public Opinion Programm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7 April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1)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(1)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4"/>
              </a:rPr>
              <a:t>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4382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he POP Site at 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OP press release of 6 April 200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4:0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4:0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fax to all media, 14:1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mail via the POP Network, 14:16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4382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ss releas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How it was reported by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590920"/>
            <a:ext cx="5029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R news, 15:1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Ming Pao website, 15:3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RTHK news, 15:33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  (voice clip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Metro news, 15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6019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apple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13744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6172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Economic Times      7 April 2005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hket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719680" cy="42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ro Daily  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metro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3558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7" name="mingpao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943600" cy="28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lease visit the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/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talk, “ queen’s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73392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oriental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8322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867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CMP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scmp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66544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5867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singpao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45600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34290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singtao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89548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715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singtao2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06556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he Sun 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7" name="sun" descr=""/>
          <p:cNvPicPr/>
          <p:nvPr/>
        </p:nvPicPr>
        <p:blipFill>
          <a:blip r:embed="rId1"/>
          <a:stretch/>
        </p:blipFill>
        <p:spPr>
          <a:xfrm>
            <a:off x="2362320" y="2317680"/>
            <a:ext cx="460188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5334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ao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2" name="wenwei" descr=""/>
          <p:cNvPicPr/>
          <p:nvPr/>
        </p:nvPicPr>
        <p:blipFill>
          <a:blip r:embed="rId1"/>
          <a:stretch/>
        </p:blipFill>
        <p:spPr>
          <a:xfrm>
            <a:off x="762120" y="1927080"/>
            <a:ext cx="754380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800"/>
            </a:gs>
            <a:gs pos="50000">
              <a:srgbClr val="006600"/>
            </a:gs>
            <a:gs pos="100000">
              <a:srgbClr val="00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1440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74320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 case stud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edia report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me closing remark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04812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Please visit the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/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8195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9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basis of  professionalism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ffff"/>
                </a:solidFill>
                <a:latin typeface="Times New Roman"/>
              </a:rPr>
              <a:t>I Q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POP release of 6 April 2005 (Wedne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eople's appraisal of merits and faults of Tung Chee-Hwa and some deceased Chinese leader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7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Questions the Appraisal of CH Tung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</a:rPr>
              <a:t>( 20 – 22 March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467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董建華已經辭任特首，你認為董建華對香港既整體發展功績多定過失多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董建華既功過比例大概係點分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董建華管治香港，主要既功績係屬於政治方面、定係經濟民生方面、定係其他方面、定係冇功績呢？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董建華管治香港，主要既過失係屬於政治方面、定係經濟民生方面、定係其他方面、定係冇過失呢？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Chinese Leaders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4 - 17 March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0"/>
            <a:ext cx="6933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你認為趙紫陽對中國既發展功多定過多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你認為楊尚昆對中國既發展功多定過多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你認為鄧小平對中國既發展功多定過多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你認為毛澤東對中國既發展功多定過多</a:t>
            </a: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你認為周恩來對中國既發展功多定過多</a:t>
            </a: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你認為蔣介石對中國既發展功多定過多</a:t>
            </a: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590920"/>
            <a:ext cx="6705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是否登記選民、有否投票經驗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性別、年齡、教育程度、職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房屋類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家庭階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出生地、居港年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3:20:59Z</dcterms:modified>
  <cp:revision>592</cp:revision>
  <dc:subject/>
  <dc:title>無投影片標題</dc:title>
</cp:coreProperties>
</file>