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63A-CA04-4490-879C-D8472C2C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5EC-F6C2-4439-BC64-76C829A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92A-EC51-47E4-A108-49EF74FE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B56-4E84-4C85-9766-08C84A48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785-AB7A-4064-9CF2-5AE1C40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A9F-33A8-45D0-940F-554A2B7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F25-56C1-44F9-A715-AB14AA38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872-5319-4E89-886C-83BB251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FB6-13A0-4880-928D-C095B8E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E4B-522B-47C9-B804-0915B5BA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423-AE13-435D-A1F2-86FA5BA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C4E-319F-4952-BDAA-EE5FA77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62C-482D-4D5A-A24A-A8414331266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pr_chi.htm" TargetMode="External"/><Relationship Id="rId2" Type="http://schemas.openxmlformats.org/officeDocument/2006/relationships/hyperlink" Target="http://hkupop.hku.hk/chinese/resources/workshops/20050121/pr_eng.htm" TargetMode="External"/><Relationship Id="rId3" Type="http://schemas.openxmlformats.org/officeDocument/2006/relationships/hyperlink" Target="http://hkupop.hku.hk/chinese/resources/workshops/20050121/POP%20Instant%20Poll%20on%20Policy%20Address.htm" TargetMode="External"/><Relationship Id="rId4" Type="http://schemas.openxmlformats.org/officeDocument/2006/relationships/hyperlink" Target="http://hkupop.hku.hk/chinese/resources/workshops/20050121/POP%20Instant%20Poll%20on%20Policy%20Address.htm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RTHK_1500.mp3" TargetMode="External"/><Relationship Id="rId2" Type="http://schemas.openxmlformats.org/officeDocument/2006/relationships/hyperlink" Target="http://hkupop.hku.hk/chinese/resources/workshops/20050121/mingpao.htm" TargetMode="External"/><Relationship Id="rId3" Type="http://schemas.openxmlformats.org/officeDocument/2006/relationships/hyperlink" Target="http://hkupop.hku.hk/chinese/resources/workshops/20050121/mingpao.htm" TargetMode="External"/><Relationship Id="rId4" Type="http://schemas.openxmlformats.org/officeDocument/2006/relationships/hyperlink" Target="http://hkupop.hku.hk/chinese/resources/workshops/20050121/mingpao.htm" TargetMode="External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ATV_1800.mpg" TargetMode="External"/><Relationship Id="rId2" Type="http://schemas.openxmlformats.org/officeDocument/2006/relationships/hyperlink" Target="http://hkupop.hku.hk/chinese/resources/workshops/20050121/N_PA05_20050113_ATV_2230.mpg" TargetMode="External"/><Relationship Id="rId3" Type="http://schemas.openxmlformats.org/officeDocument/2006/relationships/hyperlink" Target="http://hkupop.hku.hk/chinese/resources/workshops/20050121/N_PA05_20050113_TVB_1830.asf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Talk for MA Journalism Students, CUHK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66"/>
                    </a:outerShdw>
                  </a:effectLst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By Karie Pang,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5 February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09680"/>
            <a:ext cx="7543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整體黎講，你對特首董建華今日發表既施政報告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滿唔滿意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宜家想請你對特首董建華今日發表既施政報告既滿意程度進行評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不滿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滿意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一半半，你會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俾幾多分今年既施政報告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特首董建華今日發表佢第八份施政報告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對香港前途既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信心增加定減少左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承認左政府「未能確立『以民為本』的施政理念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未能充分顧及社會的承受能力和政策本身可能引起的爭議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缺乏危機意識和政治意識，缺乏應付政經轉變所需的經驗和才能，處理一些突發事件時顯得進退失據。」你認為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特首呢番說話可唔可以平復巿民既不滿情緒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今年發表施政報告既主題係「合力發展經濟、共建和諧社會」，你認為呢個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主題是否切合社會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特首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有冇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發表施政報告後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直接同市民對話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13 January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http://hkupop.hku.hk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Press release in Chinese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Press release in English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via the POP Network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4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local media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4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14:57 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(Voice clip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Ming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Pao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website, 15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9092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13 January 2005 (18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13 January 2005 (22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13 January 2005 (18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13 January 2005 (2345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orld    13 January 2005 (23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66688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: Professional cod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2a_20050114_HK%20Economic%20Journal_45％受訪者指董認錯未息不滿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51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2a_20050114_Apple%20Daily_63%25%20人指董難達施政目標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7972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14 January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2a_20050114_HK%20Economic%20Times「董認不足%20為改善市民關係」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10080" cy="34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2a_20050114_Oriental%20Daily%20News_63%25市民對董無信心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11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7339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2a_20050114_The%20Sun_董認施政失誤　45%25市民仍不滿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565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Standard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2a_20050114_HK%20Standard_Speech%20wins%20higher%20rating%20than%20in%20previous%20years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932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Commercial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2a_20050114_HK%20Commercial%20Daily_董報告民調創新高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8956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2a_20050114_Ming%20Pao_施政報告6年最多人滿意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2a_20050114_HK%20Daily%20News_近四成人滿意施政報告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656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2a_20050114_Metro_施政報告民調評分%206年最高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17128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9548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2a_20050114_Sing%20Tao%20Daily_《施政報告》評分七年新高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97376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2a_20050114_Sing%20Tao%20Dailyl_特首施政報告評分創新高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608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2a_20050114_Ta%20Kung%20Pao_施政報告評分創新高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57004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4290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2a_20050114_Wen%20Wei%20Pao_最新民調：特首評分上升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6668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aspec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clusivit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poon-feeding, “quotable quote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5146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1337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A collection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Short-term judgment, changes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74"/>
              </a:spcBef>
              <a:spcAft>
                <a:spcPts val="774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Various snapshots to be taken in order to track the opinion chang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e.g. CPU, HA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*Between 19/8 - 25/8/2002, 72 poll reports were carried by local newspapers in a week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740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從晴朗的一天出發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為人民服務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左右大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-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日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8288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: press release, press confer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Recent Operation on Policy Addres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590920"/>
            <a:ext cx="7010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A recent case….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POP release of 13 January 2005 (Thur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instant reaction to the policy addr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9 opinion questions + 2 rating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5-02-15T07:41:48Z</dcterms:modified>
  <cp:revision>595</cp:revision>
  <dc:subject/>
  <dc:title>無投影片標題</dc:title>
</cp:coreProperties>
</file>