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40161F-3442-4F86-8FA7-EF1AFB0AAB0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5C1-363A-4CB7-A087-DA38E12C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805-483D-44CE-885C-F8406A6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E53-7F22-47FF-843A-44DC10A8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D75-420F-4717-BAC1-014965D2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AAF-1516-479A-B1AB-4CE2C881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C7B-FDB8-4E73-A6C3-A51FCB1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95C-8C7F-4656-A1E9-A483FB9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E22-6C2A-4438-9392-C4E43DE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3301-1F8A-4C20-BA28-B349C36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B224-1A80-4C17-AEE9-AC39F27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9A8D-22FE-4B13-B2DC-6A754C2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BC1-E8A6-4DB9-AAD5-D897723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8BD-C4D9-4509-9E47-4409D83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99CB-10DE-4D9E-AD47-0916D5F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E0A-C5F6-46CD-94BD-3A8B098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9B83-B30B-4553-B779-A4EEF84B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4A1-033D-4710-A559-C2C540A8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031-B4EF-4BBE-BCC2-89D055C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A46-FDF7-4E67-B1AC-7EF93E0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C2D-A011-4A7E-85E4-839E7E3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350-04B4-4798-969C-441DE4DE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53B-6185-4DA2-84A7-DCD9867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CB1-862D-4D0B-A186-60AE3CEE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55D-283B-4D93-B959-6700CA1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486-3EF8-4C23-BD5F-51F6B55FCE3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29F-2203-4DDD-A098-831A1E31899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’s New Politics: A Post-Election Analysis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香港政治新形勢：後選舉分析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Voter Preferences a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ters’ Views about LegCo’s Agenda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選民意向及選舉議題走勢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ublic Opinion Programme, H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香港大學民意研究計劃主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/9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KL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 Li’s list never recovered from the plunge in mid-August, support appeared to have flowed to Alan Le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Yuen Han’s support seems to be splitting with Albert Cheng and Chan Kam Lam comb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m Lam’s support rapidly surged in the last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九龍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李華明名單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梁家傑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婉嫻名單似乎與鄭經翰及陳鑑林兩張名單結合後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鑑林的支持度在最後一個星期急速上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868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304920"/>
          <a:ext cx="86104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NT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ond List” never recovered from the plunge in mid-August, support might have gone to James T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Hair” Leung Kwok Hun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k over Andew Wong in the last few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新界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鑽石名單」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田北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的支持度在最後幾天超越黃宏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304920"/>
          <a:ext cx="85345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28600"/>
          <a:ext cx="84582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’ propensity to vote stayed high, last-minute surge also evi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poll data finds no ground for Martin Lee’s crisis call, whereas Andrew Wong, Chan Yuen Han’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Lam Man Fai), and Cheng Kar Foo’s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Wong Sing Chi), might have been more legitimate to call for cri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Tien’s support appeared to overlap with democrats’, and may have affected Andrew Wong and Wong Shing Chi’s ch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a Fan’s support appeared to overlap with DAB’s, and might have reduced the chance of Choy So Yu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cal voting emerged towards the end of the campaign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選民投票意欲保持到高企，後勁凌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滾動調查並無顯示李柱銘需要告急、反而黃宏發、陳婉嫻名單第二候選人（林文輝）及鄭家富名單第四候選人（黃成智），更有理由告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田北俊與民主派的部份票源重疊，可能影響了黃宏發及黃成智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范徐麗泰與民建聯的票源似乎重疊，可能影響了蔡素玉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競選後期策略性配票行為十分明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 single ques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重要提問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’s mand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市民授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了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選民授權了什麼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1.8m GC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萬參與地區直選的選民授權了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have mandated whom to do wha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什麼人授權什麼人做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ed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king voter preferen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analyz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ters’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需要根據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民意向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舉議題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走勢逐步解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ratio of new voters among Pro-China and democrats’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ghtly higher ratios for Liberal Party and non-aligned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371600"/>
                <a:gridCol w="1143000"/>
                <a:gridCol w="1143000"/>
                <a:gridCol w="1066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43000" y="2133720"/>
            <a:ext cx="469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you ever voted befo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5029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初次投票選民在親中及民主派支持者中所佔比率相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及無黨籍支持者中比率略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7432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在過去各級議會中投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少量回答「唔記得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5029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livelihood issues were voters’ primary conc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paid more attention to political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of pro-China and LP supporters considered political orientation most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743200"/>
          <a:ext cx="7086600" cy="1828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371600"/>
                <a:gridCol w="1219320"/>
                <a:gridCol w="990360"/>
                <a:gridCol w="1067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Economic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velih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43000" y="1981080"/>
            <a:ext cx="74674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your choice of candidate based mainly on the candidate’s political orientation or economic/livelihood poli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5257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經濟民生是選民普遍重視的選舉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明顯比較重視政治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親中及自由黨支持者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最重視政治取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29718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經濟民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213372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選擇候選人時主要是基於其政治取態還是經濟民生政策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 supporters, ¼; pro-China supporters, 1/6; for all voters, 39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2012 as the watershed, democrats, 70%; LP supporters, 55%; pro-China supporters, 43%; all voters, 61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CE to be returned by universal suffr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743200"/>
          <a:ext cx="7772400" cy="2190600"/>
        </p:xfrm>
        <a:graphic>
          <a:graphicData uri="http://schemas.openxmlformats.org/drawingml/2006/table">
            <a:tbl>
              <a:tblPr/>
              <a:tblGrid>
                <a:gridCol w="1868400"/>
                <a:gridCol w="1270080"/>
                <a:gridCol w="1419120"/>
                <a:gridCol w="1122480"/>
                <a:gridCol w="1046160"/>
                <a:gridCol w="104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支持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普選行政長官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6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認為香港何時有足夠條件實行普選行政長官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2514600"/>
          <a:ext cx="7391520" cy="22096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%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8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supporters, 31%; pro-China supporters, 21%; for all voters, 45%; all percentages higher than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2012 as the watershed, democrats, 68%; LP supporters, 51%; pro-China supporters, 41%; all voters, 60%; almost the same as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all LC members to be returned by universal suffrage, meaning the abolition of functional constituencie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590920"/>
          <a:ext cx="792468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352520"/>
                <a:gridCol w="1314720"/>
                <a:gridCol w="121896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立法會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超過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與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比率接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057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你認為香港何時有足夠條件全面普選立法會議員，即取消所有功能組別議席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2590920"/>
          <a:ext cx="739152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most dissatisfied with the government, LP supporters more on the negative side, while pro-China supporters stood at the middle with a slightly positive sl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3% of all voters were satisfied with the gover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80773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satisfied with the performance of the SAR Gover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514600"/>
          <a:ext cx="7696080" cy="1904760"/>
        </p:xfrm>
        <a:graphic>
          <a:graphicData uri="http://schemas.openxmlformats.org/drawingml/2006/table">
            <a:tbl>
              <a:tblPr/>
              <a:tblGrid>
                <a:gridCol w="1335240"/>
                <a:gridCol w="1230120"/>
                <a:gridCol w="1518120"/>
                <a:gridCol w="1335240"/>
                <a:gridCol w="1177920"/>
                <a:gridCol w="1099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Half-ha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最不滿特區政府，自由黨支持者的評價屬於中間偏壞，親中派支持者評價屬於中間略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全部選民中只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滿意特區政府表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57913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對特區政府的整體表現滿不滿意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514600"/>
          <a:ext cx="7467480" cy="2133720"/>
        </p:xfrm>
        <a:graphic>
          <a:graphicData uri="http://schemas.openxmlformats.org/drawingml/2006/table">
            <a:tbl>
              <a:tblPr/>
              <a:tblGrid>
                <a:gridCol w="1244160"/>
                <a:gridCol w="1244880"/>
                <a:gridCol w="1244520"/>
                <a:gridCol w="1244880"/>
                <a:gridCol w="1244520"/>
                <a:gridCol w="12445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一半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r source of data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olling surve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4 Aug to 9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days of continuous field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separate public releases from 9 Aug to 11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mulated sample of 16,785 registered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rates between 73% to 76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ducted at 101 out of 501 polling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,223 actual voters inter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8 partially successful interviews, 3,611 refus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attempts made, response rate = 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data sources to be exploi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-line surve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over 700 su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250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ion night observ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different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70 volunta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ent research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acticing site observation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rs of democrats have the highest perce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 followed, pro-China supporters also have 8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% for all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447560"/>
                <a:gridCol w="1295640"/>
                <a:gridCol w="990360"/>
                <a:gridCol w="99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43000" y="21337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 you join any of the July 1 R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4876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中參加七一遊行者比率最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其次，親中派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整體選民中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55600"/>
                <a:gridCol w="120636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參加過七一遊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撇除少量回答「唔記得」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ters did not give landslide support to the democrats, their split in support was the same as that of the general elect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cared more about the political agenda tended to support the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60% voters supported universal suffrage in 2012, 40% even among pro-China suppor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ew were satisfied with SARG, among them, 69% voted for the pro-China c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7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July 1 participants voted for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新增選民並非一面倒支持民主派，比率與一般選民相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重視政治議題者傾向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選民支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01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雙普選，親中派支持者中亦超過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只有少數選民滿意特區政府表現，滿意者有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9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親中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參加七一遊行者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87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actical vo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lus election engineering have become the key to success, at the expense of focusing on substantive issues and making simple cho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use of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egative campaig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lso shifts voters’ attention from policy issues to individual personality. Certain newspapers have become spearheads of scandal attac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ampaigning ar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illing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media, policy research institutes, polling organizations and the academia, all being important infrastructures for open socie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parties are using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re frequently and extensively for election engineering, which may one day destroy the credibility of exit pol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合選舉工程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策略配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成勝負關鍵，簡單的投票考慮和議題表態開始失去意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負面攻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開始愈用愈多，選民開始聚焦到候選人的個人性格多於政策議題。部份報章已經變成打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負面攻擊開始擴散到一般傳媒、智囊機構、民調組織和學術機構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殃及池魚，做成無妄之災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。開放社會的基礎建制受到衝擊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政黨頻頻誤用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破壞有關調查的公信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sus apparently struck 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niversal suffrage in 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People’s Governmen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s host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ong Kong people’s demand, than during NPC’s ruling on universal suffrag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aces in LegCo: Radical “Long Hair” Leung Kwok Hung and “Taipan” Albert Cheng symboliz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 open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t yet monopolized by conservative fo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-democrats” represented by members of the Article 45 Concern Group symbolize th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trong presence of professional fo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in regard to the rule of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itical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ectrum is therefore wide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include more radicals at one end, and stretched in the middle to include pan-democrats and Liberal Party members returned by direct el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bsorption poli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take on new light and reach new hei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012 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雙普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似有共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央政府比人大釋法時更加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理解香港市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訴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「大班」鄭經翰進入議會，顯示制度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仍然開放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並非由保守派全部壟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「基本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條關注組」為代表的泛民主派進入議會，表示維護法治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專業力量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以在議會中發揮作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政治光譜擴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邊加入激進民主派，中間加入經過直選洗禮的自由黨和泛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吸納政治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能重新起步，再創新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ng Kong today is no longer the Hong Kong yesterday; 4 June 1989, 15 Sept 1991, 1 July 1997, 1 July 2003 and 12 Sept 2004 will all go into our history book as dates we will not forg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已經改變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6‧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991‧9‧1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3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‧9‧12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都是我們不會忘記的日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 very much!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謝謝！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數據來源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連續不斷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滾動調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調查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期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發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累積樣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,785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登記選民，回應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之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從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5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投票站抽取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票站進行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成功訪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,22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剛剛完成投票的選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另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98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部份完成個案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611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拒訪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次嘗試，回應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其他尚未處理的資料來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網上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在晚上部署在各個票站範圍的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票站觀察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接近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義務學生研究隊員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進行的實習票站調查及觀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8/9/04: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latest figure stands at 83%… somewhat difficult for this year's turnout to surpass [the 53% of 1998]… it should be comfortably higher than the 44% actual turnout registered in 2000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目前錄得的數字是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…以目前調查數字推算，今年投票率要再創歷史新高，應該有點困難，但應該會比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年的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高出一截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/9/04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ward trend has been observed … the latest estimate is that the actual turnout rate this year should lie between 52% - 57%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選民的整體投票意欲在最後階段呈現上升…最新估計今年的實際投票率可能介乎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之間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HK Island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in support between Audrey Eu and Yeung Sum’s lists, and between Rita Fan and Ma Lik’s 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 in support for Democratic Party in mid-Aug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movements in the last 7 days, especially those in the last f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poll shows that 1/5 of DP’s votes were t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香港島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余若薇名單與楊森名單票源重疊；范徐麗泰名單與馬力名單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主黨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留意最後一個星期的轉向，尤其是在最後幾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票站調查顯示民主黨名單支持者中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要來自策略性配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920"/>
          <a:ext cx="8647200" cy="60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472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9-20T10:05:49Z</dcterms:modified>
  <cp:revision>177</cp:revision>
  <dc:subject/>
  <dc:title>Project Overview</dc:title>
</cp:coreProperties>
</file>