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D694FA-44CD-4DE4-82A5-49C1C4196BE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AAA-0A29-4641-9BFA-55995A28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71F-D488-4C28-BD11-95F7F204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41E-09FA-4E39-A860-0724C200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E55-CF4F-4BFC-BCCD-6DF9C01B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4AD4-038E-42E7-AF98-EAC779B3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5E68-0CDE-409E-AA34-7AAFA7F7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F687-BB53-4C6B-B610-6302A118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979A-28EF-43F9-8BFE-FE5B505C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46EC-02F7-43C6-980F-0A5E47E5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F207-27C4-4DFA-B8FA-D245A4C2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21E5-5269-4401-8544-A4245A97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17A5-E206-4A1E-98DD-5A363DDF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9974-96ED-4D26-8ED7-D4BE6DD7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1199-E273-4DEE-B025-AFF808A2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F0D5-3650-4537-862D-E16882AC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8477-39F7-42D4-87C5-9F769812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9A28-EFD0-4B97-B757-FA3515B0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43E-D669-4D9B-BC66-8BDAC285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474-3202-458D-9E2E-E0992563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745-D156-4069-A9DB-D6629F0E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74C-E644-4E06-B0AD-7F9B67B3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FB3-73D4-47BC-923E-55C6D7D5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CDB-5E22-4255-B428-E258E28C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4E9-0ACC-4D65-86A0-8460ABFA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5E4E-446F-42D7-8F64-7865897598E6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20BF-21D6-426B-A118-657F385CB73F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lease/release197.html" TargetMode="External"/><Relationship Id="rId2" Type="http://schemas.openxmlformats.org/officeDocument/2006/relationships/hyperlink" Target="http://hkupop.hku.hk/english/release/release197.html" TargetMode="External"/><Relationship Id="rId3" Type="http://schemas.openxmlformats.org/officeDocument/2006/relationships/hyperlink" Target="http://hkupop.hku.hk/english/resources/workshops/20040728/20040727_bulkmail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84836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r" pos="760572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香港大學民意研究計劃</a:t>
            </a:r>
            <a:br>
              <a:rPr sz="28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民意調查與抽樣方法</a:t>
            </a:r>
            <a:br>
              <a:rPr sz="3600"/>
            </a:b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2004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年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7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月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28-29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日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114800"/>
            <a:ext cx="73915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W Kwong-pok Cliff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周廣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SOI Pui-shing Tony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蔡沛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 Ka-man Carmen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陳嘉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15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ff"/>
                </a:solidFill>
                <a:latin typeface="Arial"/>
              </a:rPr>
              <a:t>位於香港大學明華綜合大樓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ff"/>
                </a:solidFill>
                <a:latin typeface="Arial"/>
              </a:rPr>
              <a:t>的電話訪問中心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hku1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hku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58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位於九龍漾日居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的電話訪問中心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ahab01" descr=""/>
          <p:cNvPicPr/>
          <p:nvPr/>
        </p:nvPicPr>
        <p:blipFill>
          <a:blip r:embed="rId1"/>
          <a:stretch/>
        </p:blipFill>
        <p:spPr>
          <a:xfrm>
            <a:off x="196848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ahb02" descr=""/>
          <p:cNvPicPr/>
          <p:nvPr/>
        </p:nvPicPr>
        <p:blipFill>
          <a:blip r:embed="rId1"/>
          <a:stretch/>
        </p:blipFill>
        <p:spPr>
          <a:xfrm>
            <a:off x="196848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hab5" descr=""/>
          <p:cNvPicPr/>
          <p:nvPr/>
        </p:nvPicPr>
        <p:blipFill>
          <a:blip r:embed="rId1"/>
          <a:stretch/>
        </p:blipFill>
        <p:spPr>
          <a:xfrm>
            <a:off x="196848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hab6" descr=""/>
          <p:cNvPicPr/>
          <p:nvPr/>
        </p:nvPicPr>
        <p:blipFill>
          <a:blip r:embed="rId1"/>
          <a:stretch/>
        </p:blipFill>
        <p:spPr>
          <a:xfrm>
            <a:off x="205740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hab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hab1" descr=""/>
          <p:cNvPicPr/>
          <p:nvPr/>
        </p:nvPicPr>
        <p:blipFill>
          <a:blip r:embed="rId1"/>
          <a:stretch/>
        </p:blipFill>
        <p:spPr>
          <a:xfrm>
            <a:off x="0" y="12600"/>
            <a:ext cx="9296280" cy="70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活 動 內 容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228564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Times New Roman"/>
              </a:rPr>
              <a:t>講座部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民意研究計劃 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2004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日新聞公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「民意網站」簡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電話調查抽樣方法簡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Times New Roman"/>
              </a:rPr>
              <a:t>參觀部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介紹電腦輔助電話調查系統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電話訪問示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圖片展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hab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hab4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666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研究計劃成員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出席論壇、研討會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及新聞發佈會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resscon1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resscon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resscon8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resscon9" descr=""/>
          <p:cNvPicPr/>
          <p:nvPr/>
        </p:nvPicPr>
        <p:blipFill>
          <a:blip r:embed="rId1"/>
          <a:stretch/>
        </p:blipFill>
        <p:spPr>
          <a:xfrm>
            <a:off x="0" y="-355680"/>
            <a:ext cx="10744200" cy="722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resscon10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resscon11" descr=""/>
          <p:cNvPicPr/>
          <p:nvPr/>
        </p:nvPicPr>
        <p:blipFill>
          <a:blip r:embed="rId1"/>
          <a:stretch/>
        </p:blipFill>
        <p:spPr>
          <a:xfrm>
            <a:off x="-380880" y="25560"/>
            <a:ext cx="998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190512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謝謝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民意研究計劃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2004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27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日 新聞公報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公報原文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民意網站內中文公報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14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上網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民意網站內英文公報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14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上網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民意網絡集體電郵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14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發出）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本地傳媒集體傳真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22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發出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香港大學「民意網站」簡介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205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最新內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新聞公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民意調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研究報告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民意專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網上資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檔案資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關於我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訪者留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582560"/>
            <a:ext cx="66294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抽樣方法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電話號碼抽樣方法是從住宅電話簿中首先以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隨機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方法抽取「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種籽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」號碼，再以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加一減一加二減二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的方法產生另一組號碼，然後在混合後再過濾重覆號碼，再以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隨機排列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方式排次成為最後樣本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抽取住戶成員的方法是由訪員在成功接觸目標住戶後，用「即將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出生日期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」的方法由當時在家的成員抽取其中一人進行訪問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抽樣方法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71629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各次調查的成功樣本數目都在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5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以上。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20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年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5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月份起，成功樣本數目更增加至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10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以上，兼且根據香港人口的年齡性別分佈加權調整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所有調查都是在嚴格督導下由訪員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親身進行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電話訪問，對象皆為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18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歲或以上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之操粵語的香港市民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簡單總結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920" y="2437920"/>
            <a:ext cx="67053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一般而論，成功樣本數目達到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5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便算可以接受，達到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10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個可算符合國際標準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科學化的抽樣方法比樣本數目更加重要，因為可以用統計理論推算抽樣誤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因此，一般街頭訪問或音頻互動電話錄音訪問不可接受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民意研究者和傳媒工作者都有責任維護民意調查的專業水平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2514600"/>
            <a:ext cx="7391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歡迎瀏覽 香港大學 民意網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bcbcb"/>
                </a:solidFill>
                <a:latin typeface="Times New Roman"/>
              </a:rPr>
              <a:t>香港大學民意研究計劃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109960" y="4191120"/>
            <a:ext cx="634824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我們的工作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8-17T04:06:46Z</dcterms:modified>
  <cp:revision>137</cp:revision>
  <dc:subject/>
  <dc:title>Project Overview</dc:title>
</cp:coreProperties>
</file>