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66BA79-AB39-46C9-94F3-3282053F5908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2DDE-6546-416B-A7EF-C8A278AF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20DE-4714-4184-914F-2549F71E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C5E6-7224-4A37-9220-EBBC34F0A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C1A0-AFC5-4C9D-9F9D-A324B4EC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720A-9A0E-4F2E-9173-9D4A13136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8FCF-BC08-4B78-942E-DE80B1F4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B50F-9535-4F49-B0CA-99262645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2F06-7B73-480D-8FAF-0D1EBC36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3F00-4F23-41CF-88C3-560B12FA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7C01-2D97-4FB9-8997-1DA151FA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17C2-C597-4622-933A-A4263145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4709-00A2-4C54-A450-928761BE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71C7-DBBD-4F9C-A11F-59EB6B28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F646-2DD6-40E1-843B-D5305CC0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1BD9-8CFA-460B-8FD4-353CC6D5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F5D7-750F-4267-88CD-C8066B1A4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2F5A-2C67-464C-A4F7-7EFF16F60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91B3-A8FB-4529-ACB5-EEB33387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D78F-C8BB-4AAA-989E-07EE48E9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577E-DEB7-4B9E-ADE3-5B09E7B0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28FF-E700-4421-B540-0B020F89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F1C1-88A2-42A4-8280-9884EA19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E53F-FADD-4576-9959-31FAFD97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BAC0-DD02-45EF-BE10-88654D19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1264-BEB2-449A-9EAB-46B3232CD97D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EC65-DFC0-474F-BDBB-1C110FE1EBAF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hyperlink" Target="http://hkupop.hku.hk/" TargetMode="External"/><Relationship Id="rId3" Type="http://schemas.openxmlformats.org/officeDocument/2006/relationships/hyperlink" Target="http://hkupop.hku.hk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hyperlink" Target="http://hkupop.hku.hk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69608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e Shiu Socio-Economic Study Project 2004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zh-TW" sz="2800" spc="-1" strike="noStrike">
                <a:solidFill>
                  <a:srgbClr val="ffffff"/>
                </a:solidFill>
                <a:latin typeface="MingLiU"/>
              </a:rPr>
              <a:t>李韶社會經濟考察計劃</a:t>
            </a:r>
            <a:r>
              <a:rPr b="0" lang="zh-TW" sz="2800" spc="-1" strike="noStrike">
                <a:solidFill>
                  <a:srgbClr val="ffffff"/>
                </a:solidFill>
                <a:latin typeface="MingLiU"/>
              </a:rPr>
              <a:t>2004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ORKSHOP ON SOCIAL SURVEYS AND FIELD OBSERVATION</a:t>
            </a:r>
            <a:br>
              <a:rPr sz="3600"/>
            </a:b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社會調研、考察理論及技巧工作坊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43000" y="4876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UNG Ting-yiu Robert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鍾庭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/6/2004, 1830-2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the Survey was Reported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5867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e Daily     16 June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20040616_Apple%20Daily_港人反台獨比率微升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76960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the Survey was Reported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5867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n Wei Pao     16 June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20040616_Wen%20Wei%20Pao_民調反台獨人數上升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70102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the Survey was Reported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62320" y="59436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 Pao     16 June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20040616_Sing%20Pao_市民對兩岸統一信心回升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60199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the Survey was Reported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35053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ro Daily     16 June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20040616_都市日報_調查指港人多反對台獨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297180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the Survey was Reported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56386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tandard     16 June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20040616_HK%20Standard_SAR%20model%20takes%20hit%20in%20poll%20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84836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ne Case of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ield Observ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Project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2361960"/>
            <a:ext cx="72388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MingLiU"/>
              </a:rPr>
              <a:t>台灣總統大選研習團</a:t>
            </a:r>
            <a:r>
              <a:rPr b="1" lang="zh-TW" sz="2800" spc="-1" strike="noStrike">
                <a:solidFill>
                  <a:srgbClr val="ffff00"/>
                </a:solidFill>
                <a:latin typeface="MingLiU"/>
              </a:rPr>
              <a:t>2004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044720" indent="-2034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香港大學學生會、香港大學學生研究隊主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4720" indent="-2034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透過到台灣觀選，讓同學感受大選氣氛，了解台灣政黨發展以及台灣學界、傳媒和民眾對大選的關注；從而引發同學對香港政黨發展，政制改革的探討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4720" indent="-2034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2004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17-20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4720" indent="-2034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29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名同學 ＋ 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名單位代表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ield Observation 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author has been to Taiwan to observe the elections there for many years, he has always kept an eye on the development of the public opinion survey in Taiwan…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rst exit poll of the presidential election in Taiwan…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s observed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edia in Taiwan is not neutr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ademics in Taiwan also not neutr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ivil service also not neutral civil servic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a serious lack of independent middle force in Taiwan society, which is not good for democratic developmen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 a result, they cannot provide a credible middle force to socie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 Column Article 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2362320"/>
            <a:ext cx="60958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7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adequate Support Mechanisms in Taiwan’s Democratic System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7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「台灣民主制度配套不足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ng Kong Economic Journa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Chinese version at POP Si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English version at POP Si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815328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Basics of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ocial Research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utline of This Sess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47560" y="2743200"/>
            <a:ext cx="70866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11131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1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case of public opinion surve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131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2: One case of field observ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131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3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asics of social resear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131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4: Questions and answ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131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5: Closing remar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Kinds of Social Research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24379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brary resear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 resear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naire surv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grou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-depth interviews: face-to-f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stud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pproaching a Research Problem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research problem? How wide? How deep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desired method of data collectio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must it be finish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should the finding be present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academic/intellectual value of the study? What further questions have been generat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Parts of a Research Proposal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/pream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erature re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design or methodolog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naire (if applicabl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schedu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team memb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Parts of a Study Repor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xecutive summ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/pream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design or methodolo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find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questionnaire (if applicabl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docu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team memb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Basics of Project Managemen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ing down objectives and activ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ing network diagra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ing activity du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: analyze, re-plan, and up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s conside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gency pla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 Sample Project Sch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edul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 26: Ori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1: Learning basic concepts; designing a surve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ch 13-19: Taiwan trip (optio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2: Fieldwork and confronting practical proble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3: Data analysis and report compi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3: Final revi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991080" y="2286000"/>
            <a:ext cx="7085520" cy="1573200"/>
            <a:chOff x="991080" y="2286000"/>
            <a:chExt cx="7085520" cy="1573200"/>
          </a:xfrm>
        </p:grpSpPr>
        <p:grpSp>
          <p:nvGrpSpPr>
            <p:cNvPr id="151" name=""/>
            <p:cNvGrpSpPr/>
            <p:nvPr/>
          </p:nvGrpSpPr>
          <p:grpSpPr>
            <a:xfrm>
              <a:off x="991080" y="3196440"/>
              <a:ext cx="7085520" cy="662760"/>
              <a:chOff x="991080" y="3196440"/>
              <a:chExt cx="7085520" cy="662760"/>
            </a:xfrm>
          </p:grpSpPr>
          <p:sp>
            <p:nvSpPr>
              <p:cNvPr id="152" name=""/>
              <p:cNvSpPr/>
              <p:nvPr/>
            </p:nvSpPr>
            <p:spPr>
              <a:xfrm>
                <a:off x="1073520" y="3196440"/>
                <a:ext cx="7003080" cy="483840"/>
              </a:xfrm>
              <a:prstGeom prst="rightArrow">
                <a:avLst>
                  <a:gd name="adj1" fmla="val 36602"/>
                  <a:gd name="adj2" fmla="val 59504"/>
                </a:avLst>
              </a:prstGeom>
              <a:gradFill rotWithShape="0">
                <a:gsLst>
                  <a:gs pos="0">
                    <a:srgbClr val="00ffcc"/>
                  </a:gs>
                  <a:gs pos="100000">
                    <a:srgbClr val="00ccff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79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99108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56708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6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18016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3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83212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45744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8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14612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2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3508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9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8668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5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99940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2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60060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9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264080" y="35521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6/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1157040" y="2286000"/>
              <a:ext cx="2667600" cy="15192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25000" y="2589480"/>
              <a:ext cx="2084400" cy="15156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09400" y="2893320"/>
              <a:ext cx="1834200" cy="15156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236232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Questions an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swer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HKU POP SITE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2971440"/>
            <a:ext cx="76197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hlinkClick r:id="rId1"/>
              </a:rPr>
              <a:t>http:/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hlinkClick r:id="rId2"/>
              </a:rPr>
              <a:t>/hkupop.hku.hk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hlinkClick r:id="rId3"/>
              </a:rPr>
              <a:t>/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ackground Reading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2590560"/>
            <a:ext cx="73152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Zimmerman, D.E. and Muraski, M.L. (1995). The Elements of Information Gathering. Arizona: Oryx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Babbie, E.R. (1990)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. Survey Research Methods, 2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ed. California: Wadswort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KU POP Site at </a:t>
            </a:r>
            <a:r>
              <a:rPr b="0" lang="en-GB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</a:t>
            </a:r>
            <a:r>
              <a:rPr b="0" lang="en-GB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/hkupop.hku.hk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ne Case of Public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pinion Surve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Questions 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MingLiU"/>
              </a:rPr>
              <a:t>你贊唔贊成台灣獨立？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o you agree to Taiwan becoming independent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贊成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gre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唔贊成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agre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唔知</a:t>
            </a: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難講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rd to say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MingLiU"/>
              </a:rPr>
              <a:t>你有無信心大陸同台灣終於能夠統一？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re you confident in the ultimate reunification of Taiwan and Mainland Chin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有信心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ident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冇信心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Confident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唔知</a:t>
            </a: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難講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rd to sa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sult of POP Survey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MingLiU"/>
              </a:rPr>
              <a:t>你贊唔贊成台灣獨立？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o you agree to Taiwan becoming independent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贊成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gre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唔贊成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agre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3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唔知</a:t>
            </a: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難講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rd to sa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MingLiU"/>
              </a:rPr>
              <a:t>你有無信心大陸同台灣終於能夠統一？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re you confident in the ultimate reunification of Taiwan and Mainland Chin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有信心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iden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冇信心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Confiden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2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唔知</a:t>
            </a: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難講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rd to sa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Questions 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MingLiU"/>
              </a:rPr>
              <a:t>你認為「一國兩制」呢種制度是否適用於台灣地區</a:t>
            </a:r>
            <a:r>
              <a:rPr b="1" lang="zh-TW" sz="2400" spc="-1" strike="noStrike">
                <a:solidFill>
                  <a:srgbClr val="ffff00"/>
                </a:solidFill>
                <a:latin typeface="MingLiU"/>
              </a:rPr>
              <a:t>?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o you think "One country, two systems" is applicable to Taiwa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適用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不適用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applica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唔知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難講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rd to sa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sult of POP Survey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MingLiU"/>
              </a:rPr>
              <a:t>你認為「一國兩制」呢種制度是否適用於台灣地區</a:t>
            </a:r>
            <a:r>
              <a:rPr b="1" lang="zh-TW" sz="2400" spc="-1" strike="noStrike">
                <a:solidFill>
                  <a:srgbClr val="ffff00"/>
                </a:solidFill>
                <a:latin typeface="MingLiU"/>
              </a:rPr>
              <a:t>?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o you think "One country, two systems" is applicable to Taiwa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適用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7%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不適用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applic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7%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唔知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難講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rd to sa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6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the Findings were Dispatched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76160" y="2209320"/>
            <a:ext cx="60958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POP Site at http://hkupop.hku.hk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P press release of 15 June 20:04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ss release in Chinese, 13:49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ss release in English, 13:49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lkmail via the POP Network, 13:49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lkfax to all media, 13:51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THK news,15:19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ng Pao website, 15:32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15:43:38Z</dcterms:created>
  <dc:creator>CHUNG Ting-yiu Robert</dc:creator>
  <dc:description/>
  <dc:language>en-US</dc:language>
  <cp:lastModifiedBy>PC84-CLIFF</cp:lastModifiedBy>
  <cp:lastPrinted>2000-02-18T04:31:22Z</cp:lastPrinted>
  <dcterms:modified xsi:type="dcterms:W3CDTF">2004-06-21T02:37:17Z</dcterms:modified>
  <cp:revision>100</cp:revision>
  <dc:subject/>
  <dc:title>Project Overview</dc:title>
</cp:coreProperties>
</file>