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21E687-0C84-4D29-BD98-54E443240BD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B0B-36DB-4581-BAF4-F7EBED01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2102-F2B0-45A4-B6AF-FA9AEEFC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7F8-4947-4BCF-B0EE-20855B1E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3BD-08C2-4959-992D-47E03D1E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1619-426C-4C73-B8BD-B118668A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AD69-0548-47BD-8031-E6742813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D799-D258-4642-9EDD-F872917D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B28B-7F7F-4B7D-A231-F7ED60BF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5792-C99A-4D64-83EB-7F4F038E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59FF-83EF-43CE-971A-D307CD9F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3FA0-CDC0-4E99-8E53-124E2E78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536-6262-4FDA-BFCE-197D7C92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4852-667D-4D49-A00C-77F11FD1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3588-98A3-42AB-8765-518C354B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C20F-E534-4051-BB76-539ABF5D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F0FA-6DA0-4941-8BD0-77CB3963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0900-B05D-4537-8802-351EB34B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1994-DB3B-4BA6-A738-C70F1ADB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6ED-339F-4610-AA8E-97733D9E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8198-7120-41AE-9985-32BFA50D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AEE-5C40-4A63-8143-FD015CEB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838-F617-4F0D-AAFF-81E48B30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E78-2525-4874-90F0-A34D7866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211-A826-4E81-90B6-CA4EDDBD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BC35-8CA8-475C-96E3-C0F438A89294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17A4-93D1-449B-AD4F-870197C17F50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lease/release187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fied Learning Opportunity Programm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ILOP, 2004) </a:t>
            </a: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ORKSHOP ON SOCIAL RESEACH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KILLS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社會研究技巧工作坊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800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31/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2004, 1100-1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Sample Project Sch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edu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 26: Ori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1: Learning basic concepts; designing a surv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ch 13-19: Taiwan trip (optio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2: Fieldwork and confronting practical probl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3: Data analysis and report compi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3: Final revi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91080" y="2286000"/>
            <a:ext cx="7085520" cy="1573200"/>
            <a:chOff x="991080" y="2286000"/>
            <a:chExt cx="7085520" cy="1573200"/>
          </a:xfrm>
        </p:grpSpPr>
        <p:grpSp>
          <p:nvGrpSpPr>
            <p:cNvPr id="117" name=""/>
            <p:cNvGrpSpPr/>
            <p:nvPr/>
          </p:nvGrpSpPr>
          <p:grpSpPr>
            <a:xfrm>
              <a:off x="991080" y="3196440"/>
              <a:ext cx="7085520" cy="662760"/>
              <a:chOff x="991080" y="3196440"/>
              <a:chExt cx="7085520" cy="662760"/>
            </a:xfrm>
          </p:grpSpPr>
          <p:sp>
            <p:nvSpPr>
              <p:cNvPr id="118" name=""/>
              <p:cNvSpPr/>
              <p:nvPr/>
            </p:nvSpPr>
            <p:spPr>
              <a:xfrm>
                <a:off x="1073520" y="319644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910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567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8016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3212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5744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4612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35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866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9994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006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64080" y="35521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157040" y="2286000"/>
              <a:ext cx="2667600" cy="15192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25000" y="2589480"/>
              <a:ext cx="20844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09400" y="2893320"/>
              <a:ext cx="18342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pinion Surveys and HKU POP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6095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OP Site at http://hkupop.hku.h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P press release of 25 May 2004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Press release in Chinese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s release in English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lkmail via the POP Network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lkfax to all media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THK news,162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ng Pao website, 1558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VB story, 1830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V story, 23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ree Topics for Class Discu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4920" y="2437920"/>
            <a:ext cx="7239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study the staff morale of a company, what do you foresee are the main problems, and how would you overcome them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visit a public relations consultant company for day, what would you like to find out, and how would you prepare for your visi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ould like to find out the views of tourists visiting Hong Kong, how would you conduct your stud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RT 2</a:t>
            </a:r>
            <a:br>
              <a:rPr sz="4000"/>
            </a:br>
            <a:br>
              <a:rPr sz="2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ROUP DISCUSS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ree Topics for Class Discu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437920"/>
            <a:ext cx="7239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study the staff morale of a company, what do you foresee are the main problems, and how would you overcome them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visit a public relations consultant company for day, what would you like to find out, and how would you prepare for your visi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ould like to find out the views of tourists visiting Hong Kong, how would you conduct your stud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RT 3</a:t>
            </a:r>
            <a:br>
              <a:rPr sz="4000"/>
            </a:br>
            <a:br>
              <a:rPr sz="2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ROUP PRESENT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ME FINAL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MARK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HKU Student Research Team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eam of volunteer student researchers supported by P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opportunities for students to learn, organize and practice social re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data for public consumption and academic stud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DC03 – 23/11/03, pre-election observations and exit po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Jan1 – 1/1/04 – head counts of New Year R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TW04 – 17-20/3/04, a study trip to Taiw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SU04 – opinion survey of HKU stud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Jun4 – provides support for head counts at June 4 candlelight vigil, and for on-site and on-line surv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LC04 – studies on LC election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HKU POP SITE again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29714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ttp://hkupop.hku.hk/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utline of This Se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2437920"/>
            <a:ext cx="716292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1: Corporate values and professional eth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 of social research, opinion surveys, and HKU P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3: Group discussions on three study top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4: Short presentation by participa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ensified Learning Opportunity Programm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228564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OP is designed for students who aspire to become visionary,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respons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esponsive leaders with strong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tegr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commitment to society and life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886200"/>
            <a:ext cx="6858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Education Unit, H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nsified Learning Opportunity Program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porate Values and Professional Ethics Programme (6 compan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Research Sk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81532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cial Research,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pinion Surveys,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HKU PO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Kinds of Social Research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rary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surv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depth interviews: face-to-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esearch problem? How wide? How dee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esired method of data collec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ust it be finish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hould the finding be presen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cademic/intellectual value of the study? What further questions have been genera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(if applicab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sche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fin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stionnaire (if applicab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ocu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asics of Project Managemen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ing down objectives and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 network dia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ng activity du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: analyze, re-plan, and up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consid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gency pl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6-17T04:41:29Z</dcterms:modified>
  <cp:revision>121</cp:revision>
  <dc:subject/>
  <dc:title>Project Overview</dc:title>
</cp:coreProperties>
</file>