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4C1-9A21-4A0B-8392-21580802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F40-ECBF-4472-B7A6-188087DC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D83-AD1C-40FF-B4E2-7D5E71D8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D24-C0C3-49B8-89BD-2A0A9E3A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B9C-3BD2-4599-AEF9-31C7BF6D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248-2AFB-4C1F-B01F-8D994579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7B6-A82C-45F0-960B-6E1BF690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EE6-A34B-46CF-8844-D3656009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338-AD75-411A-B361-8BA22465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56A-7933-4094-8F88-94105EA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E11-AB19-42C6-9F93-F35F14A6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68D-5FCF-49D3-A351-D004C2F5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E9FB-4AD0-498C-879A-31DD93D31922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poll02.gif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3/20040302_bulkmail.html" TargetMode="External"/><Relationship Id="rId2" Type="http://schemas.openxmlformats.org/officeDocument/2006/relationships/hyperlink" Target="http://hkupop.hku.hk/english/resources/workshops/20040310/atv02.mpg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cr.html" TargetMode="External"/><Relationship Id="rId2" Type="http://schemas.openxmlformats.org/officeDocument/2006/relationships/hyperlink" Target="http://hkupop.hku.hk/english/resources/workshops/20040310/rthk01.html" TargetMode="External"/><Relationship Id="rId3" Type="http://schemas.openxmlformats.org/officeDocument/2006/relationships/hyperlink" Target="http://hkupop.hku.hk/english/resources/workshops/20040310/rthk02.html" TargetMode="External"/><Relationship Id="rId4" Type="http://schemas.openxmlformats.org/officeDocument/2006/relationships/hyperlink" Target="http://hkupop.hku.hk/english/resources/workshops/20040310/mingpao.html" TargetMode="External"/><Relationship Id="rId5" Type="http://schemas.openxmlformats.org/officeDocument/2006/relationships/hyperlink" Target="http://hkupop.hku.hk/english/resources/workshops/20040310/mingpao.html" TargetMode="External"/><Relationship Id="rId6" Type="http://schemas.openxmlformats.org/officeDocument/2006/relationships/hyperlink" Target="http://hkupop.hku.hk/english/resources/workshops/20040310/mingpao.html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wisenews.html" TargetMode="External"/><Relationship Id="rId2" Type="http://schemas.openxmlformats.org/officeDocument/2006/relationships/hyperlink" Target="http://hkupop.hku.hk/english/resources/workshops/20040310/wisenews.html" TargetMode="External"/><Relationship Id="rId3" Type="http://schemas.openxmlformats.org/officeDocument/2006/relationships/hyperlink" Target="http://hkupop.hku.hk/english/resources/workshops/20040310/wisenews.html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l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10-3-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outh China Morning Post  (3-3-20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3" name="20040303_SCMP_Beijing%20hits%20at%20US%20over%20Democrats'%20Washington%20trop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084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Ming Pao: Another Survey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" name="20040303_Ming%20Pao_李：北京如邀訪　取消赴美.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784872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“one country, two systems”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Rating of the top ten political figures in Mainland China and Taiwan (latest figur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Opinion on independence of Taiwa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Opinion on cross-strait reunificatio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Please visit our POP S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9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’s treatment of the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76520"/>
            <a:ext cx="563904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The originals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Release of 9-3-2004 in Chine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Release of 2-3-2004 in Chinese (14:21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bulmail of 2-3-2004 (14:21)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also sent bulkfax to the media (14:24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Electronic news media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Commercial Radio evening news  (18:0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evening news  (19:0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Asia TV evening news  (18:00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057400"/>
            <a:ext cx="67053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.  On-line news media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Metro Finance website (15:35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Commercial Radio website  (15:36, 16:01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RTHK website #1  (16:09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RTHK website #2  (18:51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4"/>
              </a:rPr>
              <a:t>Ming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5"/>
              </a:rPr>
              <a:t> Pao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6"/>
              </a:rPr>
              <a:t> website  (16:4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05120"/>
            <a:ext cx="55623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4.  Print media: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Apple Daily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蘋果日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Wen Wei Po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文匯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Ming Pao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HK Economic Journal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信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Wisenews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 (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慧科新聞資料庫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pple Daily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6" name="2a_20040303_Apple%20Daily_中央形象受損港人信任度急趺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32600" cy="381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596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Wen Wei 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1" name="2a_20040303_Wen%20Wei%20Pao_調查指特首民望微趺.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Ming Pao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2a_20040303_Ming%20Pao_港大民調：市民對中央信任度下趺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486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ong Kong Economic Journal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9" name="2a_20040303_HK%20Economic%20Journal_港人對中央政府信任度急趺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517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9T11:10:09Z</dcterms:modified>
  <cp:revision>582</cp:revision>
  <dc:subject/>
  <dc:title>無投影片標題</dc:title>
</cp:coreProperties>
</file>