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202-2598-4CDE-AA18-F44ABAB3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E31-E999-4C7E-95E0-87A4CA93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837-C601-48E8-81EF-05AEC987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B6B-7793-4A11-B54C-0F0C154B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B8E-8A5E-43BE-BA8A-BBFAA3BF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835-E9CF-4B39-A28C-205BC319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9C4-9D21-4369-B6AB-430BEDCA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5D8-50F5-4D74-9F4D-AD9EFECC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9E5-870C-4668-9156-F8846038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9D8-4E7F-4FC7-A4CC-86972384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C82-7270-47D6-8B42-5FEED22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910-8234-4850-8054-4474CBF6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998C-3305-4332-9D1A-79A1530BE9F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3 March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447920"/>
            <a:ext cx="70866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The original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Chinese (on-line from 14:2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English (on-line from 14:21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mail sent through our POP Network (14:23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fax was sent to the media at 14:24 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The report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etro news on-line in Chinese (15:35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R news on-line in Chinese (15:36, 16:0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1 on-line in Chinese (16:09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2 on-line in Chinese (18:5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ing Pao news on-line (16:44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905120"/>
            <a:ext cx="71629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828800"/>
            <a:ext cx="739152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300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2T12:40:58Z</dcterms:modified>
  <cp:revision>542</cp:revision>
  <dc:subject/>
  <dc:title>無投影片標題</dc:title>
</cp:coreProperties>
</file>