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59D-3365-4C6D-B3B1-758DA8D7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193-D70C-48AE-ACDD-E72B262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22F-B45C-4219-8CC2-21492B39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6FE-8F73-45A8-A2E4-A6B2629C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52A-4BFC-4078-9026-FE8D1A4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634-0F96-4D2C-9604-73379E86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35F-6D69-426E-89D7-F5ABBD9C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EF1-E670-4D71-A429-656A3EC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371-8DA5-49D9-A4AA-4B095DCF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2BC-A41B-4FB2-A82B-A722B21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959-B8F9-446D-AE6A-122E461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A80-FF21-42C9-AE4A-93D190A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569-11A7-46DD-B2C0-3EF3EC80E9C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popexpress/mostcon/sat/halfyr/chart/halfyr1.gif" TargetMode="External"/><Relationship Id="rId2" Type="http://schemas.openxmlformats.org/officeDocument/2006/relationships/hyperlink" Target="http://hkupop.hku.hk/chinese/popexpress/yearend/datatables7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00"/>
                </a:solidFill>
                <a:latin typeface="Times New Roman"/>
              </a:rPr>
              <a:t>Public Opinion in Policy Making</a:t>
            </a:r>
            <a:br>
              <a:rPr sz="36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Leadership In Action (LIA) Programme No.1, 2003</a:t>
            </a:r>
            <a:br>
              <a:rPr sz="20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Civil Service Training and Development Institute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10552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8-10-20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438280"/>
            <a:ext cx="6476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</a:t>
            </a:r>
            <a:r>
              <a:rPr b="0" i="1" lang="en-US" sz="2500" spc="-1" strike="noStrike">
                <a:solidFill>
                  <a:srgbClr val="ccffff"/>
                </a:solidFill>
                <a:latin typeface="Times New Roman"/>
              </a:rPr>
              <a:t>ad hoc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IS, district offices, APIs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dvisory bodies, special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leaders, business tycoons, pressure groups,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eliberate leakage of information to selected media from “unnamed” sour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98108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, pressure groups, 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 the week of 19/8 - 25/8/2002, local newspapers carried 72 poll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81080"/>
            <a:ext cx="7162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7391520" cy="38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 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s of Secretaries of Departments - Combined chart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br>
              <a:rPr sz="2000"/>
            </a:br>
            <a:r>
              <a:rPr b="1" lang="zh-TW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ople’s Priority as Reflecte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 the Po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eople’s Priority as Reflected in POP Poll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’s most concerned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satisfaction with current political, economic and social conditions - Combined charts 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dissatisfaction with current political, economic and social conditions - Combined charts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What do you think is the most important problem that the government should tackle next year?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The Chief Executive will soon announce his policy address. What should be the focu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05740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ople’s priority as reflected in the pol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Government respect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oes our government resp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ublic opinion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1: Article 23 Legis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209680"/>
          <a:ext cx="7848720" cy="491652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41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24, 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8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b 2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1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7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posals to Implement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mpendium of Submissions on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ational Security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0,000 people took to the stree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3 major concessions, bu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essed ahead for the Jul 9 deadlin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mes Tien resigned from ExC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S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th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egislative programm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4479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286000"/>
          <a:ext cx="7848720" cy="412416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ting guidelines for the 2003   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Election announced by th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lectoral Affairs Commission (EAC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lling time set at 0730 to 1930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 hrs shorter than usual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ntroversy sparked; opinions flooded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EAC (168 submissions received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mocratic Party opposed the new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rrangement and planned to seek f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dicial review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743200"/>
          <a:ext cx="7620120" cy="2992320"/>
        </p:xfrm>
        <a:graphic>
          <a:graphicData uri="http://schemas.openxmlformats.org/drawingml/2006/table">
            <a:tbl>
              <a:tblPr/>
              <a:tblGrid>
                <a:gridCol w="2133720"/>
                <a:gridCol w="5486400"/>
              </a:tblGrid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ew timetable criticized as favorabl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pro-government candidat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cision to slash the polling tim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versed by the EAC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traditional voting hours of 0730 to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30 reinstat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38080" y="18288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362320"/>
          <a:ext cx="7162920" cy="3504960"/>
        </p:xfrm>
        <a:graphic>
          <a:graphicData uri="http://schemas.openxmlformats.org/drawingml/2006/table">
            <a:tbl>
              <a:tblPr/>
              <a:tblGrid>
                <a:gridCol w="1828800"/>
                <a:gridCol w="1095480"/>
                <a:gridCol w="1168560"/>
                <a:gridCol w="439560"/>
                <a:gridCol w="1241280"/>
                <a:gridCol w="13892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286000"/>
          <a:ext cx="7925040" cy="3514680"/>
        </p:xfrm>
        <a:graphic>
          <a:graphicData uri="http://schemas.openxmlformats.org/drawingml/2006/table">
            <a:tbl>
              <a:tblPr/>
              <a:tblGrid>
                <a:gridCol w="1676160"/>
                <a:gridCol w="1558440"/>
                <a:gridCol w="1564920"/>
                <a:gridCol w="216000"/>
                <a:gridCol w="1374480"/>
                <a:gridCol w="153504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762120" y="6095880"/>
            <a:ext cx="685800" cy="304920"/>
          </a:xfrm>
          <a:custGeom>
            <a:avLst/>
            <a:gdLst>
              <a:gd name="textAreaLeft" fmla="*/ 106920 w 685800"/>
              <a:gd name="textAreaRight" fmla="*/ 587160 w 685800"/>
              <a:gd name="textAreaTop" fmla="*/ 90360 h 304920"/>
              <a:gd name="textAreaBottom" fmla="*/ 2145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6413"/>
                </a:moveTo>
                <a:lnTo>
                  <a:pt x="13950" y="6413"/>
                </a:lnTo>
                <a:lnTo>
                  <a:pt x="13950" y="0"/>
                </a:lnTo>
                <a:lnTo>
                  <a:pt x="21600" y="10800"/>
                </a:lnTo>
                <a:lnTo>
                  <a:pt x="13950" y="21600"/>
                </a:lnTo>
                <a:lnTo>
                  <a:pt x="13950" y="15187"/>
                </a:lnTo>
                <a:lnTo>
                  <a:pt x="3375" y="15187"/>
                </a:lnTo>
                <a:close/>
              </a:path>
              <a:path w="21600" h="21600">
                <a:moveTo>
                  <a:pt x="0" y="6413"/>
                </a:moveTo>
                <a:lnTo>
                  <a:pt x="675" y="6413"/>
                </a:lnTo>
                <a:lnTo>
                  <a:pt x="675" y="15187"/>
                </a:lnTo>
                <a:lnTo>
                  <a:pt x="0" y="15187"/>
                </a:lnTo>
                <a:close/>
              </a:path>
              <a:path w="21600" h="21600">
                <a:moveTo>
                  <a:pt x="1350" y="6413"/>
                </a:moveTo>
                <a:lnTo>
                  <a:pt x="2700" y="6413"/>
                </a:lnTo>
                <a:lnTo>
                  <a:pt x="2700" y="15187"/>
                </a:lnTo>
                <a:lnTo>
                  <a:pt x="1350" y="1518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o bias towards any sid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98108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ssons Learnt 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vernment over-sensitive to public press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asty decisions in policy implementation erode efficacy of govern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od consultation vital to new policy initiativ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rust the professionals, trust scientific da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2209680"/>
            <a:ext cx="6553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code of practice in Hong Ko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international dimen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romote a knowledge-based pol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courage independent consultancy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4191120"/>
            <a:ext cx="4648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057400"/>
            <a:ext cx="6934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Don’t forget the 3I’s, which are much better than the 3R’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reasure your  I Q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191120"/>
            <a:ext cx="46483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Ex-FS Antony Leung repeatedly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Let me introduce three new concepts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oretical Aspe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f Public Opin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3-10-08T10:03:30Z</dcterms:modified>
  <cp:revision>528</cp:revision>
  <dc:subject/>
  <dc:title>無投影片標題</dc:title>
</cp:coreProperties>
</file>