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139-B0F9-4BB7-B5FC-DA2DA74A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9D2-1CAA-4A52-B234-E0265753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26D-5A7A-48FA-874D-1E71BCF5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FB7-165C-475D-8B49-FA0E3795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D33-684B-4A59-A9DF-D94FEFD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0F9-3420-40F2-8157-9C3A218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7F9-D86A-447D-A6BC-E1F07111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D7F-9387-47D8-BF84-F73BAD22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A51-2D03-469B-B845-04BAF832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0B9-7FD6-462B-9E04-0C83034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EFE-CB97-474F-B6CD-8787EFE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825-E3D9-4847-8B2D-33BF7CB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D195-0B4D-4E92-9D36-82B7264FA13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200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顯理中學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74320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372960"/>
            <a:ext cx="739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286000"/>
            <a:ext cx="55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整體規劃</a:t>
            </a: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訂定調查目的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界定目標被訪者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確定被訪者認識調查項目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抽選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採用隨機抽樣法，不能隨意更換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781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問卷設計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卷長度要適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避免使用艱深、含糊或帶有感情色彩的詞語或語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題應切合統計調查目的，並力求具體、清晰、直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可供選擇的答案應互相排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3623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581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發佈調查結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人資料須予保密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報告應包括統計調查中各方面的細節，並同時提供所用的統計調查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新聞公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最新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3429000"/>
            <a:ext cx="2286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資源：中學師生民意研究習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2320" y="2514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謝謝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0384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PE01832_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2767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504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2" name="PE02484_" descr=""/>
          <p:cNvPicPr/>
          <p:nvPr/>
        </p:nvPicPr>
        <p:blipFill>
          <a:blip r:embed="rId1"/>
          <a:stretch/>
        </p:blipFill>
        <p:spPr>
          <a:xfrm>
            <a:off x="685800" y="3600360"/>
            <a:ext cx="30956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36232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特質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是個別人士意見的匯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可能是對城中話題或最新政策的表面反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有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362320"/>
            <a:ext cx="6629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影響民意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新聞處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、政策局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半官方機構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間組織，如政黨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意見領袖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者專家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209680"/>
            <a:ext cx="6858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從事民意調查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公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術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組織、志願機構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410080"/>
            <a:ext cx="716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於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19-25/8/200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的七天內， 本地報章刊共刊載民意調查結果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7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份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09680"/>
            <a:ext cx="7239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是政治體系的輸入部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透過咨詢文件收集民意，如印發白紙草案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對政策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、媒介及壓力團體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設定議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以選票或全民投票表達意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代表在議會內發揮民意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BS00580_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7432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74320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08:24Z</dcterms:modified>
  <cp:revision>670</cp:revision>
  <dc:subject/>
  <dc:title>無投影片標題</dc:title>
</cp:coreProperties>
</file>