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41E-7679-4FA9-8487-F876E630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854-A63E-41AF-BD88-9C81645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DE9-F4D4-4327-8AB5-DB53848C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FFC-6291-4895-AEA6-7B54F5F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480-62DE-4349-9FD2-4D5E5C6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67A-B4C0-42ED-AAE4-F20F780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91D-6EAE-4D49-9F64-C86F1DB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E5B-734B-48D8-96F8-227282BE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80C-616B-4738-AE84-741CE84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2E0-0993-4BFE-9C6C-60FB740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A68-F096-492C-8DA9-E304F1A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6A1-8E01-4BEA-BC07-E4A4FFA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A8D-EC5C-4E5C-9D8E-217C5AFF944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Lecture for CSD Senior Command Course No.1/20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2 – 12 - 2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actually repor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3623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 theoretical aspect (very briefl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362320"/>
            <a:ext cx="6705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ther topics and further rea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pinion polling in Greater Chin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“POP Network”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 agai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SA Congress mid-term elections, 5 Nov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yors elections in Taiwan, 7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credibility iss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’s press release this week, 10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CE and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4:46Z</dcterms:modified>
  <cp:revision>537</cp:revision>
  <dc:subject/>
  <dc:title>無投影片標題</dc:title>
</cp:coreProperties>
</file>