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8E-9FBE-49A8-AB02-7F638759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AFF-8CAD-4BC3-B79E-1DCE274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9D9-62E3-47EA-8053-B54B58E4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1C5-C80A-4CCA-85EF-D97B40A7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0BB-5FD4-452C-83BF-A14FDBC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8BE-BDD4-456F-A96F-3CF8177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735-21C0-45E8-AE0B-CCB759F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252-198F-4CE3-A8B3-4E95A02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03C-ED48-4C93-81AE-44BA6A28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E07-31BF-4F6F-BBEE-2F590D4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E83-02F1-41A9-A933-5529DF4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92C-CDC9-4F47-8401-08BE35C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FA1-D449-41B1-8674-2888DA511C4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Lecture on 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0104, 26 November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05740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HKU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puter Assisted Telephone Interview Syst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 with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entation of survey resu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l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sour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rther Rea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etical aspects of “public opinion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0968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Directory of opinion research organizations worldwid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online-survey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Possible Topics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urther studies -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971800"/>
            <a:ext cx="457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0:00-10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1:00-11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:00-00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1:00-01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2:00-02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3:00am or af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2971800"/>
          <a:ext cx="487836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878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657600"/>
            <a:ext cx="4496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ntone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 prefer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733920"/>
          <a:ext cx="63244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324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3:10Z</dcterms:modified>
  <cp:revision>552</cp:revision>
  <dc:subject/>
  <dc:title>無投影片標題</dc:title>
</cp:coreProperties>
</file>