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4160-6C88-40B2-885B-970BFC1A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1B3-0362-4724-A13A-41CC5441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DCB-3CC2-415D-B2ED-34D4A017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380-ABC1-4389-BDF8-04F52B9E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1DD-6D61-4DCA-818C-0950BA23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725-5D78-43CD-A53B-BB68152C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AF6-F1C6-451E-AF75-807316D4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0F9-0ABF-4F2E-BE3A-254250AD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508-98FE-489A-9CC8-371C0DBE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7128-82C2-4107-8489-309E0FC3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84BB-496D-4341-9F01-9FD5CB4F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B69-224A-4187-B4F7-911BF47B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1B61-20F7-4484-9CDA-331A0DCABA29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edia Training and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Public Opinion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Workshop:</a:t>
            </a:r>
            <a:br>
              <a:rPr sz="28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Session on Pubic Opinion</a:t>
            </a:r>
            <a:br>
              <a:rPr sz="2800"/>
            </a:br>
            <a:br>
              <a:rPr sz="1000"/>
            </a:b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傳媒訓練及民意研究工作坊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：民意</a:t>
            </a: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研究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部份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51814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19 – 11 -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1337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New experience and fresh inform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USA Congress mid-term elec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role of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operation of pol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POP release of toda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Rating of top ten Legislative Councillo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Methodology and mis-interpret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oretical Aspects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ublic Opinio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362320"/>
            <a:ext cx="67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 collections of individual opinion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Different from political attitud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eaction to ad hoc issues or policies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hort-term judgment can change over tim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981080"/>
            <a:ext cx="76201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The formation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via government bodies and officials: GIS, district offices, APIs, principal officials, CE Offi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via advisory bodies and committe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via opinion leaders, business tycoons, pressure groups and academic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ntentional leakage of information to specific media organizations or political parties – the “reliable source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198108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commercial sector: market research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academic secto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government sector: HAB, CPU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olitical parties and pressure group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NG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791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etween 19/8 - 25/8/2002, 72 poll reports were carried by local newspapers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981080"/>
            <a:ext cx="7162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Feedback to policy proposals, via Green Papers, White Papers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genda setting, especially via phone-in programmes, letters to the editor, petitions, demonstration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Participation in the electoral proc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Indirect representation in counci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Referend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/c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captu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95280" y="2895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Prac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Interpreting media reports </a:t>
            </a:r>
            <a:r>
              <a:rPr b="1" lang="zh-CN" sz="2800" spc="-1" strike="noStrike">
                <a:solidFill>
                  <a:srgbClr val="ccffff"/>
                </a:solidFill>
                <a:latin typeface="新細明體"/>
              </a:rPr>
              <a:t>－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astering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losing remark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1337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Major carrier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adio phone-in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風波裏的茶杯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Phone 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alk show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政事有心人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18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V prog.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星期一檔案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Newspaper columns, editorials, letters to the editor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Opinion poll repor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205740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514600"/>
            <a:ext cx="7619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roducing the preliminary findings of the MRSHK Projec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The principle of “minimum disclosure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Fieldwork: 19-25/8/2002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1440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99072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Future Development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819520"/>
            <a:ext cx="7620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 code of practice in Hong Ko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roducing the HKU POP Sit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The international dimens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mportance of the 3“I”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ff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mportance of the 3“I”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資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誠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”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自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388ec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88ec8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388ec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388ec8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5238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oncepts of the day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oncepts of the day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v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inh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oncepts of the day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prioritis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organi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engine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981080"/>
            <a:ext cx="7696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Financial Secretary Antony Leung has urged civil servants to embrace the “three Rs” to help build a cost-effective government in Hong Kong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Within Government we need to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priorit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to ensure that the services that utilise resources today is what society wants and needs today.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organ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by creating structures that make the best use of the private sector whilst fulfilling our policy and operational requirements. And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engineer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our own organisations and processes, to avoid duplication and multiple handling, and to use appropriate technologies t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the best effect.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ff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10:06Z</dcterms:modified>
  <cp:revision>523</cp:revision>
  <dc:subject/>
  <dc:title>無投影片標題</dc:title>
</cp:coreProperties>
</file>