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8AC-442B-4761-BAB4-F21CC651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64D-FC14-4D7F-AB45-A2E3093B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424-FFFB-4ACB-AAD2-DCDA41D7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D9C-A19A-43AB-9A4F-989102E4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B98-2516-49E2-AFE7-908EA656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F65-F4D9-40E3-ACCF-C272D3CD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8F1-17CB-4336-B6B2-45AEE9A7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C6B-6888-461B-8C75-7712856E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DD2-7C78-4511-B711-947BA238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BBD-AD9B-4ED6-9FB7-F03CBD8F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5C0-90B9-4A30-9391-B698E66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345-98F3-43DB-9275-FC2C099C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EA48-FF8A-431B-AFF7-E8FC4854C50E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666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民意研究工作坊</a:t>
            </a:r>
            <a:r>
              <a:rPr b="1" lang="zh-TW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472428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主講 </a:t>
            </a: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: </a:t>
            </a: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1 – 10 -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一節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3623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 的定義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個別意見的收集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與政治態度不同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對熱門話題或最新政策的反應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屬短期意見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會隨著時間轉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的形成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政府新聞處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區議會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宣傳短片…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</a:t>
            </a:r>
            <a:r>
              <a:rPr b="1" lang="zh-TW" sz="2400" spc="-1" strike="noStrike">
                <a:solidFill>
                  <a:srgbClr val="ccffff"/>
                </a:solidFill>
                <a:latin typeface="細明體"/>
                <a:ea typeface="細明體"/>
              </a:rPr>
              <a:t>資訊科技及廣播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諮詢委員會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意見領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大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及學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有目的地向特定傳媒或政治團體發放消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進行“民意調查”的主要單位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市場調查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民政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事務局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中央政策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治及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非公營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媒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於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19 - 25/8/2002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一星期內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本地報章刊載調查結果共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72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份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981080"/>
            <a:ext cx="7620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作為政治體系的輸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白紙草案或綠紙草案等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對政策草議作出回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設定議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尤其透過電台節目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讀者來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遊行示威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參與選舉過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局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/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會內的間接代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全民投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二節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三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” 的流程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確認研究目的及探討範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抽樣設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問卷設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工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數據分析及清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報告整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結果發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三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民意研究計劃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POP)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運作示範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CATI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及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電話訪問錄音樣本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WEBCATI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輸入示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品質保證系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數據收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網上日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第三節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分組討論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請選定下列其中一個題目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設計一個問卷調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高官問責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基本法第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23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賭波規範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合法化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其他自訂題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~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請每組於討論後派代表作出簡報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程序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05740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09:00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09:30       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理論基礎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0:40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1:40 </a:t>
            </a:r>
            <a:r>
              <a:rPr b="1" lang="zh-TW" sz="2500" spc="-1" strike="noStrike">
                <a:solidFill>
                  <a:srgbClr val="ccffff"/>
                </a:solidFill>
                <a:latin typeface="新細明體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研究設計實習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4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5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展望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6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總結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目的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探究性質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初步計劃而進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政策收集意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哪方面的意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宣傳政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宣傳方向是甚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範圍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全面性調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個別政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目標對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原因何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設計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何選擇電話訪問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焦點小組討論可行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論述型民調可行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資源限制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時限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經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5120"/>
            <a:ext cx="7010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與媒體及社會大眾的聯繫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進行研究的目的是甚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調查結果重點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調查的公信力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是否獨立進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媒體的初步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民意領袖的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社會大眾的進一步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第四節 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1337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反映“民意” 的主要單位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電台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清談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電視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鏗鏘集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專欄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社評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讀者來函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調查部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媒體報告” 的特點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議題設定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傾向集中報導負面消息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煽情手法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/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譁眾取寵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大量運用圖象以添視覺效果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由</a:t>
            </a:r>
            <a:r>
              <a:rPr b="1" lang="zh-TW" sz="2500" spc="-1" strike="noStrike">
                <a:solidFill>
                  <a:srgbClr val="ccecff"/>
                </a:solidFill>
                <a:latin typeface="Times New Roman"/>
              </a:rPr>
              <a:t>媒體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自己進行的調查獲較大篇幅報導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MRSHK Project”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的初步結果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基本資料報導” 的原則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日期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19 - 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完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六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研究的展望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民意專業守則初擬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網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國際展望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自由討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六節 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二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同時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緊記三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7621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科學化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公正持平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真實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全面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充滿學問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209680"/>
            <a:ext cx="4496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合乎道德標準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專業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“honesty is the best policy”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主動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ffff"/>
                </a:solidFill>
                <a:uFillTx/>
                <a:latin typeface="Times New Roman"/>
              </a:rPr>
              <a:t>獨特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7524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工作坊 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謝謝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hmet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財政司司長梁錦松提醒本港公務員‚ 要建立一個符合成本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益的政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先要學會三 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”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的原則…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.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我們必須重新考慮資源分配的優先次序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prioritize)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以確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保投放資源的服務為社會上普羅大眾要求及所需。另外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政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府內部架構亦應重組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organize)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盡量善用私營機構去配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政策和運作上的要求。除此之外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更要重新設計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engineer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公營機構的架構和運作模式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避免在工序上出現重覆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務求能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以恰當的技術去取得最大的成效</a:t>
            </a:r>
            <a:r>
              <a:rPr b="1" lang="zh-TW" sz="2200" spc="-1" strike="noStrike">
                <a:solidFill>
                  <a:srgbClr val="ccffff"/>
                </a:solidFill>
                <a:latin typeface="新細明體"/>
                <a:ea typeface="新細明體"/>
              </a:rPr>
              <a:t>。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”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以下為三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”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以下為三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”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1:58Z</dcterms:modified>
  <cp:revision>623</cp:revision>
  <dc:subject/>
  <dc:title>無投影片標題</dc:title>
</cp:coreProperties>
</file>