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B342C-3AC3-47B9-BE3E-CEA42B59093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844-6B10-4639-B6BA-20AAEA6A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746-90BA-4DD9-853A-5F83684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12B-648A-433D-9D9C-E3B6B5DF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C76-5155-4E07-AA67-7A3F88BA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E4B-B978-458E-B736-14231666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C54-CAFD-474A-BE49-F61FF26A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ED32-F4A0-4600-8C07-E3C6C62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ABFF-58FD-4CA1-84AE-90747ACD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477-4C4B-45D5-9F6F-6DDF1A38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363E-A005-4C31-B99C-7DF1F23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122-BE4A-4908-A4A6-9589E58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524-82E8-46A1-873B-4853D6E1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A669-6D4E-4894-BA66-649B6E1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4405-CE6C-49D3-A034-B8CBEB6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CAD-D98B-486D-B57E-F2B5282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852-5D25-4C1B-83CD-23F79EA5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CF5-E461-4D32-9AFB-68582154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068-2465-4FD5-B909-ED584BC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6F2-EC77-4A0F-91F2-753EC2EE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5CB-3FE4-42AD-984D-B01BB7B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C97-F44B-4A82-85D7-82E26B9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592-3FE5-427E-B986-98E8BF5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B60-4991-4BBE-83F8-BCD96FA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D1-3FAC-42F6-8477-6A6BD2B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912-3A3B-45C0-A7FA-E44DB2B8E5E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EFE9-88C7-498C-95F2-1686494E311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 Shiu and the Two Cities Projects 200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及雙城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2</a:t>
            </a:r>
            <a:br>
              <a:rPr sz="28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JECT  MANAGEMENT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如何策劃研究計劃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/6/2002, 1830-2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2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1: Introduction to the basic concepts of social research and projec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: Small group discussions on three sample study 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3: Short presentation by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4: A sample presentation session by the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do, J. (1985). An Introduction to Project Planning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d. New York: Industrial P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wis, J.P. (1995). Project Planning, Scheduling &amp; Control, revised ed. New York: McGraw-Hi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urvey questions for the class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. Would you prefer to be kept abreast of the scores, or would you prefer not to know anything about 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the end of the first 90 minutes, what do you guess would be the result of the scor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&gt; BG+3;  BZ = BG+3; BZ = BG+2; BZ = BG+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= BG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G &gt; BZ+3;  BG = BZ+3; BG = BZ+2; BG = BZ+1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re any academic/intellectual value in this stu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class survey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 preferred to be kept abreast of the scores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7% preferred not to know anything about i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7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ss of results at the end of the first 90 minutes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&gt; BG+3 (2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3 (9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2 (68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1 (15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 (3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G &gt; BZ (3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6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ur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live with some hospital patients for two days, what do you like to obser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development of bio-technology industries in Hong Kong, how would you conduct your library resear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4:19Z</dcterms:modified>
  <cp:revision>83</cp:revision>
  <dc:subject/>
  <dc:title>Project Overview</dc:title>
</cp:coreProperties>
</file>