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D348EE-25A6-4C21-9EEA-CBE226707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A70D19-652F-4039-8BC2-149DDF170E6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CE2E84-78E9-4B7F-94C6-41AE8CBA262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0EFC1D-AA1B-4B26-AE22-E84B1BD6AD3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8AB9F3-91C1-4070-8BC2-91B16AB4AC2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6C0306-2A87-4CFC-BA6A-BF2DF612153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6CEDE6-4470-48C6-BEEA-D906149B61F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1E7CBA-75E3-4384-A227-57A7305B696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C061D1-FF8B-4E9E-9EB0-3AD92D8A028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885F99-E49E-454B-8D63-D87B7EA9EB2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5EC5BD-923D-4F14-AD3C-3801710D217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49A-E7F8-4654-A659-5CE9D26B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7C9-FEC0-4EB2-B64D-864A17FA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0C6-6883-4389-842E-8CAD2C86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DE4-B112-4ADF-B44B-801C8CBD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D04-7EA1-429E-BF9F-90E6FAE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E8E-8F51-4C69-83F5-F647435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345-32B3-4AEF-9B0E-77654E51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738-DE2A-4F0A-B948-7DDB3351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E65-7F86-406B-BF3F-4163898A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501-9DA3-49FE-883B-5A245EC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853-2ABB-41D7-B1F9-52F173ED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DC4-DE4D-4B1A-9060-D799AB1D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603B-0D8A-44B4-832F-49393A0E953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035" descr="C:\Documents and Settings\frank\Desktop\index_01.jpg"/>
          <p:cNvPicPr/>
          <p:nvPr/>
        </p:nvPicPr>
        <p:blipFill>
          <a:blip r:embed="rId2"/>
          <a:stretch/>
        </p:blipFill>
        <p:spPr>
          <a:xfrm>
            <a:off x="7391520" y="152280"/>
            <a:ext cx="1504800" cy="36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Object 20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52"/>
          <p:cNvSpPr/>
          <p:nvPr/>
        </p:nvSpPr>
        <p:spPr>
          <a:xfrm>
            <a:off x="2286000" y="112716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6" name="Object 2053"/>
          <p:cNvGraphicFramePr/>
          <p:nvPr/>
        </p:nvGraphicFramePr>
        <p:xfrm>
          <a:off x="1407960" y="1143000"/>
          <a:ext cx="8780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7960" y="11430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灣仔區市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-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人生中期健康意見調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2" name="Picture 9" descr="C:\Documents and Settings\frank\Desktop\index_01.jpg"/>
          <p:cNvPicPr/>
          <p:nvPr/>
        </p:nvPicPr>
        <p:blipFill>
          <a:blip r:embed="rId4"/>
          <a:stretch/>
        </p:blipFill>
        <p:spPr>
          <a:xfrm>
            <a:off x="5638680" y="1284120"/>
            <a:ext cx="2571840" cy="62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c]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身體變差既人士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係咩原因令你既健康狀況變差左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7" name="圖表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268360" y="1341360"/>
            <a:ext cx="64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以下既疾病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4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次序由電腦隨機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2276640"/>
          <a:ext cx="7777440" cy="2679480"/>
        </p:xfrm>
        <a:graphic>
          <a:graphicData uri="http://schemas.openxmlformats.org/drawingml/2006/table">
            <a:tbl>
              <a:tblPr/>
              <a:tblGrid>
                <a:gridCol w="2589480"/>
                <a:gridCol w="1728720"/>
                <a:gridCol w="1728720"/>
                <a:gridCol w="17305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居住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85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流動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59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整體加權樣本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傷風／感冒／咳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281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頭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281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肚痛／胃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281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關節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文字方塊 5"/>
          <p:cNvSpPr/>
          <p:nvPr/>
        </p:nvSpPr>
        <p:spPr>
          <a:xfrm>
            <a:off x="826920" y="17524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於過去一年出現不同徵狀的比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b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關節痛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9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2843280" y="1341360"/>
            <a:ext cx="1584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b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關節痛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98" name="文字方塊 3"/>
          <p:cNvSpPr/>
          <p:nvPr/>
        </p:nvSpPr>
        <p:spPr>
          <a:xfrm>
            <a:off x="900000" y="669960"/>
            <a:ext cx="57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916360" y="1341360"/>
            <a:ext cx="1511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傷風／感冒／咳嗽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02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傷風／感冒／咳嗽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993080" cy="5111640"/>
          </a:xfrm>
          <a:prstGeom prst="rect">
            <a:avLst/>
          </a:prstGeom>
          <a:ln w="0">
            <a:noFill/>
          </a:ln>
        </p:spPr>
      </p:pic>
      <p:sp>
        <p:nvSpPr>
          <p:cNvPr id="106" name="文字方塊 3"/>
          <p:cNvSpPr/>
          <p:nvPr/>
        </p:nvSpPr>
        <p:spPr>
          <a:xfrm>
            <a:off x="99072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在職／非在職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請問你有冇患過傷風／感冒／咳嗽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10" name="文字方塊 3"/>
          <p:cNvSpPr/>
          <p:nvPr/>
        </p:nvSpPr>
        <p:spPr>
          <a:xfrm>
            <a:off x="900000" y="669960"/>
            <a:ext cx="58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而家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或徵狀需要長期覆診食藥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圖表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692360" y="1268280"/>
            <a:ext cx="1079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而家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或徵狀需要長期覆診食藥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17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190800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而家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或徵狀需要長期覆診食藥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21" name="文字方塊 3"/>
          <p:cNvSpPr/>
          <p:nvPr/>
        </p:nvSpPr>
        <p:spPr>
          <a:xfrm>
            <a:off x="900000" y="669960"/>
            <a:ext cx="557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1835280" y="1341360"/>
            <a:ext cx="1657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9720" y="1143000"/>
            <a:ext cx="7915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85920" y="1989000"/>
            <a:ext cx="7020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探討灣仔區市民的生理及心理健康狀況、他們的飲食習慣以及對灣仔社區環境的意見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：電話調查，另以面訪調查作為輔助分析。本簡報主要針對電話調查之結果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浸會愛羣社會服務處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5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過去一星期計，你身體有冇一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成日有痛楚？有既話，咁係咩地方痛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圖表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3"/>
          <p:cNvSpPr/>
          <p:nvPr/>
        </p:nvSpPr>
        <p:spPr>
          <a:xfrm>
            <a:off x="2050920" y="1341360"/>
            <a:ext cx="72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6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樣以過去一星期計，你有冇失眠或者其他睡眠既問題？有既話，呢個問題有幾經常發生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7" name="圖表 3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矩形 3"/>
          <p:cNvSpPr/>
          <p:nvPr/>
        </p:nvSpPr>
        <p:spPr>
          <a:xfrm>
            <a:off x="1619280" y="1268280"/>
            <a:ext cx="115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生中期生活習慣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7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你有冇試過因為唔舒服而要睇醫生，請包括西醫、中醫及跌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你總共睇過幾多次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圖表 9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516720" y="3087720"/>
            <a:ext cx="2100240" cy="10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72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46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3276720" y="1268280"/>
            <a:ext cx="12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7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你有冇試過因為唔舒服而要睇醫生，請包括西醫、中醫及跌打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你總共睇過幾多次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36" name="文字方塊 3"/>
          <p:cNvSpPr/>
          <p:nvPr/>
        </p:nvSpPr>
        <p:spPr>
          <a:xfrm>
            <a:off x="900000" y="669960"/>
            <a:ext cx="51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性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203640" y="1341360"/>
            <a:ext cx="1655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通常一星期會有幾多小時做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小時當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計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圖表 10" descr=""/>
          <p:cNvPicPr/>
          <p:nvPr/>
        </p:nvPicPr>
        <p:blipFill>
          <a:blip r:embed="rId1"/>
          <a:srcRect l="0" t="0" r="0" b="-21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372360" y="3068640"/>
            <a:ext cx="2315880" cy="11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3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小時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小時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2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1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小時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6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2987640" y="1197000"/>
            <a:ext cx="100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通常一星期會有幾多小時做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小時當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計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4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248436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通常一星期會有幾多小時做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小時當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計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48" name="文字方塊 3"/>
          <p:cNvSpPr/>
          <p:nvPr/>
        </p:nvSpPr>
        <p:spPr>
          <a:xfrm>
            <a:off x="900000" y="669960"/>
            <a:ext cx="59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年齡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2484360" y="126828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9]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有做運動既被訪者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通常會做咩類型既運動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圖表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52" name="矩形 3"/>
          <p:cNvSpPr/>
          <p:nvPr/>
        </p:nvSpPr>
        <p:spPr>
          <a:xfrm>
            <a:off x="2050920" y="1268280"/>
            <a:ext cx="72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圖表 7" descr=""/>
          <p:cNvPicPr/>
          <p:nvPr/>
        </p:nvPicPr>
        <p:blipFill>
          <a:blip r:embed="rId1"/>
          <a:srcRect l="0" t="0" r="0" b="-85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940360" y="3141720"/>
            <a:ext cx="20782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3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76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4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次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5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438280" y="1219320"/>
            <a:ext cx="16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587760" y="126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外出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電話調查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566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、操粵語，並於灣仔居住或上班上學的人士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包括居住及流動人口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0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，當中包括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8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居民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9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流動人士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為雙重身份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體有效回應比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9.8%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4.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60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212400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6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68" name="文字方塊 3"/>
          <p:cNvSpPr/>
          <p:nvPr/>
        </p:nvSpPr>
        <p:spPr>
          <a:xfrm>
            <a:off x="900000" y="669960"/>
            <a:ext cx="73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– 在職／非在職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72" name="文字方塊 3"/>
          <p:cNvSpPr/>
          <p:nvPr/>
        </p:nvSpPr>
        <p:spPr>
          <a:xfrm>
            <a:off x="900000" y="669960"/>
            <a:ext cx="51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 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性別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205092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字方塊 2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一星期平均會外出用膳幾多次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但唔包括早餐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176" name="文字方塊 3"/>
          <p:cNvSpPr/>
          <p:nvPr/>
        </p:nvSpPr>
        <p:spPr>
          <a:xfrm>
            <a:off x="900000" y="669960"/>
            <a:ext cx="66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深入分析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– 在職／非在職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流動人口組別</a:t>
            </a:r>
            <a:r>
              <a:rPr b="1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95640" y="1341360"/>
            <a:ext cx="1655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有冇吸煙既習慣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每日通常會食幾多枝煙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註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包煙有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枝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圖表 9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058080" y="3573360"/>
            <a:ext cx="2114280" cy="112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有吸煙習慣者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11.1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10.5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枝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3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11.4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枝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3132000" y="126828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2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一星期平均會飲幾多杯有酒精成份既飲品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杯大概以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0ml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包飲品計算。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圖表 1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5986440" y="3141720"/>
            <a:ext cx="2185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有飲酒習慣者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6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杯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杯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57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3.5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杯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71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2627280" y="126828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生中期心理健康 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3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跟住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，你而家既生活有幾開心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之唔開心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之開心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圖表 10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6207120" y="1844640"/>
            <a:ext cx="2109960" cy="10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5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7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9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2771640" y="1197000"/>
            <a:ext cx="16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字方塊 2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4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過去一星期，你有冇試過感到精神緊張或情緒低落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既話，呢個問題有幾經常發生？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圖表 13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93" name="矩形 3"/>
          <p:cNvSpPr/>
          <p:nvPr/>
        </p:nvSpPr>
        <p:spPr>
          <a:xfrm>
            <a:off x="1763640" y="1268280"/>
            <a:ext cx="12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492280"/>
            <a:ext cx="785808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生中期身體健康狀況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5]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回答「完全冇呢個問題」既被訪者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係咩原因令你精神緊張或情緒低落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圖表 1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96" name="矩形 3"/>
          <p:cNvSpPr/>
          <p:nvPr/>
        </p:nvSpPr>
        <p:spPr>
          <a:xfrm>
            <a:off x="1547640" y="1268280"/>
            <a:ext cx="1152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6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感到壓力，你通常會點樣舒緩自己既情緒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圖表 18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99" name="矩形 3"/>
          <p:cNvSpPr/>
          <p:nvPr/>
        </p:nvSpPr>
        <p:spPr>
          <a:xfrm>
            <a:off x="2700360" y="119700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7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係過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，你有冇試過因為情緒問題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.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3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次序由電腦隨機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00000" y="2276640"/>
          <a:ext cx="7775640" cy="2066760"/>
        </p:xfrm>
        <a:graphic>
          <a:graphicData uri="http://schemas.openxmlformats.org/drawingml/2006/table">
            <a:tbl>
              <a:tblPr/>
              <a:tblGrid>
                <a:gridCol w="2592360"/>
                <a:gridCol w="1656000"/>
                <a:gridCol w="1800000"/>
                <a:gridCol w="172728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居住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85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流動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58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整體加權樣本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8564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工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日常生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交生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文字方塊 3"/>
          <p:cNvSpPr/>
          <p:nvPr/>
        </p:nvSpPr>
        <p:spPr>
          <a:xfrm>
            <a:off x="826920" y="1752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因情緒問題而影響其工作／日常生活／社交的百分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灣仔社區環境的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滿意程度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以下各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-7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00000" y="2133720"/>
          <a:ext cx="7848720" cy="3443040"/>
        </p:xfrm>
        <a:graphic>
          <a:graphicData uri="http://schemas.openxmlformats.org/drawingml/2006/table">
            <a:tbl>
              <a:tblPr/>
              <a:tblGrid>
                <a:gridCol w="2703600"/>
                <a:gridCol w="1714680"/>
                <a:gridCol w="1714320"/>
                <a:gridCol w="171612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marL="30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居住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85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流動人口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=258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整體加權樣本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治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交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6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醫療服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文娛康樂設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服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4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68760" rIns="68760" tIns="0" bIns="0" anchor="ctr">
                      <a:noAutofit/>
                    </a:bodyPr>
                    <a:p>
                      <a:pPr lvl="1" marL="361800" indent="-27612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.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環境質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文字方塊 3"/>
          <p:cNvSpPr/>
          <p:nvPr/>
        </p:nvSpPr>
        <p:spPr>
          <a:xfrm>
            <a:off x="826920" y="1600200"/>
            <a:ext cx="60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對灣仔七個範疇的滿意程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c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交通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09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2627280" y="1341360"/>
            <a:ext cx="1728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e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醫療服務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13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26836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d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教育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17" name="文字方塊 3"/>
          <p:cNvSpPr/>
          <p:nvPr/>
        </p:nvSpPr>
        <p:spPr>
          <a:xfrm>
            <a:off x="900000" y="669960"/>
            <a:ext cx="64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在職／非在職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矩形 4"/>
          <p:cNvSpPr/>
          <p:nvPr/>
        </p:nvSpPr>
        <p:spPr>
          <a:xfrm>
            <a:off x="2627280" y="1341360"/>
            <a:ext cx="1657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8g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問你對於灣仔係社會服務方面有幾滿意或者唔滿意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讀出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a-g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項，次序電腦隨機排列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21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2268360" y="1341360"/>
            <a:ext cx="165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9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灣仔區有邊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方面最需要改善，而改善咗就可以提升你既生活質素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最多可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4" name="圖表 19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225" name="矩形 3"/>
          <p:cNvSpPr/>
          <p:nvPr/>
        </p:nvSpPr>
        <p:spPr>
          <a:xfrm>
            <a:off x="2627280" y="1197000"/>
            <a:ext cx="1297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圖表 1" descr=""/>
          <p:cNvPicPr/>
          <p:nvPr/>
        </p:nvPicPr>
        <p:blipFill>
          <a:blip r:embed="rId1"/>
          <a:srcRect l="0" t="0" r="0" b="-34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文字方塊 6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自己而家既健康狀況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差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好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6227640" y="1773360"/>
            <a:ext cx="20894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平均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整體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居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8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84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流動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 6.9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分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標楷體"/>
              </a:rPr>
              <a:t>:259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2771640" y="1268280"/>
            <a:ext cx="79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字方塊 1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0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未來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月，你有冇打算搬離灣仔或者唔再係灣仔返工／返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圖表 15" descr=""/>
          <p:cNvPicPr/>
          <p:nvPr/>
        </p:nvPicPr>
        <p:blipFill>
          <a:blip r:embed="rId1"/>
          <a:srcRect l="0" t="0" r="0" b="-42"/>
          <a:stretch/>
        </p:blipFill>
        <p:spPr>
          <a:xfrm>
            <a:off x="900000" y="1125360"/>
            <a:ext cx="7993080" cy="5183280"/>
          </a:xfrm>
          <a:prstGeom prst="rect">
            <a:avLst/>
          </a:prstGeom>
          <a:ln w="0">
            <a:noFill/>
          </a:ln>
        </p:spPr>
      </p:pic>
      <p:sp>
        <p:nvSpPr>
          <p:cNvPr id="228" name="矩形 3"/>
          <p:cNvSpPr/>
          <p:nvPr/>
        </p:nvSpPr>
        <p:spPr>
          <a:xfrm>
            <a:off x="1619280" y="1341360"/>
            <a:ext cx="115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858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280" y="1052280"/>
            <a:ext cx="753912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1258920" y="2574000"/>
            <a:ext cx="734544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對自己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健康的平均評分為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6.9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分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年紀越大，評分越低。接近七成表示過去一星期沒有失眠或其他睡眠問題；逾五成半表示身體未有任何痛楚。兩成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運動的習慣，而運動人士平均每星期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，當中又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-6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的居民運動最多，平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心理健康方面，被訪者的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開心指數平均為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6.8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分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超過半數表示過去一星期沒有感到精神緊張或情緒低落，大多數表示過去一年沒有因為情緒問題而影響其工作、日常生活或社交生活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環境方面，少於三成滿意灣仔的「環境質素」，不足四成滿意區內的「社會服務」和「文娛康樂設施」，而流動人口對各個項目的滿意程度，全部低於居住人口。被訪者認為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首要改善的地方均與環境質素有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例如「空氣質素」、「人口密度過高」、「交通擠塞」和「街道清潔」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圖表 1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73" name="文字方塊 7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自己而家既健康狀況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差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好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性別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2340000" y="1341360"/>
            <a:ext cx="13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字方塊 7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首先，請你用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自己而家既健康狀況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差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極好，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半半。你會俾幾多分自己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7" name="圖表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78" name="文字方塊 3"/>
          <p:cNvSpPr/>
          <p:nvPr/>
        </p:nvSpPr>
        <p:spPr>
          <a:xfrm>
            <a:off x="900000" y="669960"/>
            <a:ext cx="53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深入分析 – 年齡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住人口組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1979640" y="1341360"/>
            <a:ext cx="1368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字方塊 6"/>
          <p:cNvSpPr/>
          <p:nvPr/>
        </p:nvSpPr>
        <p:spPr>
          <a:xfrm>
            <a:off x="900000" y="634680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a]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比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前，你覺得你既健康狀況係好左、差左，定係冇變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1" name="圖表 1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112000"/>
          </a:xfrm>
          <a:prstGeom prst="rect">
            <a:avLst/>
          </a:prstGeom>
          <a:ln w="0">
            <a:noFill/>
          </a:ln>
        </p:spPr>
      </p:pic>
      <p:sp>
        <p:nvSpPr>
          <p:cNvPr id="82" name="矩形 3"/>
          <p:cNvSpPr/>
          <p:nvPr/>
        </p:nvSpPr>
        <p:spPr>
          <a:xfrm>
            <a:off x="3851280" y="1341360"/>
            <a:ext cx="720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字方塊 1"/>
          <p:cNvSpPr/>
          <p:nvPr/>
        </p:nvSpPr>
        <p:spPr>
          <a:xfrm>
            <a:off x="900000" y="6237360"/>
            <a:ext cx="792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b]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身體變好既人士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係咩原因令你既健康狀況改善左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，訪員追問「仲有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直至被訪者答「沒有」為止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4" name="圖表 1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85" name="矩形 3"/>
          <p:cNvSpPr/>
          <p:nvPr/>
        </p:nvSpPr>
        <p:spPr>
          <a:xfrm>
            <a:off x="1835280" y="1341360"/>
            <a:ext cx="720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Valued Acer Customer</cp:lastModifiedBy>
  <cp:lastPrinted>2001-04-04T10:00:24Z</cp:lastPrinted>
  <dcterms:modified xsi:type="dcterms:W3CDTF">2010-12-16T17:28:19Z</dcterms:modified>
  <cp:revision>1633</cp:revision>
  <dc:subject/>
  <dc:title>無投影片標題</dc:title>
</cp:coreProperties>
</file>