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93DDC0-1DF0-4768-AE83-D21554909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6A1C8B-9C2A-4D07-B23F-8AEA4E050D9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0B2327-F2A8-4872-8C72-600531A0205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2152FF-4C10-4B8F-A75E-9C34CF36796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467B54-B0E2-4597-BC39-E7A80899032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EFEF39-0EFF-47E8-81C3-9580EE9528D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2E3B5-615C-46C7-9DEF-8D44E773B83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D637B8-727B-49A4-9F66-35E79B37FCA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80CDF4-CB81-4784-96AE-9FAFE66F366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8F8C45-C4A6-4E67-8D0F-633F26B37F9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7A99F0-83E5-4865-92EF-838F6F1940F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2421BF-1297-478C-96EC-87B733FCB3F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90D0C5-ADAD-4F86-BD2C-B099037476E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07EE41-391F-47EC-97FC-5FE936EA879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025059-0146-4D5A-86C5-54E22C1BCA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994B4C-8493-4FC6-A715-40CE65ABDFD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F89AC6-04EF-47EB-BBF8-E638C4F67F7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85AA8E-F47A-41F5-A86F-E558F6C3A6C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AF87A5-92D0-4D52-A5E9-E2B39A877B2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60EA50-B505-41F8-82F8-9460E367DC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02A56E-396F-4EFD-A339-88F8B75DF96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379F70-6099-4284-944E-5B37B789C17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1A6851-2181-4A55-9C74-A0C5774392E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DFC-A28F-4B45-9517-9431AA66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1B8-E730-456F-A602-D8ED2B9F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235-55D8-4308-88DC-90D9A417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3E0-E704-4F2F-B355-71A38C51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C2C-276E-45B3-9D85-66CD7EE2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728-E842-4DF0-B230-A959D46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63D-3DE6-452F-99C6-9D203EDE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AA9-ACF2-4429-ACC1-A7B06402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D39-855F-4283-97BE-82C5843F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46C-DE27-4B69-A020-72E4040B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A5B-10A7-49DC-B25A-9D58FEB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B77-7BDA-437E-A8EB-2D04261F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2A64-3FEB-4B8F-B94F-204DB0205073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5D4-AB7B-4045-9058-A4EFA2F6B2F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5"/>
          <p:cNvSpPr/>
          <p:nvPr/>
        </p:nvSpPr>
        <p:spPr>
          <a:xfrm>
            <a:off x="4643280" y="304920"/>
            <a:ext cx="411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科主任對「課本、教材分拆定價政策」意見調查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Picture 16" descr="actpo"/>
          <p:cNvPicPr/>
          <p:nvPr/>
        </p:nvPicPr>
        <p:blipFill>
          <a:blip r:embed="rId4"/>
          <a:stretch/>
        </p:blipFill>
        <p:spPr>
          <a:xfrm>
            <a:off x="914400" y="15228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7" descr="HKEPA-logo"/>
          <p:cNvPicPr/>
          <p:nvPr/>
        </p:nvPicPr>
        <p:blipFill>
          <a:blip r:embed="rId5"/>
          <a:stretch/>
        </p:blipFill>
        <p:spPr>
          <a:xfrm>
            <a:off x="160020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52"/>
          <p:cNvSpPr/>
          <p:nvPr/>
        </p:nvSpPr>
        <p:spPr>
          <a:xfrm>
            <a:off x="762120" y="1828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8" name="Object 2053"/>
          <p:cNvGraphicFramePr/>
          <p:nvPr/>
        </p:nvGraphicFramePr>
        <p:xfrm>
          <a:off x="1828800" y="914400"/>
          <a:ext cx="878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科主任對「課本、教材分拆定價政策」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意見調查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18129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英文教出版事業協會   香港教育出版商會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" name="Picture 13" descr="actpo"/>
          <p:cNvPicPr/>
          <p:nvPr/>
        </p:nvPicPr>
        <p:blipFill>
          <a:blip r:embed="rId3"/>
          <a:stretch/>
        </p:blipFill>
        <p:spPr>
          <a:xfrm>
            <a:off x="4191120" y="811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KEPA-logo"/>
          <p:cNvPicPr/>
          <p:nvPr/>
        </p:nvPicPr>
        <p:blipFill>
          <a:blip r:embed="rId4"/>
          <a:stretch/>
        </p:blipFill>
        <p:spPr>
          <a:xfrm>
            <a:off x="6697800" y="685800"/>
            <a:ext cx="10746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690480" y="1604880"/>
          <a:ext cx="839016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4880"/>
                    <a:ext cx="839016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E84-C9BA-41DD-A670-1A4A91006D2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可以自由選擇，你認為「課本、教材分拆定價政策」應該何時開始實施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橢圓 4"/>
          <p:cNvSpPr/>
          <p:nvPr/>
        </p:nvSpPr>
        <p:spPr>
          <a:xfrm>
            <a:off x="1258920" y="6353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31E-7C23-4B77-B4F2-A6D5E347DBE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這個政策落實推行時，你預計 貴校是否有足夠財政資源購買分拆後的教材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橢圓 4"/>
          <p:cNvSpPr/>
          <p:nvPr/>
        </p:nvSpPr>
        <p:spPr>
          <a:xfrm>
            <a:off x="3924360" y="155736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橢圓 4"/>
          <p:cNvSpPr/>
          <p:nvPr/>
        </p:nvSpPr>
        <p:spPr>
          <a:xfrm>
            <a:off x="3995640" y="6021360"/>
            <a:ext cx="31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E2B-148B-4D94-95D2-7B93AFD8032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若果沒有出版社提供的教師用書、作業及工作紙答案、試題庫、多媒體材料等教材，而假設你的教時和工作量不變，你會不會自行製作教材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24A-3AEC-4F34-B251-E8B60494EFB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不會」者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你會自行製作教材，你會如何比較有關教材與出版商提供的教材？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55D2-1A33-438C-8111-CDB4FB95378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政府在實施「課本、教材分拆定價政策」的同時，必須具備一套獨立於整筆撥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road grant fund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可持續撥款機制配合。你傾向支持還是反對這個意見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橢圓 4"/>
          <p:cNvSpPr/>
          <p:nvPr/>
        </p:nvSpPr>
        <p:spPr>
          <a:xfrm>
            <a:off x="219564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D72-F240-4895-AED5-97E34374CFA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遠而言，你認為「課本、教材分拆定價政策」對教學質素會帶來正面、負面、還是中性影響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橢圓 4"/>
          <p:cNvSpPr/>
          <p:nvPr/>
        </p:nvSpPr>
        <p:spPr>
          <a:xfrm>
            <a:off x="493236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3E31-21AA-4C56-9414-7FB1431DD8C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2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由出版商提供的教材對老師的教學有沒有幫助？ 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橢圓 4"/>
          <p:cNvSpPr/>
          <p:nvPr/>
        </p:nvSpPr>
        <p:spPr>
          <a:xfrm>
            <a:off x="219564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橢圓 5"/>
          <p:cNvSpPr/>
          <p:nvPr/>
        </p:nvSpPr>
        <p:spPr>
          <a:xfrm>
            <a:off x="1979640" y="1484280"/>
            <a:ext cx="64944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17D7-8635-4BB7-81BB-83898823B4C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由出版社代表提供的到校服務，如工作坊，對老師的教學有沒有幫助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橢圓 4"/>
          <p:cNvSpPr/>
          <p:nvPr/>
        </p:nvSpPr>
        <p:spPr>
          <a:xfrm>
            <a:off x="3348000" y="602136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橢圓 4"/>
          <p:cNvSpPr/>
          <p:nvPr/>
        </p:nvSpPr>
        <p:spPr>
          <a:xfrm>
            <a:off x="1979640" y="364500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DE4-FA32-472E-BADF-D66C67D8A2D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765000"/>
            <a:ext cx="7767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出版商可以將教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教師用書、作業及工作紙答案、試題庫、多媒體材料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直接賣給家長，你傾向支持還是反對這個意見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橢圓 4"/>
          <p:cNvSpPr/>
          <p:nvPr/>
        </p:nvSpPr>
        <p:spPr>
          <a:xfrm>
            <a:off x="4932360" y="602136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370B-D9F8-497F-A6CF-40CAE9A3BEA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764640"/>
            <a:ext cx="7767360" cy="8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現時發放給家長的書簿津貼是否足夠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2F6E-147B-4653-A202-4EC682555F6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8840" y="2276640"/>
            <a:ext cx="7020000" cy="36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了解中、小學學科主任老師對「課本、教材分拆定價政策」的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認識、支持程度和對教學質素影響的評估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會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001-7D81-4DFA-AC48-D3253E1FD29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071360"/>
            <a:ext cx="746748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214280" y="3195000"/>
            <a:ext cx="7624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科主任普遍對「課本、教材分拆定價政策」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認識不多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表示對方案「認識少」或「認識一般」的合計超過九成。同時亦超過九成表示政府就有關政策對學界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諮詢不足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兩者都跟去年針對校長的調查結果相若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超過四成學科主任表示校方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沒有足夠資源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購買分拆後的教材，小學學科主任尤其憂慮。與校長一樣，學科主任普遍要求政府提供一套獨立於整筆撥款的可持續撥款機制，以配合方案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出版社不再提供教材，又假設學科主任的教時和工作量不變，四成表示會自行製作教材，但當中只有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少數表示自製教材可以保持甚至超越現時教材的質素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整體而言，認為「課本、教材分拆定價政策」可以提升教學質素者不足一成，超過四成認為有負面影響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4DE-2419-4FDD-BF8F-5D6ECF42D55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1071360"/>
            <a:ext cx="746748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258920" y="3062880"/>
            <a:ext cx="72435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現有教材的評價方面，學科主任普遍認為現時由出版商提供的教材對老師「幫助大」，當中又以小學學科主任的評價最為正面。至於由出版社代表提供的到校服務，過半學科主任的評價為「幫助一般」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半學科主任認為「課本、教材分拆定價政策」不能達到「用者自付」的原則，超過四分三認為學界沒有足夠時間配合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/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年推行政策，超過七成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反對出版商把教材直接賣給家長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超過四成希望有關政策會在教育局提出撥款機制後才開始實施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各次調查的結果，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校長、老師和一般家長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意見已經得到反映。至於其他持份者的意見，則有待其他調查研究補足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DB8-ECD5-4598-876A-2DA2028ABD9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A0E3-BDF9-4492-B345-94555E2D4D5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3920" y="1773000"/>
            <a:ext cx="736308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港中、小學任職的學科主任，國際學校及特殊學校除外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學的學科包括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中文、英文、數學和綜合科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限初中級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而小學則包括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中文、英文、數學及常識學科</a:t>
            </a:r>
            <a:r>
              <a:rPr b="0" lang="zh-TW" sz="22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填問卷形式進行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82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小學學科主任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76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初中學科主任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46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高中學科主任，即共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64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.5%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2.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F940-138D-4C63-8142-C3B2C3D0BC4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接到本問卷之前，你對教育局建議的「課本、教材分拆定價政策」認識幾多？</a:t>
            </a: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橢圓 4"/>
          <p:cNvSpPr/>
          <p:nvPr/>
        </p:nvSpPr>
        <p:spPr>
          <a:xfrm>
            <a:off x="4356000" y="6021360"/>
            <a:ext cx="31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橢圓 8"/>
          <p:cNvSpPr/>
          <p:nvPr/>
        </p:nvSpPr>
        <p:spPr>
          <a:xfrm>
            <a:off x="6095880" y="2438280"/>
            <a:ext cx="648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0DF-75A9-4715-B13D-FE1FF8BF629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局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發表的「課本及電子學習資源發展專責小組」報告書內建議，將課本、教材和學材分拆定價，即學校和老師必須向出版社購買教師用書、作業及工作紙答案、試題庫、多媒體材料等教材，以達到用者自付的原則。請問你傾向支持還是反對這個建議？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1" name="Object 5"/>
          <p:cNvGraphicFramePr/>
          <p:nvPr/>
        </p:nvGraphicFramePr>
        <p:xfrm>
          <a:off x="1251000" y="1733400"/>
          <a:ext cx="7439040" cy="49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33400"/>
                    <a:ext cx="7439040" cy="49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橢圓 4"/>
          <p:cNvSpPr/>
          <p:nvPr/>
        </p:nvSpPr>
        <p:spPr>
          <a:xfrm>
            <a:off x="4859280" y="6126120"/>
            <a:ext cx="12254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橢圓 5"/>
          <p:cNvSpPr/>
          <p:nvPr/>
        </p:nvSpPr>
        <p:spPr>
          <a:xfrm>
            <a:off x="4716360" y="208764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DA74-7BE1-487E-AF62-B45BA5ACE45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支持與否，你認為這個政策能否達到「用者自付」的原則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橢圓 4"/>
          <p:cNvSpPr/>
          <p:nvPr/>
        </p:nvSpPr>
        <p:spPr>
          <a:xfrm>
            <a:off x="4211640" y="5950080"/>
            <a:ext cx="100800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0893-4A2D-4E71-9963-1741C25C556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今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，教育局宣佈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/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年推行「課本、教材分拆定價政策」。請問你認為學界是否有足夠時間作出配合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橢圓 5"/>
          <p:cNvSpPr/>
          <p:nvPr/>
        </p:nvSpPr>
        <p:spPr>
          <a:xfrm>
            <a:off x="4140360" y="5950080"/>
            <a:ext cx="1152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0B47-2419-4332-9766-D564836943A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政府就有關政策對學界的諮詢是否足夠？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1251000" y="1596960"/>
          <a:ext cx="743904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596960"/>
                    <a:ext cx="7439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橢圓 4"/>
          <p:cNvSpPr/>
          <p:nvPr/>
        </p:nvSpPr>
        <p:spPr>
          <a:xfrm>
            <a:off x="3276720" y="6021360"/>
            <a:ext cx="3166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733B-0757-43EE-9CE9-D333A80562D6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可以自由選擇，你認為「課本、教材分拆定價政策」應該何時開始實施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選一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1262160" y="1596960"/>
          <a:ext cx="744372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596960"/>
                    <a:ext cx="744372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1-02-16T13:18:01Z</dcterms:modified>
  <cp:revision>1676</cp:revision>
  <dc:subject/>
  <dc:title>無投影片標題</dc:title>
</cp:coreProperties>
</file>