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4FF852-6A67-42CE-8940-D04FC83B5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DFA5FE-BDA4-4455-B673-234A426D923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BCDDB7-15ED-4FAD-BBAB-239CC82761A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9722AB-4ECB-48F2-8D05-4F7D5EEA9B3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1C6018-B58A-4F1F-B729-E15CD02F2C3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135830-C7F7-491D-ACAD-EE961F96C04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A5229A-C474-4829-A789-620608239DF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FDB275-AD3F-4BCA-B7C4-E1A49FA07E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31515D-D3A8-4275-8082-EDA6D943BF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858C2A-929C-4314-8B5D-E66969FCDFB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F5EE8A-F141-4302-A719-C6FCA4A1194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0BCAD9-D2BC-46A1-AEF2-5D0AB9FD872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47EEAC-36A5-440C-8397-33F3193BD20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FCB663-A81A-4008-8AFD-FA2DDA79FDA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557FB9-CA01-46F6-B7F5-4396BF40899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A1DB44-0028-4BBF-8BC2-14FE125957D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D0E5DE-8469-44B8-B90C-58EEB8C91A5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A0F650-B36B-4438-9CBC-CFDB0D89F2C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A97ADF-CB5F-41FD-918E-F1F98A0520B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6B8826-D028-45E1-988D-225AE0B2B7C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AE8FDE-443A-4167-A02C-FB71BCB6914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238BDC-E155-4EC5-AA3B-DA19AE1ADD0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D6C-0C6D-4AB0-A74A-1A6B0FF3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684-A487-42C7-8505-17E7B83B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D36-4D6D-4F78-A90B-855DB31A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C2C-A36C-4BFE-BBB7-0D8CD575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DBB-5215-4982-95D5-AAAADACD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1DF-FFE8-4EFF-AA48-DE33365A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51F-F97C-487D-B80E-34DAA07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97A-7CF3-4141-8561-A2CB0F96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DCB-E22E-4C56-ADE2-8FD38B86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835-11D4-4B56-AFD9-7EE9C4F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ADE-C9A0-4543-A2B0-60F4390C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E5E-8875-4CB1-8BD6-601A2F3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325-0370-479E-B3BF-13C922778DE1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A7D2-82A7-4CF3-88A6-58E593DB475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5"/>
          <p:cNvSpPr/>
          <p:nvPr/>
        </p:nvSpPr>
        <p:spPr>
          <a:xfrm>
            <a:off x="5562720" y="304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小學校長對課本分拆方案意見調查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" name="Picture 16" descr="actpo"/>
          <p:cNvPicPr/>
          <p:nvPr/>
        </p:nvPicPr>
        <p:blipFill>
          <a:blip r:embed="rId4"/>
          <a:stretch/>
        </p:blipFill>
        <p:spPr>
          <a:xfrm>
            <a:off x="914400" y="152280"/>
            <a:ext cx="533520" cy="438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7" descr="HKEPA-logo"/>
          <p:cNvPicPr/>
          <p:nvPr/>
        </p:nvPicPr>
        <p:blipFill>
          <a:blip r:embed="rId5"/>
          <a:stretch/>
        </p:blipFill>
        <p:spPr>
          <a:xfrm>
            <a:off x="160020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52"/>
          <p:cNvSpPr/>
          <p:nvPr/>
        </p:nvSpPr>
        <p:spPr>
          <a:xfrm>
            <a:off x="762120" y="1828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8" name="Object 2053"/>
          <p:cNvGraphicFramePr/>
          <p:nvPr/>
        </p:nvGraphicFramePr>
        <p:xfrm>
          <a:off x="1828800" y="914400"/>
          <a:ext cx="878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小學校長對課本分拆方案意見調查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18129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英文教出版事業協會   香港教育出版商會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" name="Picture 13" descr="actpo"/>
          <p:cNvPicPr/>
          <p:nvPr/>
        </p:nvPicPr>
        <p:blipFill>
          <a:blip r:embed="rId3"/>
          <a:stretch/>
        </p:blipFill>
        <p:spPr>
          <a:xfrm>
            <a:off x="4191120" y="811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KEPA-logo"/>
          <p:cNvPicPr/>
          <p:nvPr/>
        </p:nvPicPr>
        <p:blipFill>
          <a:blip r:embed="rId4"/>
          <a:stretch/>
        </p:blipFill>
        <p:spPr>
          <a:xfrm>
            <a:off x="6697800" y="685800"/>
            <a:ext cx="10746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F835-25AE-485F-BFE3-97AED0126BF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假如購買所需教材的費用超出學校所能負擔，就你所知有甚麽途徑可以向教育局申請額外津貼呢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CC1-D118-4132-BD63-822139C4F99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倘若 貴校沒有足夠的財政資源購買教材亦未獲得額外撥款，你會怎樣解決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】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7240" y="1703520"/>
          <a:ext cx="827748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03520"/>
                    <a:ext cx="827748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B203-B75C-4E3A-A793-704577547EE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政府在實施「課本分拆方案」的同時，必須具備一套獨立於整筆撥款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oad grant fund)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可持續撥款機制配合。你傾向支持還是反對這個意見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830-05B0-4678-89FC-BF602D2997C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a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政府決定落實推行這個方案，你認為有關方案應該何時開始實施？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年份，只選一項】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7240" y="1703520"/>
          <a:ext cx="827748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03520"/>
                    <a:ext cx="827748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5AB1-02DC-42A6-ABDF-71E38441A78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b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政府決定落實推行這個方案，你認為有關方案應該何時開始實施？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情況，可選多項】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7240" y="1703520"/>
          <a:ext cx="827748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03520"/>
                    <a:ext cx="827748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F4C2-D730-4398-BD38-281D957F12A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遠而言，你認為「課本分拆方案」會對教學質素帶來正面、負面、還是中性影響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AB7D-C033-4409-A3A1-28C5ED38315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2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的教材對 貴校老師的教學有沒有幫助？ 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096-BEAA-41C2-9B05-D727F2017AE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局現正提出將教科書「三年不改版」的規定改為「五年不改版」，你認為延長課本更新週期會對教學質素帶來正面、負面，還是中性影響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85716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27D-3720-4FA9-8B1D-4C1D6284F99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出版商可以將部分支援教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教師用書、教材套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直接賣給家長，你傾向支持還是反對這個意見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952B-1B2D-4C1C-ABDF-43BF7D57395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又有意見認為當局應提早在每年七、八月向家長發放書簿津貼，你傾向支持還是反對這個意見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EC91-E5F0-4269-B3ED-5203E5C499A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28840" y="2142720"/>
            <a:ext cx="70200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探討本地中、小學校長對教育局早前提出的課本分拆訂價方案的認識、支持程度和一般意見 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會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FAB9-71B1-4623-91E7-7CB64CE0D68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071360"/>
            <a:ext cx="746748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1214280" y="2677680"/>
            <a:ext cx="762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長普遍對「課本分拆方案」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認識不多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絕大多數認為教育局對學界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諮詢不足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至於是否支持方案，則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意見紛紜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半校長表示校方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沒有足夠資源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購買分拆後的教材，而一旦方案落實執行，絕大多數表示未知應該動用多少撥款購買教材，亦不清楚向教育局申請額外津貼的途徑，可見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學校尚未掌握足夠資訊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校長普遍要求政府提供一套獨立於整筆撥款的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可持續撥款機制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配合方案。倘若資源不夠，學校會「減少／停止購買教材」或「由老師自行製作教材」應付，可能影響老師的負擔和學生的學習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只有少數校長正面評價方案對教學質素的影響；對「教科書五年不改版」對教學質素的影響，評價則屬中性；對現時教材對老師的幫助，評價就比較正面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校長一般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反對出版商把部分支援教材直接賣給家長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但就支持政府提早在每年七、八月向家長發放書簿津貼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是次調查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只代表校長意見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不一定代表至於老師、家長和學生的意見。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C2B9-39B1-463D-8113-D060212FBE9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68580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D872-6213-4953-B562-D048336AFCF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3920" y="2143080"/>
            <a:ext cx="736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 全港中、小學校長，國際學校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特殊學校除外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填問卷形式進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2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小學校長及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8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中學校長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22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.2%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5.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3451-F891-4ADD-97DD-2E9E4CD8651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對教育局建議的「課本分拆方案」認識幾多？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963720" y="144936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A681-FAC6-4E03-BA1C-4637517AE91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局建議，由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/11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年開始，課本、教材和學材應分拆訂價，讓教師及家長各自購買所需的材料。請問你傾向支持還是反對這個建議？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9" name="Object 1027"/>
          <p:cNvGraphicFramePr/>
          <p:nvPr/>
        </p:nvGraphicFramePr>
        <p:xfrm>
          <a:off x="85716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E9A-CB58-4510-B646-A7BADE5C361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這個方案能否達到「用者自付」的原則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963720" y="1449360"/>
          <a:ext cx="80010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5DF7-0650-436E-940D-925A174569C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政府就有關方案對學界的諮詢屬於足夠還是不夠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963720" y="1449360"/>
          <a:ext cx="80010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312F-8DA3-474E-8B2B-39A9573C1DE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這個方案落實推行，你預計 貴校是否有足夠財政資源購買分拆後的教材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963720" y="1449360"/>
          <a:ext cx="80010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49360"/>
                    <a:ext cx="8001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3AE3-13E2-4810-A87B-0CDA8FD098E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假設方案得到落實，請問 貴校可以動用整筆撥款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oad grant fund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多少金額去購買所需教材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963720" y="1703520"/>
          <a:ext cx="8001000" cy="51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703520"/>
                    <a:ext cx="8001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10-03-17T02:24:36Z</dcterms:modified>
  <cp:revision>1619</cp:revision>
  <dc:subject/>
  <dc:title>無投影片標題</dc:title>
</cp:coreProperties>
</file>