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9EE-EEA9-41A7-A74A-A2176941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A5D-A684-41C9-B96F-59D6B8BC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4D6-AF24-4EC9-874D-231249F7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ADF-1BC1-43AF-83A1-2C6DF924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787-0C5E-40B8-8B1F-E802012E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A59-08FE-4440-ADF0-95F6E290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87C-A2DF-4156-88B4-BAA6CB83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C78-61E4-41D6-BBC1-B94AED4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C65-E3DC-48E8-B0B1-E7B3D85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551-3484-4FD5-86ED-4A30A8B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58C-ED7D-44B1-A34A-4324220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184-C597-4ED4-AFE2-EEF4649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A627-5357-4368-BFAA-5CC03EB2D34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895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人面對壓力的狀況及港人的創意水平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報告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7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920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香港人是否夠創意 </a:t>
            </a:r>
            <a:br>
              <a:rPr sz="42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夠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非常有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2300400"/>
            <a:ext cx="8534520" cy="3937320"/>
            <a:chOff x="228600" y="2300400"/>
            <a:chExt cx="8534520" cy="3937320"/>
          </a:xfrm>
        </p:grpSpPr>
        <p:graphicFrame>
          <p:nvGraphicFramePr>
            <p:cNvPr id="119" name=""/>
            <p:cNvGraphicFramePr/>
            <p:nvPr/>
          </p:nvGraphicFramePr>
          <p:xfrm>
            <a:off x="228600" y="2300400"/>
            <a:ext cx="8534520" cy="3308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300400"/>
                      <a:ext cx="8534520" cy="330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187280" y="5608800"/>
              <a:ext cx="565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96360" y="5608800"/>
              <a:ext cx="9381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9720" y="5608800"/>
              <a:ext cx="754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3-4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9000" y="5608800"/>
              <a:ext cx="754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-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6800" y="5608800"/>
              <a:ext cx="565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5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8520" y="5608800"/>
              <a:ext cx="754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6-7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22920" y="5608800"/>
              <a:ext cx="754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8-9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13640" y="5608800"/>
              <a:ext cx="753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6475320" y="2133720"/>
          <a:ext cx="205740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91920"/>
            <a:ext cx="695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認為亞洲哪個國家</a:t>
            </a: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br>
              <a:rPr sz="4200"/>
            </a:b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城市的人最有創意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2327400"/>
            <a:ext cx="8305920" cy="3818160"/>
            <a:chOff x="380880" y="2327400"/>
            <a:chExt cx="8305920" cy="3818160"/>
          </a:xfrm>
        </p:grpSpPr>
        <p:graphicFrame>
          <p:nvGraphicFramePr>
            <p:cNvPr id="133" name=""/>
            <p:cNvGraphicFramePr/>
            <p:nvPr/>
          </p:nvGraphicFramePr>
          <p:xfrm>
            <a:off x="380880" y="2327400"/>
            <a:ext cx="8305920" cy="3477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327400"/>
                      <a:ext cx="8305920" cy="347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1258920" y="5589720"/>
              <a:ext cx="6094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日本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64000" y="5589720"/>
              <a:ext cx="6094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韓國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43280" y="5589720"/>
              <a:ext cx="9777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新加玻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5589720"/>
              <a:ext cx="6094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中國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5589720"/>
              <a:ext cx="6094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台灣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88000" y="5589720"/>
              <a:ext cx="914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澳洲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51640" y="5589720"/>
              <a:ext cx="833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菲律賓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561348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香港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5589720"/>
              <a:ext cx="609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泰國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9640" y="5589720"/>
              <a:ext cx="609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細明體"/>
                  <a:ea typeface="標楷體"/>
                </a:rPr>
                <a:t>印度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00720" y="5589720"/>
              <a:ext cx="609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細明體"/>
                  <a:ea typeface="標楷體"/>
                </a:rPr>
                <a:t>印尼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5589720"/>
              <a:ext cx="8636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細明體"/>
                  <a:ea typeface="標楷體"/>
                </a:rPr>
                <a:t>無意見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85080" y="5516640"/>
              <a:ext cx="790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唔知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644520" y="2060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33520" y="1736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93680" y="1773360"/>
            <a:ext cx="8915400" cy="4475520"/>
            <a:chOff x="193680" y="1773360"/>
            <a:chExt cx="8915400" cy="4475520"/>
          </a:xfrm>
        </p:grpSpPr>
        <p:graphicFrame>
          <p:nvGraphicFramePr>
            <p:cNvPr id="152" name=""/>
            <p:cNvGraphicFramePr/>
            <p:nvPr/>
          </p:nvGraphicFramePr>
          <p:xfrm>
            <a:off x="193680" y="1773360"/>
            <a:ext cx="8915400" cy="40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680" y="1773360"/>
                      <a:ext cx="891540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042920" y="5619960"/>
              <a:ext cx="11667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太疲倦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精神不集中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5619960"/>
              <a:ext cx="11336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工作太忙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壓力大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29000" y="5619960"/>
              <a:ext cx="11430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心情差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情緒低落時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6000" y="5619960"/>
              <a:ext cx="6462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其他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0" y="5619960"/>
              <a:ext cx="1008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身體不適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5720" y="5619960"/>
              <a:ext cx="10666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無靈感閉塞既時候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8720" y="5619960"/>
              <a:ext cx="10666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  <a:ea typeface="標楷體"/>
                </a:rPr>
                <a:t>唔知／</a:t>
              </a:r>
              <a:br>
                <a:rPr sz="1600"/>
              </a:b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56840"/>
            <a:ext cx="8207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甚麼時候會感到靈感閉塞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會做什麼去激發靈感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352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21080" y="6364440"/>
            <a:ext cx="240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%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50920" y="1773360"/>
            <a:ext cx="8381880" cy="4568040"/>
            <a:chOff x="250920" y="1773360"/>
            <a:chExt cx="8381880" cy="4568040"/>
          </a:xfrm>
        </p:grpSpPr>
        <p:graphicFrame>
          <p:nvGraphicFramePr>
            <p:cNvPr id="168" name=""/>
            <p:cNvGraphicFramePr/>
            <p:nvPr/>
          </p:nvGraphicFramePr>
          <p:xfrm>
            <a:off x="250920" y="1773360"/>
            <a:ext cx="8381880" cy="3970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773360"/>
                      <a:ext cx="8381880" cy="39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1165320" y="5445000"/>
              <a:ext cx="865080" cy="8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看書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,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報紙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,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雜誌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,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漫畫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89200" y="5565600"/>
              <a:ext cx="685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休息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75000" y="5562360"/>
              <a:ext cx="8380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聽音樂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唱歌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6000" y="5574960"/>
              <a:ext cx="811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看電視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5565600"/>
              <a:ext cx="817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做運動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8880" y="5574960"/>
              <a:ext cx="6098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上網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60560" y="5518080"/>
              <a:ext cx="685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行街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70480" y="5574960"/>
              <a:ext cx="685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其他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80320" y="5574960"/>
              <a:ext cx="10666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無任何</a:t>
              </a:r>
              <a:br>
                <a:rPr sz="1600"/>
              </a:b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方法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94720" y="5574960"/>
              <a:ext cx="7938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唔知／</a:t>
              </a:r>
              <a:br>
                <a:rPr sz="1600"/>
              </a:b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難講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甚麽飲品最能激發靈感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令頭腦清醒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1120" y="2433600"/>
          <a:ext cx="862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2433600"/>
                    <a:ext cx="862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376320" y="2438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00160" y="6400800"/>
            <a:ext cx="20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%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是否每日都飲茶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61800" y="2133720"/>
          <a:ext cx="80265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133720"/>
                    <a:ext cx="80265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75720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每日平均會飲幾多杯茶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-36360" y="2276640"/>
          <a:ext cx="8713800" cy="38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2276640"/>
                    <a:ext cx="871380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400800" y="2133720"/>
          <a:ext cx="205740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31760"/>
              </a:tblGrid>
              <a:tr h="452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杯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1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形容飲完一杯茶之後的感覺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細明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04920" y="2209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6437160"/>
            <a:ext cx="36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%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8600" y="2133720"/>
            <a:ext cx="8229600" cy="4207680"/>
            <a:chOff x="228600" y="2133720"/>
            <a:chExt cx="8229600" cy="4207680"/>
          </a:xfrm>
        </p:grpSpPr>
        <p:graphicFrame>
          <p:nvGraphicFramePr>
            <p:cNvPr id="201" name=""/>
            <p:cNvGraphicFramePr/>
            <p:nvPr/>
          </p:nvGraphicFramePr>
          <p:xfrm>
            <a:off x="228600" y="2133720"/>
            <a:ext cx="8229600" cy="3530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133720"/>
                      <a:ext cx="8229600" cy="35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3276720" y="5516640"/>
              <a:ext cx="604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鬆弛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42920" y="5516640"/>
              <a:ext cx="7765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舒服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 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舒暢 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79640" y="5445000"/>
              <a:ext cx="1179360" cy="8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保持頭腦清醒 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 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提神醒腦 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腦轉快Ｄ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95640" y="5516640"/>
              <a:ext cx="11210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幫助消化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21360" y="5516640"/>
              <a:ext cx="11206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其他感覺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96040" y="5516640"/>
              <a:ext cx="9493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無任何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感覺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4720" y="5445000"/>
              <a:ext cx="11210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好少飲茶／唔知／難講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77640" y="549000"/>
            <a:ext cx="85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表示知道以上飲茶的功效是因為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細明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7440" y="1916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37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2270160"/>
            <a:ext cx="8305920" cy="3752280"/>
            <a:chOff x="380880" y="2270160"/>
            <a:chExt cx="8305920" cy="3752280"/>
          </a:xfrm>
        </p:grpSpPr>
        <p:graphicFrame>
          <p:nvGraphicFramePr>
            <p:cNvPr id="214" name=""/>
            <p:cNvGraphicFramePr/>
            <p:nvPr/>
          </p:nvGraphicFramePr>
          <p:xfrm>
            <a:off x="380880" y="2270160"/>
            <a:ext cx="8305920" cy="3562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70160"/>
                      <a:ext cx="8305920" cy="35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042920" y="5638680"/>
              <a:ext cx="114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咖啡因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0920" y="5638680"/>
              <a:ext cx="8496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茶胺酸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5638680"/>
              <a:ext cx="83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兒茶酚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51640" y="5638680"/>
              <a:ext cx="914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不知道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5720" y="5638680"/>
              <a:ext cx="7459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其他成份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0120" y="5638680"/>
              <a:ext cx="83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7640" y="5661000"/>
              <a:ext cx="8301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丹寧酸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95640" y="5661000"/>
              <a:ext cx="838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茶多酚 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飲完一杯咖啡之後的感覺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16080" y="2070000"/>
          <a:ext cx="8001000" cy="33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2070000"/>
                    <a:ext cx="80010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411280" y="5249880"/>
            <a:ext cx="863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舒服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舒暢 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1560" y="5195880"/>
            <a:ext cx="14684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保持頭腦清醒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提神醒腦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腦轉快Ｄ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0360" y="5213520"/>
            <a:ext cx="990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睡意全消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5400" y="2971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89000" y="658332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%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9680" y="5195880"/>
            <a:ext cx="990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其他感覺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39000" y="5195880"/>
            <a:ext cx="8380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無任何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感覺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5680" y="5195880"/>
            <a:ext cx="12826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好少飲咖啡／唔知／難講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4479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00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00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受訪者對自己生活及工作壓力之評分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自己及香港人創意的評分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靈感閉塞及激發靈感的意見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飲茶的感覺及其功效的認知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00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顯示，香港的青年及中年巿民普遍認為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自己的創意屬於一般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(5.1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落後於全港巿民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.7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箇中原因，可能是因為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工作不夠創意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(4.2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生活壓力大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(5.9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和緊張自己的工作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(6.5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多被訪巿民認為咖啡最能激發靈感，其次是茶、汽水和清水。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飲咖啡的主要效果，就是提神醒腦；以飲茶的主要結果，就是舒適暢快和提神醒腦。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中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42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％有每日飲茶的習慣，每日平均約飲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杯。不過，大部分被訪者都不知道，茶中有甚麼成份可以產生飲茶的功效，只有</a:t>
            </a:r>
            <a:r>
              <a:rPr b="1" lang="zh-TW" sz="2100" spc="-1" strike="noStrike">
                <a:solidFill>
                  <a:srgbClr val="ff0000"/>
                </a:solidFill>
                <a:latin typeface="Times New Roman"/>
                <a:ea typeface="標楷體"/>
              </a:rPr>
              <a:t>四個百分點正確提及茶胺酸</a:t>
            </a:r>
            <a:r>
              <a:rPr b="1" lang="zh-TW" sz="21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真正原因。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203560"/>
            <a:ext cx="754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港人面對壓力的狀況及港人的創意水平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等意見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Lipton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6201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07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1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49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歲操粵語的香港居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508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62.3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少於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+/- 2.2%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的生活壓力指數</a:t>
            </a:r>
            <a:br>
              <a:rPr sz="45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無壓力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壓力非常大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372360" y="2060640"/>
          <a:ext cx="2050920" cy="132228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190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" name=""/>
          <p:cNvGrpSpPr/>
          <p:nvPr/>
        </p:nvGrpSpPr>
        <p:grpSpPr>
          <a:xfrm>
            <a:off x="247680" y="1844640"/>
            <a:ext cx="7924680" cy="4621680"/>
            <a:chOff x="247680" y="1844640"/>
            <a:chExt cx="7924680" cy="4621680"/>
          </a:xfrm>
        </p:grpSpPr>
        <p:graphicFrame>
          <p:nvGraphicFramePr>
            <p:cNvPr id="64" name=""/>
            <p:cNvGraphicFramePr/>
            <p:nvPr/>
          </p:nvGraphicFramePr>
          <p:xfrm>
            <a:off x="247680" y="1844640"/>
            <a:ext cx="7924680" cy="4280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7680" y="1844640"/>
                      <a:ext cx="7924680" cy="428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1249200" y="5837400"/>
              <a:ext cx="533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29360" y="5837400"/>
              <a:ext cx="9273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難講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95560" y="5850000"/>
              <a:ext cx="8208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 - 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68480" y="5837400"/>
              <a:ext cx="8398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3 - 4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00720" y="5837400"/>
              <a:ext cx="87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6 - 7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54640" y="5837400"/>
              <a:ext cx="7621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8 - 9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08640" y="5837400"/>
              <a:ext cx="6397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70280" y="5837400"/>
              <a:ext cx="533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5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分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有幾緊張自己的工作 </a:t>
            </a:r>
            <a:br>
              <a:rPr sz="42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緊張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非常緊張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46040" y="5805360"/>
            <a:ext cx="533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4000" y="5805360"/>
            <a:ext cx="1143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唔知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難講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580536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- 2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80536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3 - 4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5805360"/>
            <a:ext cx="685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- 7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5805360"/>
            <a:ext cx="7621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8 - 9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5805360"/>
            <a:ext cx="533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2840" y="5805360"/>
            <a:ext cx="5331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443640" y="2205000"/>
          <a:ext cx="2050920" cy="137304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4698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95280" y="1989000"/>
          <a:ext cx="754380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7543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感壓力時的表現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0" y="1841400"/>
          <a:ext cx="8458200" cy="436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41400"/>
                    <a:ext cx="845820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519240" y="19890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200" y="5869080"/>
            <a:ext cx="91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容易向家人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朋友發脾氣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36760" y="5826240"/>
            <a:ext cx="1131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選擇尋求專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業輔導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協助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65760" y="5826240"/>
            <a:ext cx="790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選擇找家人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朋友傾訴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61040" y="5826240"/>
            <a:ext cx="790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傾向用暴力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解決問題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08800" y="5851440"/>
            <a:ext cx="10342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傾向封閉自己，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與外界隔絕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既工作係咪涉及創意 </a:t>
            </a:r>
            <a:br>
              <a:rPr sz="42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涉及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極之需要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800" y="139392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341360"/>
          <a:ext cx="838224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3822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46440" y="5329080"/>
            <a:ext cx="453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02440" y="5329080"/>
            <a:ext cx="622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2200" y="5316480"/>
            <a:ext cx="622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31440" y="5316480"/>
            <a:ext cx="622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8-9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56400" y="5356080"/>
            <a:ext cx="1066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失業、巳退休、及其他非在職者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37000" y="5329080"/>
            <a:ext cx="453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8520" y="5316480"/>
            <a:ext cx="5554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16840" y="5329080"/>
            <a:ext cx="622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-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65640" y="5316480"/>
            <a:ext cx="546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唔知／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難講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300720" y="185724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452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2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自己是否夠創意</a:t>
            </a:r>
            <a:br>
              <a:rPr sz="4200"/>
            </a:b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 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夠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非常有創意，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5400" y="2095560"/>
          <a:ext cx="872460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095560"/>
                    <a:ext cx="872460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481800" y="207324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7-03-21T09:14:58Z</dcterms:modified>
  <cp:revision>1300</cp:revision>
  <dc:subject/>
  <dc:title>無投影片標題</dc:title>
</cp:coreProperties>
</file>