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BFD-C14A-4212-919D-10BA09CA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D8B-50CB-42C5-B994-7AFE281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070-207F-4F13-8FEA-9913E0D8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C52-473B-42D9-8814-DE2AB10D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ECA-6345-4EED-9A27-70FB9B3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5AE-C9C6-45E3-8391-A4E8950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D96-9625-4710-A9D6-8E4C9496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C85-E24B-4A07-8BC3-FEF38A9E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0BB-9148-424C-94A6-D70EE6BD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79C-E8A0-4DE7-A62A-2722324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6E3-A479-4C12-AAB7-4A9F091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8D9-B4B7-42CF-B3AD-C3D2533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D4D-4FF3-4160-9832-DE870494521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895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港人面對壓力的狀況及港人的創意水平</a:t>
            </a:r>
            <a:br>
              <a:rPr sz="3200"/>
            </a:br>
            <a:r>
              <a:rPr b="1" lang="zh-TW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調查報告</a:t>
            </a:r>
            <a:r>
              <a:rPr b="1" lang="zh-TW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07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認為香港人整體來講夠創意嗎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非常有創意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2819520"/>
          <a:ext cx="8534520" cy="36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853452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95280" y="563256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5632560"/>
            <a:ext cx="10670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唔知 </a:t>
            </a: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/ </a:t>
            </a: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563256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3-4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63256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-2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63256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63256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6-7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63256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8-9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63256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72200" y="251460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.7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7840" y="1701720"/>
          <a:ext cx="891540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01720"/>
                    <a:ext cx="89154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43000" y="5791320"/>
            <a:ext cx="1066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太疲倦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精神不集中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791320"/>
            <a:ext cx="10666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工作太忙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壓力大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791320"/>
            <a:ext cx="1066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心情差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情緒低落時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33520" y="1736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5791320"/>
            <a:ext cx="57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79132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身體不適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5791320"/>
            <a:ext cx="1066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靈感閉塞既時候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791320"/>
            <a:ext cx="1066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新細明體"/>
                <a:ea typeface="標楷體"/>
              </a:rPr>
              <a:t>唔知／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新細明體"/>
                <a:ea typeface="標楷體"/>
              </a:rPr>
              <a:t>難講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00160" y="64008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甚麼時候會感到靈感閉塞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請講出最常遇到的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個情況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會做什麼去激發靈感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講出最常做的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方法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04920" y="1986120"/>
          <a:ext cx="8381880" cy="397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6120"/>
                    <a:ext cx="838188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219320" y="5791320"/>
            <a:ext cx="865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看書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報紙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雜誌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漫畫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57816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休息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778360"/>
            <a:ext cx="838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聽音樂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唱歌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5791320"/>
            <a:ext cx="7527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看電視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7816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做運動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79132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上網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816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行街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3352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00160" y="6400800"/>
            <a:ext cx="20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79132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其他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91320"/>
            <a:ext cx="1066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br>
              <a:rPr sz="1300"/>
            </a:b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方法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5791320"/>
            <a:ext cx="7938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</a:t>
            </a:r>
            <a:br>
              <a:rPr sz="1300"/>
            </a:b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難講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認為亞洲哪個國家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/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城市的人最有創意？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2043000"/>
          <a:ext cx="83059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43000"/>
                    <a:ext cx="83059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593712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日本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韓國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5943600"/>
            <a:ext cx="7617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新加玻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中國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台灣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5943600"/>
            <a:ext cx="914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澳洲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5943600"/>
            <a:ext cx="7617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菲律賓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59436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香港 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5943600"/>
            <a:ext cx="6098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泰國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細明體"/>
                <a:ea typeface="標楷體"/>
              </a:rPr>
              <a:t>印度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943600"/>
            <a:ext cx="60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細明體"/>
                <a:ea typeface="標楷體"/>
              </a:rPr>
              <a:t>印尼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59436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細明體"/>
                <a:ea typeface="標楷體"/>
              </a:rPr>
              <a:t>無意見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5943600"/>
            <a:ext cx="609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唔知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300" spc="-1" strike="noStrike">
                <a:solidFill>
                  <a:srgbClr val="ccecff"/>
                </a:solidFill>
                <a:latin typeface="標楷體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3680" y="2666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認為甚麽飲品最能激發靈感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/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令頭腦清醒？請講出２種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1120" y="2433600"/>
          <a:ext cx="862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2433600"/>
                    <a:ext cx="862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37632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00160" y="6400800"/>
            <a:ext cx="20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請問你係咪每日都飲茶</a:t>
            </a: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?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2394000"/>
          <a:ext cx="830592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94000"/>
                    <a:ext cx="83059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75720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[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只問每日都飲荼者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]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以快餐店既奶茶杯容量黎計算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每日平均會飲幾多杯茶呢？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2430360"/>
          <a:ext cx="8077320" cy="35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0360"/>
                    <a:ext cx="807732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400800" y="213372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.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杯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你平日什麼時候覺得最需要飲一杯茶呢</a:t>
            </a:r>
            <a:r>
              <a:rPr b="1" lang="zh-TW" sz="2400" spc="-1" strike="noStrike">
                <a:solidFill>
                  <a:srgbClr val="ffff66"/>
                </a:solidFill>
                <a:latin typeface="標楷體"/>
                <a:ea typeface="標楷體"/>
              </a:rPr>
              <a:t>?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017800"/>
          <a:ext cx="822960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17800"/>
                    <a:ext cx="82296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066680" y="5791320"/>
            <a:ext cx="646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起床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, 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早上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586728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休息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5867280"/>
            <a:ext cx="609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飯後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5813280"/>
            <a:ext cx="718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下午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時間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5867280"/>
            <a:ext cx="838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思考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580536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需要集中精神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5867280"/>
            <a:ext cx="631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時候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5867280"/>
            <a:ext cx="793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時候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5867280"/>
            <a:ext cx="828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</a:t>
            </a:r>
            <a:br>
              <a:rPr sz="1200"/>
            </a:b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586728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口渴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867280"/>
            <a:ext cx="8301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去茶樓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5867280"/>
            <a:ext cx="685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吃得太飽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,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清熱氣時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52280" y="23623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形容飲完一杯茶之後的感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講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種感覺。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2133720"/>
          <a:ext cx="822960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2296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3492360" y="56386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鬆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638680"/>
            <a:ext cx="685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服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暢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44880" y="563868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保持頭腦清醒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提神醒腦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腦轉快Ｄ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563868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幫助消化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4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00160" y="64008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63868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638680"/>
            <a:ext cx="838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5638680"/>
            <a:ext cx="990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好少飲茶／唔知／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知道為何飲茶有這些功效</a:t>
            </a: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例如茶的什麼成份導致呢</a:t>
            </a:r>
            <a:r>
              <a:rPr b="1" lang="zh-TW" sz="2200" spc="-1" strike="noStrike">
                <a:solidFill>
                  <a:srgbClr val="ffff66"/>
                </a:solidFill>
                <a:latin typeface="Times New Roman"/>
                <a:ea typeface="標楷體"/>
              </a:rPr>
              <a:t>?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細明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2270160"/>
          <a:ext cx="8305920" cy="35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70160"/>
                    <a:ext cx="83059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5638680"/>
            <a:ext cx="1143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咖啡因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563868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茶胺酸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563868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兒茶酚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638680"/>
            <a:ext cx="914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不知道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563868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成份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563868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新細明體"/>
                <a:ea typeface="標楷體"/>
              </a:rPr>
              <a:t>難講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18720" y="2286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37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4200" y="5661000"/>
            <a:ext cx="685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丹寧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5661000"/>
            <a:ext cx="838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茶多酚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標楷體"/>
                <a:ea typeface="標楷體"/>
              </a:rPr>
              <a:t>受訪者對自己生活及工作壓力之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自己及香港人創意的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靈感閉塞及激發靈感的意見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飲茶的感覺及其功效的認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形容下飲完一杯咖啡之後的感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講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種感覺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2289240"/>
          <a:ext cx="8001000" cy="33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9240"/>
                    <a:ext cx="8001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590920" y="5638680"/>
            <a:ext cx="1000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服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舒暢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563868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保持頭腦清醒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提神醒腦 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腦轉快Ｄ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565632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睡意全消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5400" y="2971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00160" y="64008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5638680"/>
            <a:ext cx="990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其他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638680"/>
            <a:ext cx="838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無任何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感覺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5638680"/>
            <a:ext cx="1152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好少飲咖啡／唔知／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顯示，香港的青年及中年巿民普遍認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自己的創意屬於一般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5.1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落後於全港巿民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5.7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箇中原因，可能是因為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工作不夠創意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4.2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生活壓力大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5.9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和緊張自己的工作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6.5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最多被訪巿民認為咖啡最能激發靈感，其次是茶、汽水和清水。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飲咖啡的主要效果，就是提神醒腦；以飲茶的主要結果，就是舒適暢快和提神醒腦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中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42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％有每日飲茶的習慣，每日平均約飲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杯。不過，大部分被訪者都不知道，茶中有甚麼成份可以產生飲茶的功效，只有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四個百分點正確提及茶胺酸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真正原因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203560"/>
            <a:ext cx="754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</a:t>
            </a:r>
            <a:r>
              <a:rPr b="1" lang="zh-TW" sz="2800" spc="-1" strike="noStrike">
                <a:solidFill>
                  <a:srgbClr val="ffff66"/>
                </a:solidFill>
                <a:latin typeface="Times New Roman"/>
                <a:ea typeface="標楷體"/>
              </a:rPr>
              <a:t>港人面對壓力的狀況及港人的創意水平</a:t>
            </a: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等意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ffff66"/>
                </a:solidFill>
                <a:latin typeface="Times New Roman"/>
                <a:ea typeface="標楷體"/>
              </a:rPr>
              <a:t>Lipton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66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6201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日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49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歲操粵語的香港居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08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應比率： 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62.3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少於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+/- 2.2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問你感到自己的生活壓力有幾大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無壓力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壓力非常大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2031840"/>
          <a:ext cx="79250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1840"/>
                    <a:ext cx="79250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617220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唔知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/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056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 - 2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548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3 - 4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6 - 7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61722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8 - 9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77120" y="236232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.9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請問你有幾緊張你既工作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緊張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非常緊張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1760" y="617220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617220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唔知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/ 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3056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 - 2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6548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3 - 4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617220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6 - 7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617220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8 - 9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17220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629400" y="243828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6.5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2247840"/>
          <a:ext cx="75438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47840"/>
                    <a:ext cx="7543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標楷體"/>
                <a:ea typeface="標楷體"/>
              </a:rPr>
              <a:t>當你感到壓力時，你會唔會</a:t>
            </a:r>
            <a:r>
              <a:rPr b="1" lang="zh-TW" sz="2800" spc="-1" strike="noStrike">
                <a:solidFill>
                  <a:srgbClr val="ffff66"/>
                </a:solidFill>
                <a:latin typeface="細明體"/>
                <a:ea typeface="細明體"/>
              </a:rPr>
              <a:t>：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751040"/>
          <a:ext cx="8076960" cy="48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1040"/>
                    <a:ext cx="807696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29480" y="5740560"/>
            <a:ext cx="8208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容易向家人</a:t>
            </a:r>
            <a:br>
              <a:rPr sz="1400"/>
            </a:b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朋友發脾氣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5776920"/>
            <a:ext cx="101232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選擇尋求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業輔導</a:t>
            </a: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協助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2600" y="5776920"/>
            <a:ext cx="7142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選擇找家人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朋友傾訴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4680" y="5776920"/>
            <a:ext cx="7142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傾向用暴力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解決問題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8520" y="5776920"/>
            <a:ext cx="92736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傾向封閉自己，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與外界隔絕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52280" y="1828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既工作係咪涉及創意呢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例如寫作、設計等。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涉及創意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極之需要創意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676520"/>
          <a:ext cx="83822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64960" y="5715000"/>
            <a:ext cx="41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0680" y="57150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-2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10440" y="57024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-7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59680" y="57024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8-9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5715000"/>
            <a:ext cx="10666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失業、巳退休、及其他非在職者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5520" y="5715000"/>
            <a:ext cx="41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02800" y="5702400"/>
            <a:ext cx="50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5080" y="5715000"/>
            <a:ext cx="569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-4</a:t>
            </a:r>
            <a:r>
              <a:rPr b="1" lang="zh-CN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12960" y="5729400"/>
            <a:ext cx="455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標楷體"/>
                <a:ea typeface="標楷體"/>
              </a:rPr>
              <a:t>難講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629400" y="213372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.2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1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8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你認為自己夠創意嗎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?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( 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非常有創意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055960"/>
          <a:ext cx="8724960" cy="43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5960"/>
                    <a:ext cx="872496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629400" y="228600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.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03-21T09:14:45Z</dcterms:modified>
  <cp:revision>1257</cp:revision>
  <dc:subject/>
  <dc:title>無投影片標題</dc:title>
</cp:coreProperties>
</file>