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7AAD-EFCE-45E3-B169-55606000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6CB5-EF52-4081-B81B-42073FB7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97A6AF-8BCB-4C10-ABE9-CB3FA152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8F597-B340-4536-825D-CCB29655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3C4AF0-B80F-4DC7-B22B-658B389D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094250-33E2-4CCC-972C-F8215158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EA0D0-E8A9-4747-BC86-D7617B35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533CB5-7E82-4B9F-8E39-77E7A6F4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1C9273-15D4-4821-BDC0-25918A5C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D74F8-3720-47BA-A740-4FAF452A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3419D0-8706-4864-9CDB-5C6A4D4F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4CC24D-3D3C-4F88-BC3C-22A45D84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10E1-37CC-4AE2-B215-62440622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9CA7BE-68AD-48E4-8DF8-9482321F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8278E1-B65D-4A3A-8497-DCA3A14C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38AEC0-34D6-4273-A96B-095E0B89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667553-9296-4761-B3D1-34D80C0D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78AE9C-2852-4FE5-B7E3-DC27B44A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1A7CA-BBFF-4873-A7EE-B16A1E57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FF4C11-F9F2-4B90-898B-E3CAAA61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9EC150-7362-42B2-9267-7AC7DA9A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6E6544-ACC5-40BA-B54F-40922927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629A38-C1E3-4554-85F4-6D0463D1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906D-125A-4DE0-9929-F598C67E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E35BAD-227F-4D4A-96D7-278F7367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6B4D4-917B-4EC1-8990-7DA409E1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5ED1B-5FE7-4C34-A796-BFDE60E5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BA5FB-F03A-413A-BEFC-39D8274D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1E00E-3148-4EFF-A49B-586D1D88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C6DB4-46AC-4EDB-9EBD-9447E669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ECFF1-7BD0-464B-B294-7D13624D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A1628-7F04-43A4-A054-757117A9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2E17A-A110-42B5-A04E-93C7119F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F8B73-E451-4418-B969-DC060A18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5944-3022-4F84-B6C1-4B9891ED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730F1-B9E7-44F7-B241-99E37C25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D6D7F-E750-4CA4-97BE-84243574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942F2-B3AD-45A0-BC11-C3C6AD78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45C241-18A0-4DB5-9E12-7CE60EC2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191BE6-76D1-4076-9396-A648E7EF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8741C2-AEE0-4E7F-8EB6-4DD8E5D7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1A30BF-126F-40BA-A3B5-44C1973B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E14E12-42C2-4AC3-B014-324E4026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8F10B2-852B-4B22-8C34-F18000FB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9E38DC-D3AB-461F-AF98-406BF698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73FE-1E0B-4B3E-95FF-02D2AE96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4B82FA-F866-431C-94D9-0DD6B998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2AFF87-B983-4D96-8070-E7554F96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C3B724-4035-44AD-83BD-859DE366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70A812-8DD1-4693-B639-D96E11B6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789895-C211-48A2-AC85-405B2F5D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1046-DFCB-4DBA-859A-1A0D3D03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D6CB-FA31-4210-BBB6-D5E5DEA5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F143-33B4-463A-9D0D-EE33B74E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C3DF-5764-4B62-B1B3-A6B1DD02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A02A-0EE7-4C1B-A7B8-D775191D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3308-3C93-4141-BCAB-7654879C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78D2-CAAD-455C-A6B7-D3F45EE1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7CD1-826D-42CB-A3C4-41C64647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8CF7-4558-42F6-A3BA-AEAB43B6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D87A-AD1A-4C2E-94D2-EC5A8F74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F1F4-62DE-48B2-A851-486EB71E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B9AEA-A5B0-4545-9DAB-4C1712A2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29AA9-5B34-4489-B857-53811928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99425-F17C-40BC-805A-DA5BE21E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14C5B-6EA2-4918-95D4-820707B7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EE67E-9A5C-43A6-9C1F-FF52FD52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806C-B961-4008-BF5C-3CFF98F1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75B2D-2B04-482F-B75E-3B3FB38A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089E9-92FF-441A-A96D-D06C8FE6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930B8-8AEA-4CDB-90DB-83DBEFE6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139E5-CC93-49B8-974C-4894A90D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B4DC5-914E-4737-8F48-74C30B74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00A41-9958-4099-8AC4-7AE9950F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100BD-3A7F-4669-98B1-6D87F2E7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EC70D-8FDF-4531-A41C-1BA31CD2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5B64D-24EC-4C24-8F92-F85F59D7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08852-5C8B-455A-899F-B3FD4CFC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8707-9F41-47C5-9E5D-FC736387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D2D28-2359-45C8-B6D7-1D8ACE46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819E3-6380-459B-AB24-2E998D51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0F9B4-20D5-4E07-8A4E-FDF6CF34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517FB-76CB-4F50-8D36-DB8F78B9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FB671-0B77-498B-A05A-028BBE8F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5AFB0-2986-497B-9B98-FA360179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05750-CA24-42CE-8C65-F3102C53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32851-9216-4092-B757-F209676C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5707A-499A-439A-B4CA-12772A83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F9217-F514-4ED2-94DE-FFC95202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DE0-D8C3-438F-A864-1F81374A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16BE6-9B39-4768-BB95-C7E83635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B4E02-B48D-4A6C-BD69-7D586C1E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54C9C-785F-46C0-A183-4DC7CB94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8BBEC-9E7C-4A97-B511-E0D341B4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FC8AC-A4F3-4637-AA17-B9CCBC25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3AF99-3997-4A4B-AAD7-C092C423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A894D-AFD5-42FD-A05C-D7CA2FDD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19B12-F54D-4EBC-BCA1-EAF47DE7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04089-5C38-4670-8465-8EB9FB13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FE727-295C-41DE-BCD0-EF8264E5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F6B4-BE28-4B2A-884A-EA19F4C4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E20FD-B4A2-4794-8E2E-44F951A3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8C43F-9F9B-4387-BCB1-A1D75729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5C1F8-57BC-48A2-9934-D55C7754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A61E1-1811-4B5D-AC27-F7254A8A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A8582-C280-4B51-BA43-43E43ABC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D207B-25AD-4006-90AF-95893F7A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E513B-B1AF-4FDD-ABF0-142A7267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1E154-9AA6-463C-8506-09A41706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75F56-B2CC-406D-9ADC-5FA7E7EE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E6D0E-42E6-411A-A8C0-B6331669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8FC0-A4E8-47FE-907B-674E20F1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80541-C6DA-48C6-9604-9CFDE5F3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9CD34-820B-454F-90DF-EBB2FA6F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CAEFE-2CEE-4282-8854-B02C6067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9A431-10FA-4495-A621-3122AA33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79584-0657-4795-976F-0D6F98B3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7B1A3-6D3F-48E5-97EB-2171F868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EE27F-9C0F-41F7-8CD1-4A573A7F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3EAA6-5FEB-4C53-A2D3-D4911076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99E4B-8F28-45AE-8AAB-823054C1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291EB-B29C-46A4-8FEE-D9AE6955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4DF1-F84D-4577-94F7-5F443E2A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267EF-C706-4342-BFAA-777B841F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498E4-AED1-448A-B003-6CA974C3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0F30A-D435-45D7-8C39-C9D82253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C2388-B035-4817-B2D3-7E673AA7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2BF7E-1005-4742-9FD3-4E1215C2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46A97-C746-43FA-81F5-E5FEC29D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31DA5-71FD-453C-A4CD-A7CAD1FA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C3655-EEDF-4B19-B2CF-749B099F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A1A16-EE3F-44DF-B1F4-C881C455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9309C-1BEE-4414-95F5-F0E724D0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D2FD-8208-4347-A66C-96513C96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CA06E-2496-4E37-8A8B-0AC81F5C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EFD24-AB2D-4B75-9646-CC09EC43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DBEAC-585F-44F5-8550-5F027FE7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15A6E-E09A-4549-A1A2-5332D87E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3AB78-D792-4729-B874-080E399E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CD2AA-9DF3-4601-8F51-97A0D813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89D11-4AE2-4E47-9F7B-4EC73464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9FA403-D903-422C-9C9C-322FC594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A24619-48BF-4625-A88B-73988E1F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2C51F-1016-4FAE-B596-3DD3E64A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A468-705C-440D-9C38-306CD3E863AB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直線接點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橢圓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橢圓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F9F4-4033-4AF2-8F1D-6543C8AE7139}" type="slidenum">
              <a:rPr b="0" lang="zh-TW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直線接點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橢圓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橢圓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CCAF-B402-4B2E-BACD-EE48D0A06E1F}" type="slidenum">
              <a:rPr b="0" lang="zh-TW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724F-AE86-4279-9252-CF5A83ED89BB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直線接點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橢圓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橢圓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72DF-6467-40EB-86BF-4A7EFECBF610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FB42-8F55-4321-AC90-01C0887FD937}" type="slidenum">
              <a:rPr b="0" lang="zh-TW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矩形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直線接點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橢圓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橢圓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A01F-B16B-4D69-8170-94C6DA196E97}" type="slidenum">
              <a:rPr b="0" lang="zh-TW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2DE4-3CDE-4C58-9115-40594CA1F53A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線接點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橢圓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橢圓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8662-83F1-47A0-8F8E-68E3CB55A328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AB18-A51A-43E6-8261-D1D1C10227FB}" type="slidenum">
              <a:rPr b="0" lang="zh-TW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線接點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橢圓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橢圓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531E-D96C-42DF-9D75-1018D436D963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258F-9BAE-4F68-938D-1327CF3A261F}" type="slidenum">
              <a:rPr b="0" lang="zh-TW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線接點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橢圓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橢圓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D017-D7DF-4AFC-86B5-47A038BFEC53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92FC-9DD6-4CB7-BA0F-A13369F18B28}" type="slidenum">
              <a:rPr b="0" lang="zh-TW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線接點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橢圓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橢圓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線接點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37D7-30C0-4845-8B3D-42B01EB8BB04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94C3-3D05-45DD-98BE-C2D2EC85B010}" type="slidenum">
              <a:rPr b="0" lang="zh-TW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直線接點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線接點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橢圓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橢圓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E58A-8727-4152-875E-42FC59FA0F56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1DBC-C549-4AFB-87BE-B9E362DFD438}" type="slidenum">
              <a:rPr b="0" lang="zh-TW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線接點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橢圓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橢圓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1BF0-501E-4F5D-8E9D-399D22F316D0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118E-EFAB-4970-B097-37D33C4DC8DE}" type="slidenum">
              <a:rPr b="0" lang="zh-TW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矩形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AA61-A5C6-4B40-A78D-B12FA52C7C71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4495-9301-433D-AEC2-10F6FE4A7709}" type="slidenum">
              <a:rPr b="0" lang="zh-TW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矩形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線接點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橢圓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橢圓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015C-4769-4C43-80A1-8F859A211D00}" type="slidenum">
              <a:rPr b="0" lang="zh-TW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E022-3CB2-44A5-BB23-712605E53043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499760" y="3571920"/>
            <a:ext cx="5929560" cy="15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鍾庭耀博士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 民意研究計劃 總監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14240" y="92844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標楷體"/>
                <a:ea typeface="標楷體"/>
              </a:rPr>
              <a:t>公眾對道教的認識</a:t>
            </a:r>
            <a:br>
              <a:rPr sz="3800"/>
            </a:br>
            <a:r>
              <a:rPr b="0" lang="zh-TW" sz="3800" spc="-1" strike="noStrike">
                <a:solidFill>
                  <a:srgbClr val="000000"/>
                </a:solidFill>
                <a:latin typeface="標楷體"/>
                <a:ea typeface="標楷體"/>
              </a:rPr>
              <a:t>及活動參與意見調查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08" name="Object 5"/>
          <p:cNvGraphicFramePr/>
          <p:nvPr/>
        </p:nvGraphicFramePr>
        <p:xfrm>
          <a:off x="428760" y="5786280"/>
          <a:ext cx="49824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5786280"/>
                    <a:ext cx="4982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文字方塊 6"/>
          <p:cNvSpPr/>
          <p:nvPr/>
        </p:nvSpPr>
        <p:spPr>
          <a:xfrm>
            <a:off x="928800" y="5786280"/>
            <a:ext cx="1785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標楷體"/>
                <a:ea typeface="標楷體"/>
              </a:rPr>
              <a:t>香港大學民意研究計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oudy Old Style"/>
                <a:ea typeface="Arial"/>
              </a:rPr>
              <a:t>Public Opinion Program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oudy Old Style"/>
                <a:ea typeface="Arial"/>
              </a:rPr>
              <a:t>University of Hong K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2" descr="C:\Documents and Settings\winnie\Desktop\logo_banner.jpg"/>
          <p:cNvPicPr/>
          <p:nvPr/>
        </p:nvPicPr>
        <p:blipFill>
          <a:blip r:embed="rId3"/>
          <a:stretch/>
        </p:blipFill>
        <p:spPr>
          <a:xfrm>
            <a:off x="8358120" y="4143240"/>
            <a:ext cx="4921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42600" y="264276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標楷體"/>
                <a:ea typeface="標楷體"/>
              </a:rPr>
              <a:t>被訪者背景資料</a:t>
            </a:r>
            <a:endParaRPr b="0" lang="en-US" sz="45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9720" y="274320"/>
            <a:ext cx="723276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性別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8" name="內容版面配置區 4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8229600" cy="4524480"/>
          </a:xfrm>
          <a:prstGeom prst="rect">
            <a:avLst/>
          </a:prstGeom>
          <a:ln w="0">
            <a:noFill/>
          </a:ln>
        </p:spPr>
      </p:pic>
      <p:sp>
        <p:nvSpPr>
          <p:cNvPr id="639" name="文字方塊 4"/>
          <p:cNvSpPr/>
          <p:nvPr/>
        </p:nvSpPr>
        <p:spPr>
          <a:xfrm>
            <a:off x="1071720" y="17146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1,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304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年齡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1" name="內容版面配置區 4" descr=""/>
          <p:cNvPicPr/>
          <p:nvPr/>
        </p:nvPicPr>
        <p:blipFill>
          <a:blip r:embed="rId1"/>
          <a:stretch/>
        </p:blipFill>
        <p:spPr>
          <a:xfrm>
            <a:off x="439560" y="1550880"/>
            <a:ext cx="8229600" cy="4524480"/>
          </a:xfrm>
          <a:prstGeom prst="rect">
            <a:avLst/>
          </a:prstGeom>
          <a:ln w="0">
            <a:noFill/>
          </a:ln>
        </p:spPr>
      </p:pic>
      <p:sp>
        <p:nvSpPr>
          <p:cNvPr id="642" name="文字方塊 4"/>
          <p:cNvSpPr/>
          <p:nvPr/>
        </p:nvSpPr>
        <p:spPr>
          <a:xfrm>
            <a:off x="1071720" y="17146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1,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28440" y="357120"/>
            <a:ext cx="73753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教育程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4" name="內容版面配置區 4" descr=""/>
          <p:cNvPicPr/>
          <p:nvPr/>
        </p:nvPicPr>
        <p:blipFill>
          <a:blip r:embed="rId1"/>
          <a:stretch/>
        </p:blipFill>
        <p:spPr>
          <a:xfrm>
            <a:off x="439560" y="1550880"/>
            <a:ext cx="8229600" cy="4524480"/>
          </a:xfrm>
          <a:prstGeom prst="rect">
            <a:avLst/>
          </a:prstGeom>
          <a:ln w="0">
            <a:noFill/>
          </a:ln>
        </p:spPr>
      </p:pic>
      <p:sp>
        <p:nvSpPr>
          <p:cNvPr id="645" name="文字方塊 4"/>
          <p:cNvSpPr/>
          <p:nvPr/>
        </p:nvSpPr>
        <p:spPr>
          <a:xfrm>
            <a:off x="1071720" y="17146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1,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1438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職業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7" name="內容版面配置區 4" descr=""/>
          <p:cNvPicPr/>
          <p:nvPr/>
        </p:nvPicPr>
        <p:blipFill>
          <a:blip r:embed="rId1"/>
          <a:stretch/>
        </p:blipFill>
        <p:spPr>
          <a:xfrm>
            <a:off x="439560" y="1550880"/>
            <a:ext cx="8229600" cy="4524480"/>
          </a:xfrm>
          <a:prstGeom prst="rect">
            <a:avLst/>
          </a:prstGeom>
          <a:ln w="0">
            <a:noFill/>
          </a:ln>
        </p:spPr>
      </p:pic>
      <p:sp>
        <p:nvSpPr>
          <p:cNvPr id="648" name="文字方塊 4"/>
          <p:cNvSpPr/>
          <p:nvPr/>
        </p:nvSpPr>
        <p:spPr>
          <a:xfrm>
            <a:off x="1071720" y="17146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9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1438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出生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0" name="內容版面配置區 4" descr=""/>
          <p:cNvPicPr/>
          <p:nvPr/>
        </p:nvPicPr>
        <p:blipFill>
          <a:blip r:embed="rId1"/>
          <a:stretch/>
        </p:blipFill>
        <p:spPr>
          <a:xfrm>
            <a:off x="457200" y="1500120"/>
            <a:ext cx="8258040" cy="4626000"/>
          </a:xfrm>
          <a:prstGeom prst="rect">
            <a:avLst/>
          </a:prstGeom>
          <a:ln w="0">
            <a:noFill/>
          </a:ln>
        </p:spPr>
      </p:pic>
      <p:sp>
        <p:nvSpPr>
          <p:cNvPr id="651" name="文字方塊 6"/>
          <p:cNvSpPr/>
          <p:nvPr/>
        </p:nvSpPr>
        <p:spPr>
          <a:xfrm>
            <a:off x="1071720" y="17146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1,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3756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總結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42960" y="1600200"/>
            <a:ext cx="81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半被訪者可以正確說出至少一項道教神仙或習俗，他們最熟悉的三個道教神仙依次為</a:t>
            </a:r>
            <a:r>
              <a:rPr b="0" lang="zh-TW" sz="26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黃大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31%)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zh-TW" sz="26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觀音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8%)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及</a:t>
            </a:r>
            <a:r>
              <a:rPr b="0" lang="zh-TW" sz="26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呂祖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5%)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約一半被訪者有到廟宇或在家中拜神或上香的習慣，包括約兩成人</a:t>
            </a:r>
            <a:r>
              <a:rPr b="0" lang="zh-TW" sz="26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每日都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17%)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或</a:t>
            </a:r>
            <a:r>
              <a:rPr b="0" lang="zh-TW" sz="26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定期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4%)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超過八成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86%)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從來沒有參與任何道教團體舉辦的活動，近五成半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54%)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曾經到廟宇求籤、拜神、祈福或問事。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成多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41%)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贊成把道祖誕列為香港法定勞工假期，三成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30%)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反對。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785880" y="99972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報 告 完 畢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文字版面配置區 4"/>
          <p:cNvSpPr/>
          <p:nvPr/>
        </p:nvSpPr>
        <p:spPr>
          <a:xfrm>
            <a:off x="714240" y="385776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詳細報告結果，請瀏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http://hkupop.hku.h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75898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研究背景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110000"/>
              </a:lnSpc>
              <a:spcBef>
                <a:spcPts val="751"/>
              </a:spcBef>
              <a:spcAft>
                <a:spcPts val="1874"/>
              </a:spcAft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調查目的：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探討公眾對道教的認識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道教活動的參與及相關意見。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74760" indent="-374760">
              <a:lnSpc>
                <a:spcPct val="110000"/>
              </a:lnSpc>
              <a:spcBef>
                <a:spcPts val="751"/>
              </a:spcBef>
              <a:spcAft>
                <a:spcPts val="1874"/>
              </a:spcAft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調查問卷由港大民研計劃諮詢香港道教聯合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會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後獨立設計，所有操作、數據收集及分析由民研計劃獨立進行，結果亦由</a:t>
            </a:r>
            <a:r>
              <a:rPr b="1" lang="zh-TW" sz="30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民研計劃全面負責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74760" indent="-374760">
              <a:lnSpc>
                <a:spcPct val="110000"/>
              </a:lnSpc>
              <a:spcBef>
                <a:spcPts val="751"/>
              </a:spcBef>
              <a:spcAft>
                <a:spcPts val="1874"/>
              </a:spcAft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調查方法和結果</a:t>
            </a:r>
            <a:r>
              <a:rPr b="1" lang="zh-TW" sz="30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全面公開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75898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樣本資料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714240" y="1642680"/>
            <a:ext cx="8072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16040" indent="-161604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日期：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22</a:t>
            </a: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至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27</a:t>
            </a: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1616040" indent="-16160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對象：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18</a:t>
            </a: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或以上操粵語的香港居民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1616040" indent="-16160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方法：由</a:t>
            </a:r>
            <a:r>
              <a:rPr b="1" lang="zh-TW" sz="27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訪員直接進行電話訪問</a:t>
            </a: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訪員在成功接觸目標住戶後，再從住戶內找出符合條件的人士接受訪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1616040" indent="-161604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樣本數目：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1,013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成功個案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1616040" indent="-161604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應比率：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69.4%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1616040" indent="-161604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抽樣誤差：在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95%</a:t>
            </a: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置信水平下，少於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+/- 3.1</a:t>
            </a:r>
            <a:r>
              <a:rPr b="1" lang="zh-TW" sz="27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百分比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5182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標楷體"/>
                <a:ea typeface="標楷體"/>
              </a:rPr>
              <a:t>對道教神仙或習俗的認識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內容版面配置區 4" descr=""/>
          <p:cNvPicPr/>
          <p:nvPr/>
        </p:nvPicPr>
        <p:blipFill>
          <a:blip r:embed="rId1"/>
          <a:stretch/>
        </p:blipFill>
        <p:spPr>
          <a:xfrm>
            <a:off x="500040" y="1571760"/>
            <a:ext cx="4043520" cy="4543200"/>
          </a:xfrm>
          <a:prstGeom prst="rect">
            <a:avLst/>
          </a:prstGeom>
          <a:ln w="0">
            <a:noFill/>
          </a:ln>
        </p:spPr>
      </p:pic>
      <p:pic>
        <p:nvPicPr>
          <p:cNvPr id="618" name="圖表 5" descr=""/>
          <p:cNvPicPr/>
          <p:nvPr/>
        </p:nvPicPr>
        <p:blipFill>
          <a:blip r:embed="rId2"/>
          <a:stretch/>
        </p:blipFill>
        <p:spPr>
          <a:xfrm>
            <a:off x="5357880" y="300024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619" name="文字方塊 6"/>
          <p:cNvSpPr/>
          <p:nvPr/>
        </p:nvSpPr>
        <p:spPr>
          <a:xfrm>
            <a:off x="1071720" y="17146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1,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文字方塊 7"/>
          <p:cNvSpPr/>
          <p:nvPr/>
        </p:nvSpPr>
        <p:spPr>
          <a:xfrm>
            <a:off x="5429160" y="2071800"/>
            <a:ext cx="2928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首五個最多被訪者認識的道教神仙或習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標楷體"/>
              </a:rPr>
              <a:t>=1,0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786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「拜神」或「裝香」的習慣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2" name="內容版面配置區 4" descr=""/>
          <p:cNvPicPr/>
          <p:nvPr/>
        </p:nvPicPr>
        <p:blipFill>
          <a:blip r:embed="rId1"/>
          <a:stretch/>
        </p:blipFill>
        <p:spPr>
          <a:xfrm>
            <a:off x="587520" y="1527120"/>
            <a:ext cx="7932600" cy="4572000"/>
          </a:xfrm>
          <a:prstGeom prst="rect">
            <a:avLst/>
          </a:prstGeom>
          <a:ln w="0">
            <a:noFill/>
          </a:ln>
        </p:spPr>
      </p:pic>
      <p:sp>
        <p:nvSpPr>
          <p:cNvPr id="623" name="文字方塊 4"/>
          <p:cNvSpPr/>
          <p:nvPr/>
        </p:nvSpPr>
        <p:spPr>
          <a:xfrm>
            <a:off x="1071720" y="17146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1,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152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到廟宇「求籤」、「拜神」、「祈福」、「問事」的經驗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5" name="內容版面配置區 4" descr=""/>
          <p:cNvPicPr/>
          <p:nvPr/>
        </p:nvPicPr>
        <p:blipFill>
          <a:blip r:embed="rId1"/>
          <a:stretch/>
        </p:blipFill>
        <p:spPr>
          <a:xfrm>
            <a:off x="431640" y="1714680"/>
            <a:ext cx="8223480" cy="4525920"/>
          </a:xfrm>
          <a:prstGeom prst="rect">
            <a:avLst/>
          </a:prstGeom>
          <a:ln w="0">
            <a:noFill/>
          </a:ln>
        </p:spPr>
      </p:pic>
      <p:sp>
        <p:nvSpPr>
          <p:cNvPr id="626" name="文字方塊 4"/>
          <p:cNvSpPr/>
          <p:nvPr/>
        </p:nvSpPr>
        <p:spPr>
          <a:xfrm>
            <a:off x="1071720" y="17146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1,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0104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道教團體舉辦之活動的參與</a:t>
            </a:r>
            <a:br>
              <a:rPr sz="3000"/>
            </a:b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例如太平清醮、道教節、清明法會、盂蘭法會、萬緣法會、萬人齊誦道德經、太極拳班</a:t>
            </a:r>
            <a:br>
              <a:rPr sz="1600"/>
            </a:b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，或者道學講座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內容版面配置區 4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8229600" cy="4524480"/>
          </a:xfrm>
          <a:prstGeom prst="rect">
            <a:avLst/>
          </a:prstGeom>
          <a:ln w="0">
            <a:noFill/>
          </a:ln>
        </p:spPr>
      </p:pic>
      <p:sp>
        <p:nvSpPr>
          <p:cNvPr id="629" name="文字方塊 4"/>
          <p:cNvSpPr/>
          <p:nvPr/>
        </p:nvSpPr>
        <p:spPr>
          <a:xfrm>
            <a:off x="1071720" y="17146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1,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將道祖誕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農曆二月十五日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列為香港法定勞工假期？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1" name="內容版面配置區 4" descr=""/>
          <p:cNvPicPr/>
          <p:nvPr/>
        </p:nvPicPr>
        <p:blipFill>
          <a:blip r:embed="rId1"/>
          <a:stretch/>
        </p:blipFill>
        <p:spPr>
          <a:xfrm>
            <a:off x="439560" y="1550880"/>
            <a:ext cx="8229600" cy="4524480"/>
          </a:xfrm>
          <a:prstGeom prst="rect">
            <a:avLst/>
          </a:prstGeom>
          <a:ln w="0">
            <a:noFill/>
          </a:ln>
        </p:spPr>
      </p:pic>
      <p:sp>
        <p:nvSpPr>
          <p:cNvPr id="632" name="文字方塊 4"/>
          <p:cNvSpPr/>
          <p:nvPr/>
        </p:nvSpPr>
        <p:spPr>
          <a:xfrm>
            <a:off x="1071720" y="17146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1,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304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宗教信仰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內容版面配置區 4" descr=""/>
          <p:cNvPicPr/>
          <p:nvPr/>
        </p:nvPicPr>
        <p:blipFill>
          <a:blip r:embed="rId1"/>
          <a:stretch/>
        </p:blipFill>
        <p:spPr>
          <a:xfrm>
            <a:off x="439560" y="1550880"/>
            <a:ext cx="8229600" cy="4524480"/>
          </a:xfrm>
          <a:prstGeom prst="rect">
            <a:avLst/>
          </a:prstGeom>
          <a:ln w="0">
            <a:noFill/>
          </a:ln>
        </p:spPr>
      </p:pic>
      <p:sp>
        <p:nvSpPr>
          <p:cNvPr id="635" name="文字方塊 4"/>
          <p:cNvSpPr/>
          <p:nvPr/>
        </p:nvSpPr>
        <p:spPr>
          <a:xfrm>
            <a:off x="1071720" y="17146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1,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2:17:16Z</dcterms:created>
  <dc:creator>winnie</dc:creator>
  <dc:description/>
  <dc:language>en-US</dc:language>
  <cp:lastModifiedBy>winnie</cp:lastModifiedBy>
  <dcterms:modified xsi:type="dcterms:W3CDTF">2010-03-28T09:06:43Z</dcterms:modified>
  <cp:revision>52</cp:revision>
  <dc:subject/>
  <dc:title>投影片 1</dc:title>
</cp:coreProperties>
</file>