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887E-58A8-42DF-8EA7-2AC941AB8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09FE-A837-43FB-81EF-1736E290C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5AA9-4465-49A4-94DB-D6252737D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B320-955C-41C0-96B6-731E84946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8272B-9753-4090-B860-6966C265A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34552-5AB6-452A-8D09-C780942FD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D6A23-0C6A-4AC0-9299-C765A62C1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B75D3-EE3A-4549-A266-9C5882D03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03040-2BC9-47A6-8A6A-86A51EF47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83A51-730C-4349-B11D-EA8D376F9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4957C-0C09-44E0-A86F-0647CEE2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F2C2-3FD9-4B04-ADB9-EC66FF8F1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8D869-31AE-47B9-9F31-C6ABEB34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70C86-C4A3-4D4A-9433-F263C8B8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AEE29-18C1-42D1-B033-910A205F8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98C2E-807A-4200-9C52-C1B23E94A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8D513-20AF-4BB4-A7DD-402BEC155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8FEC-5F61-4DBE-B7DA-A5D4F03F6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ADFA-717C-4BAA-9D35-AF7E49DE3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CA8F-D28E-4200-9786-3F320373F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DB29-A41F-405A-B3E7-D5AFEDCA7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D2B8-72D9-4E27-B4AC-EDCBC72F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0327-CDAE-46E9-A4C8-63ECAA0E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9E10-4BC4-43AD-BB6B-74B490C2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99"/>
              </a:spcBef>
              <a:buClr>
                <a:srgbClr val="6699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584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3836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67E70-2FC1-45EE-AEF7-D44D3854F8EC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597720" y="5661000"/>
            <a:ext cx="853920" cy="1081080"/>
          </a:xfrm>
          <a:prstGeom prst="rect">
            <a:avLst/>
          </a:prstGeom>
          <a:ln w="0">
            <a:noFill/>
          </a:ln>
        </p:spPr>
      </p:pic>
      <p:grpSp>
        <p:nvGrpSpPr>
          <p:cNvPr id="6" name=""/>
          <p:cNvGrpSpPr/>
          <p:nvPr/>
        </p:nvGrpSpPr>
        <p:grpSpPr>
          <a:xfrm>
            <a:off x="160200" y="115920"/>
            <a:ext cx="8813880" cy="6408720"/>
            <a:chOff x="160200" y="115920"/>
            <a:chExt cx="8813880" cy="6408720"/>
          </a:xfrm>
        </p:grpSpPr>
        <p:sp>
          <p:nvSpPr>
            <p:cNvPr id="7" name=""/>
            <p:cNvSpPr/>
            <p:nvPr/>
          </p:nvSpPr>
          <p:spPr>
            <a:xfrm>
              <a:off x="179280" y="135000"/>
              <a:ext cx="8785440" cy="0"/>
            </a:xfrm>
            <a:prstGeom prst="line">
              <a:avLst/>
            </a:prstGeom>
            <a:ln w="507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60200" y="6505920"/>
              <a:ext cx="6408720" cy="0"/>
            </a:xfrm>
            <a:prstGeom prst="line">
              <a:avLst/>
            </a:prstGeom>
            <a:ln w="507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9280" y="115920"/>
              <a:ext cx="0" cy="6408720"/>
            </a:xfrm>
            <a:prstGeom prst="line">
              <a:avLst/>
            </a:prstGeom>
            <a:ln w="507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955000" y="115920"/>
              <a:ext cx="0" cy="6408720"/>
            </a:xfrm>
            <a:prstGeom prst="line">
              <a:avLst/>
            </a:prstGeom>
            <a:ln w="507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613720" y="6505920"/>
              <a:ext cx="360360" cy="0"/>
            </a:xfrm>
            <a:prstGeom prst="line">
              <a:avLst/>
            </a:prstGeom>
            <a:ln w="507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" name="" descr=""/>
          <p:cNvPicPr/>
          <p:nvPr/>
        </p:nvPicPr>
        <p:blipFill>
          <a:blip r:embed="rId3"/>
          <a:stretch/>
        </p:blipFill>
        <p:spPr>
          <a:xfrm>
            <a:off x="7432560" y="5805360"/>
            <a:ext cx="1150920" cy="925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66CCB-7663-493A-BBBC-5E8A132FB9B1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627280" y="189000"/>
            <a:ext cx="1251000" cy="1584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4643280" y="333360"/>
            <a:ext cx="1800360" cy="14479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874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3816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000000"/>
                </a:solidFill>
                <a:latin typeface="Arial"/>
              </a:rPr>
              <a:t>反吸煙政策前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0328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007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275280" y="1051560"/>
            <a:ext cx="25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哪方面不足夠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可選多項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971640" y="2060640"/>
          <a:ext cx="7272360" cy="3171600"/>
        </p:xfrm>
        <a:graphic>
          <a:graphicData uri="http://schemas.openxmlformats.org/drawingml/2006/table">
            <a:tbl>
              <a:tblPr/>
              <a:tblGrid>
                <a:gridCol w="2974680"/>
                <a:gridCol w="2149560"/>
                <a:gridCol w="2148120"/>
              </a:tblGrid>
              <a:tr h="792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市民樣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(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基數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=13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吸煙者樣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(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基數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=7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宣傳不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提供戒煙服務的地點不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冇免費提供所有戒煙藥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戒煙服務時間太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其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唔知／難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3924360" y="2871720"/>
            <a:ext cx="4319640" cy="3603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24360" y="3284640"/>
            <a:ext cx="4319640" cy="3603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24360" y="3687840"/>
            <a:ext cx="4319640" cy="3603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12760" y="654372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3FB03-8D79-4883-9D10-F812D0F10E90}" type="slidenum">
              <a:rPr b="1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0E14-71FC-4F38-BF5C-867D78F51DD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048480" y="906840"/>
            <a:ext cx="276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可以改善的地方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可選多項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826920" y="1557360"/>
          <a:ext cx="7274160" cy="3398760"/>
        </p:xfrm>
        <a:graphic>
          <a:graphicData uri="http://schemas.openxmlformats.org/drawingml/2006/table">
            <a:tbl>
              <a:tblPr/>
              <a:tblGrid>
                <a:gridCol w="3240360"/>
                <a:gridCol w="2089080"/>
                <a:gridCol w="1944720"/>
              </a:tblGrid>
              <a:tr h="781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市民樣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(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基數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=99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吸煙者樣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(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基數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=49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加強宣傳戒煙服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增加戒煙服務地點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所有戒煙藥物由政府免費提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延長戒煙服務時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政府增加資助購買戒煙藥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其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唔知／難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4067280" y="2314440"/>
            <a:ext cx="4033800" cy="3603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67280" y="2727360"/>
            <a:ext cx="4033800" cy="3603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067280" y="3130560"/>
            <a:ext cx="4033800" cy="3603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12760" y="654372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F1265-F265-4F22-B402-7537A5B04408}" type="slidenum">
              <a:rPr b="1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236D-34A2-482A-9801-7E18A909927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68360" y="69552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假設政府有意向某些人士優先提供免費戒煙服務，哪些組別應優先享有這服務 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要求被訪者以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0-10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分評價每個組別應否享有優先戒煙服務，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分代表絕對不應該，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代表絕對應該，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分代表一半半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530280" y="1954080"/>
          <a:ext cx="8137440" cy="3237120"/>
        </p:xfrm>
        <a:graphic>
          <a:graphicData uri="http://schemas.openxmlformats.org/drawingml/2006/table">
            <a:tbl>
              <a:tblPr/>
              <a:tblGrid>
                <a:gridCol w="904680"/>
                <a:gridCol w="1054080"/>
                <a:gridCol w="1235160"/>
                <a:gridCol w="1236600"/>
                <a:gridCol w="1235160"/>
                <a:gridCol w="1236600"/>
                <a:gridCol w="123516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長期病患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經濟上不能負擔私營醫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服務的人士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嚴重吸煙人士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市民樣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吸煙者樣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市民樣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吸煙者樣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市民樣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吸煙者樣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細明體"/>
                          <a:ea typeface="標楷體"/>
                        </a:rPr>
                        <a:t>平均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7.48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7.8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6.45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6.56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6.56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6.56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基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9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4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9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4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9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4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細明體"/>
                          <a:ea typeface="標楷體"/>
                        </a:rPr>
                        <a:t>誤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0.10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0.15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0.10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0.15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0.10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0.16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"/>
          <p:cNvSpPr/>
          <p:nvPr/>
        </p:nvSpPr>
        <p:spPr>
          <a:xfrm>
            <a:off x="1908000" y="2041560"/>
            <a:ext cx="1440000" cy="7920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760" y="654372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6E9D2-3B97-4B46-A8B5-94EEA5C02739}" type="slidenum">
              <a:rPr b="1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254C-2999-407C-A546-0F0659C429F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主要結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0000"/>
              </a:lnSpc>
              <a:spcBef>
                <a:spcPts val="601"/>
              </a:spcBef>
              <a:buClr>
                <a:srgbClr val="6699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被訪者對政府戒煙服務認知度不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0000"/>
              </a:lnSpc>
              <a:spcBef>
                <a:spcPts val="601"/>
              </a:spcBef>
              <a:buClr>
                <a:srgbClr val="6699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超過四成被訪者認為戒煙服務不足夠，主要問題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584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宣傳不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584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提供戒煙服務的地點不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584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冇免費提供所有戒煙藥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0000"/>
              </a:lnSpc>
              <a:spcBef>
                <a:spcPts val="601"/>
              </a:spcBef>
              <a:buClr>
                <a:srgbClr val="6699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政府未來應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584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加強宣傳戒煙服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584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增加戒煙服務地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584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免費提供所有戒煙藥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0000"/>
              </a:lnSpc>
              <a:spcBef>
                <a:spcPts val="601"/>
              </a:spcBef>
              <a:buClr>
                <a:srgbClr val="6699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政府應優先向長期病患者提供免費戒煙服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2760" y="654372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B5C89-A4F8-4A50-B8FA-84B4657AF57C}" type="slidenum">
              <a:rPr b="1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64AD-7678-4F72-AAF4-7E48AFE5B35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7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712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張德喜先生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5712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病人互助組織聯盟主席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624120" y="720720"/>
            <a:ext cx="1886040" cy="18651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12760" y="654372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8CA83-C4CD-478D-9C80-3C4B703300F0}" type="slidenum">
              <a:rPr b="1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CD5D-3534-4392-81F9-FF800F6A7A9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吸煙人士戒煙時所面對的問題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56000" y="141192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有沒有考慮戒煙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在戒煙當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547640" y="2060640"/>
          <a:ext cx="5857920" cy="3495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060640"/>
                    <a:ext cx="5857920" cy="34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6156360" y="3357720"/>
            <a:ext cx="936720" cy="5745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2760" y="654372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1B3C4-D524-4027-B5A2-0365542ED47C}" type="slidenum">
              <a:rPr b="1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3FEE-C532-4F2E-B004-1AB2971774F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663640" y="83556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戒煙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考慮戒煙的原因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可選多項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908000" y="1557360"/>
          <a:ext cx="5088240" cy="4170240"/>
        </p:xfrm>
        <a:graphic>
          <a:graphicData uri="http://schemas.openxmlformats.org/drawingml/2006/table">
            <a:tbl>
              <a:tblPr/>
              <a:tblGrid>
                <a:gridCol w="3473640"/>
                <a:gridCol w="1614600"/>
              </a:tblGrid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 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(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基數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=37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個人健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家人健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節省金錢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家人鼓勵／壓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新禁煙條例實施後，吸煙不方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醫生勸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個人儀容／形象問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冇咩特別原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其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唔知／難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"/>
          <p:cNvSpPr/>
          <p:nvPr/>
        </p:nvSpPr>
        <p:spPr>
          <a:xfrm>
            <a:off x="5391000" y="2049480"/>
            <a:ext cx="1584360" cy="3826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91000" y="2421000"/>
            <a:ext cx="1584360" cy="3826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97480" y="2830680"/>
            <a:ext cx="1584360" cy="3823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2760" y="654372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84DE3-7523-49BE-A252-1D3728BAB62A}" type="slidenum">
              <a:rPr b="1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C0F2-6664-4C07-8393-52D765A83F4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835280" y="934200"/>
            <a:ext cx="55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採用／計劃採用的戒煙方法 </a:t>
            </a:r>
            <a:r>
              <a:rPr b="1" lang="zh-TW" sz="24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</a:t>
            </a:r>
            <a:r>
              <a:rPr b="1" lang="zh-TW" sz="24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可選多項</a:t>
            </a:r>
            <a:r>
              <a:rPr b="1" lang="zh-TW" sz="24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476360" y="1844640"/>
          <a:ext cx="6192720" cy="3132000"/>
        </p:xfrm>
        <a:graphic>
          <a:graphicData uri="http://schemas.openxmlformats.org/drawingml/2006/table">
            <a:tbl>
              <a:tblPr/>
              <a:tblGrid>
                <a:gridCol w="4151160"/>
                <a:gridCol w="2041560"/>
              </a:tblGrid>
              <a:tr h="554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(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基數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=37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靠自己意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戒煙輔助產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戒煙藥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戒煙輔導服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只是在考慮中，未有實際行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其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唔知／難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"/>
          <p:cNvSpPr/>
          <p:nvPr/>
        </p:nvSpPr>
        <p:spPr>
          <a:xfrm>
            <a:off x="0" y="492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629320" y="2421000"/>
            <a:ext cx="2016000" cy="3603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40480" y="2814480"/>
            <a:ext cx="2016000" cy="7192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2760" y="654372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AD2F8-4966-48A0-8409-1D3E0593C3A9}" type="slidenum">
              <a:rPr b="1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061D-229A-491F-A86A-4A1B2E901AC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85800" y="61992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611280" y="2205000"/>
          <a:ext cx="3960720" cy="2363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205000"/>
                    <a:ext cx="3960720" cy="23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950760" y="1434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332000" y="148428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Arial"/>
              </a:rPr>
              <a:t>戒煙失敗經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4716360" y="2205000"/>
          <a:ext cx="3792600" cy="2355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2205000"/>
                    <a:ext cx="3792600" cy="23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5508720" y="148428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Arial"/>
              </a:rPr>
              <a:t>戒煙失敗次數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492360" y="3068640"/>
            <a:ext cx="648000" cy="5763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591160" y="2692440"/>
            <a:ext cx="1152720" cy="5270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2760" y="654372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6761B-426E-4E0C-A7FA-AB1F404EFCFA}" type="slidenum">
              <a:rPr b="1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076720" y="501336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平均戒煙失敗次數為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3.53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AC41-266D-4BFD-8DE7-3C4F9877F7D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191760" y="105156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戒煙唔成功原因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可選多項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619280" y="1844640"/>
          <a:ext cx="5688000" cy="3108240"/>
        </p:xfrm>
        <a:graphic>
          <a:graphicData uri="http://schemas.openxmlformats.org/drawingml/2006/table">
            <a:tbl>
              <a:tblPr/>
              <a:tblGrid>
                <a:gridCol w="3813120"/>
                <a:gridCol w="1874880"/>
              </a:tblGrid>
              <a:tr h="530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(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基數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=17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唔夠決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朋輩影響／社交需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吸煙已成為習慣／嗜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生活壓力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細明體"/>
                          <a:ea typeface="標楷體"/>
                        </a:rPr>
                        <a:t>戒煙致身體肥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沒有足夠支援服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以往使用之戒煙方法無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9" name=""/>
          <p:cNvSpPr/>
          <p:nvPr/>
        </p:nvSpPr>
        <p:spPr>
          <a:xfrm>
            <a:off x="5435640" y="2421000"/>
            <a:ext cx="1873080" cy="3603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440320" y="2781360"/>
            <a:ext cx="1868400" cy="3603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12760" y="654372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AB472-E285-4E19-B7F9-86FC4D43A557}" type="slidenum">
              <a:rPr b="1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36DB-8FF9-48A3-B04F-BE17C5337CF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39640" y="285264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陳弄年姑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7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清新健康人協會代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7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780000" y="404640"/>
            <a:ext cx="1747800" cy="2213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12760" y="654372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0D69-DA18-46E8-B49A-41209A62C2FE}" type="slidenum">
              <a:rPr b="1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62A9-0E1A-4706-8661-EE6F296D70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主要結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buClr>
                <a:srgbClr val="6699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一半吸煙被訪者考慮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正在戒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buClr>
                <a:srgbClr val="6699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主要戒煙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考慮戒煙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5840">
              <a:spcBef>
                <a:spcPts val="4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個人健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5840">
              <a:spcBef>
                <a:spcPts val="4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家人健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5840">
              <a:spcBef>
                <a:spcPts val="4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節省金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buClr>
                <a:srgbClr val="6699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單靠意志難以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次成功戒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buClr>
                <a:srgbClr val="6699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平均戒煙失敗次數為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.5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次，主要原因為決心不足及朋輩影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12760" y="654372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7894F-312A-41B9-BCFD-858F5D8B1684}" type="slidenum">
              <a:rPr b="1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DAE2-AB60-4C26-B387-6C582B0FED2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建議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反吸煙政策前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buClr>
                <a:srgbClr val="6699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加強戒煙服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buClr>
                <a:srgbClr val="6699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輔導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家人支持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藥物輔助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最有效戒煙方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buClr>
                <a:srgbClr val="6699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戒煙資源是投資，不是支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12760" y="654372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F68F2-6603-400F-8FE3-E3D1B8196825}" type="slidenum">
              <a:rPr b="1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0379-6E96-45E9-B1C6-4DBB5F40932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r>
              <a:rPr b="0" lang="zh-TW" sz="7200" spc="-1" strike="noStrike">
                <a:solidFill>
                  <a:srgbClr val="000000"/>
                </a:solidFill>
                <a:latin typeface="Arial"/>
              </a:rPr>
              <a:t>多謝各位嘉賓及</a:t>
            </a:r>
            <a:br>
              <a:rPr sz="7200"/>
            </a:br>
            <a:r>
              <a:rPr b="0" lang="zh-TW" sz="7200" spc="-1" strike="noStrike">
                <a:solidFill>
                  <a:srgbClr val="000000"/>
                </a:solidFill>
                <a:latin typeface="Arial"/>
              </a:rPr>
              <a:t>傳媒</a:t>
            </a:r>
            <a:r>
              <a:rPr b="0" lang="zh-TW" sz="7200" spc="-1" strike="noStrike">
                <a:solidFill>
                  <a:srgbClr val="000000"/>
                </a:solidFill>
                <a:latin typeface="Arial"/>
              </a:rPr>
              <a:t>!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5207-3A77-4F48-9B04-A1499B75239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調查背景資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0000"/>
              </a:lnSpc>
              <a:spcBef>
                <a:spcPts val="499"/>
              </a:spcBef>
              <a:buClr>
                <a:srgbClr val="6699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主辦機構</a:t>
            </a: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:</a:t>
            </a: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清新健康人協會、病人互助組織聯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0000"/>
              </a:lnSpc>
              <a:spcBef>
                <a:spcPts val="499"/>
              </a:spcBef>
              <a:buClr>
                <a:srgbClr val="6699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調查機構</a:t>
            </a: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:</a:t>
            </a: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香港大學民意研究計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0000"/>
              </a:lnSpc>
              <a:spcBef>
                <a:spcPts val="499"/>
              </a:spcBef>
              <a:buClr>
                <a:srgbClr val="6699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調查目的</a:t>
            </a: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: </a:t>
            </a: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瞭解被訪者對擴大禁煙規定和政府戒煙服務的意見；與</a:t>
            </a: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及現時或曾經吸煙人士在戒煙時所面對的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0000"/>
              </a:lnSpc>
              <a:spcBef>
                <a:spcPts val="499"/>
              </a:spcBef>
              <a:buClr>
                <a:srgbClr val="6699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調查對象</a:t>
            </a: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:</a:t>
            </a: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18</a:t>
            </a: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歲或以上操粵語市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0000"/>
              </a:lnSpc>
              <a:spcBef>
                <a:spcPts val="499"/>
              </a:spcBef>
              <a:buClr>
                <a:srgbClr val="6699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調查日期</a:t>
            </a: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:</a:t>
            </a: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2007</a:t>
            </a: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年</a:t>
            </a: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10</a:t>
            </a: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月</a:t>
            </a: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12</a:t>
            </a: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日至</a:t>
            </a: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11</a:t>
            </a: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月</a:t>
            </a: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9</a:t>
            </a: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0000"/>
              </a:lnSpc>
              <a:spcBef>
                <a:spcPts val="499"/>
              </a:spcBef>
              <a:buClr>
                <a:srgbClr val="6699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成功樣本</a:t>
            </a: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:</a:t>
            </a: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市民樣本</a:t>
            </a: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:</a:t>
            </a: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1,004 (</a:t>
            </a: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標準誤差少於</a:t>
            </a: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1.6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吸煙者樣本</a:t>
            </a: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:</a:t>
            </a: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502 (219 </a:t>
            </a: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為重覆樣本，已包括在市民樣</a:t>
            </a: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本中</a:t>
            </a: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; </a:t>
            </a: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標準誤差少於</a:t>
            </a: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2.2%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2760" y="654372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CFD01-8B2A-41E1-95B9-B639E5B40148}" type="slidenum">
              <a:rPr b="1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332A-4414-44B2-8779-8E7137054AE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對新禁煙政策的意見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10360" y="1340280"/>
            <a:ext cx="397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新禁煙條例生效後所帶來的好處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可選多項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798480" y="1811160"/>
          <a:ext cx="7499520" cy="3900600"/>
        </p:xfrm>
        <a:graphic>
          <a:graphicData uri="http://schemas.openxmlformats.org/drawingml/2006/table">
            <a:tbl>
              <a:tblPr/>
              <a:tblGrid>
                <a:gridCol w="3238560"/>
                <a:gridCol w="2216160"/>
                <a:gridCol w="2044800"/>
              </a:tblGrid>
              <a:tr h="522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57120" indent="-357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市民樣本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7120" indent="-357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(</a:t>
                      </a: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基數</a:t>
                      </a: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=1,00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57120" indent="-357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吸煙者樣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7120" indent="-357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(</a:t>
                      </a: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基數</a:t>
                      </a: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=50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7120" indent="-357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整體空氣質素有改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57120" indent="-357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57120" indent="-357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7120" indent="-357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不用被迫吸二手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57120" indent="-357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57120" indent="-357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7120" indent="-357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室內吸煙情況減少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57120" indent="-357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57120" indent="-357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7120" indent="-357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市民身體健康情況有改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57120" indent="-357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57120" indent="-357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7120" indent="-357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多咗人戒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57120" indent="-357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57120" indent="-357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7120" indent="-357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地方環境較清潔乾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57120" indent="-357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57120" indent="-357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7120" indent="-357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青少年吸煙問題減少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57120" indent="-357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57120" indent="-357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7120" indent="-357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多咗人考慮戒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57120" indent="-357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57120" indent="-357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7120" indent="-357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沒有任何好處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57120" indent="-357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57120" indent="-357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7120" indent="-357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其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57120" indent="-357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57120" indent="-357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7120" indent="-357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唔知／難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57120" indent="-357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57120" indent="-357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4033800" y="2373480"/>
            <a:ext cx="4286160" cy="3157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030560" y="2689200"/>
            <a:ext cx="4286520" cy="3160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030560" y="2997360"/>
            <a:ext cx="4286520" cy="3157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2760" y="654372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BA5E6-7AE3-4527-B1CB-C44A01E8CD80}" type="slidenum">
              <a:rPr b="1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5BC8-C439-43D1-AF49-7359B71D575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538720" y="906840"/>
            <a:ext cx="397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新禁煙條例生效後所帶來的壞處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可選多項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755640" y="1557360"/>
          <a:ext cx="7559640" cy="3672000"/>
        </p:xfrm>
        <a:graphic>
          <a:graphicData uri="http://schemas.openxmlformats.org/drawingml/2006/table">
            <a:tbl>
              <a:tblPr/>
              <a:tblGrid>
                <a:gridCol w="2842560"/>
                <a:gridCol w="2496600"/>
                <a:gridCol w="2220480"/>
              </a:tblGrid>
              <a:tr h="670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57120" indent="-357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市民樣本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7120" indent="-357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(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基數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=99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57120" indent="-357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吸煙者樣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7120" indent="-357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(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基數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=49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375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7120" indent="-357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室外二手煙問題嚴重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57120" indent="-357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57120" indent="-357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7120" indent="-357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吸煙人士權利受影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57120" indent="-357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57120" indent="-357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7120" indent="-357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食肆生意受到影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57120" indent="-357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57120" indent="-357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7120" indent="-357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為吸煙人士帶來不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57120" indent="-357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57120" indent="-357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7120" indent="-357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吸煙人士工作效率減低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57120" indent="-357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57120" indent="-357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7120" indent="-357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沒有任何壞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57120" indent="-357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57120" indent="-357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7120" indent="-357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其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57120" indent="-357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57120" indent="-357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7120" indent="-357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唔知／難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57120" indent="-357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57120" indent="-357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3573360" y="2233440"/>
            <a:ext cx="2521080" cy="36036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73360" y="4119480"/>
            <a:ext cx="4743720" cy="36036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84720" y="2233440"/>
            <a:ext cx="2232360" cy="36036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84720" y="2627280"/>
            <a:ext cx="2232360" cy="36036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2760" y="654372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D254C-B5C0-4655-AE2A-C0D06446B525}" type="slidenum">
              <a:rPr b="1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989A-2AFE-47F5-9904-B64B0283F8B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954520" y="763920"/>
            <a:ext cx="31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政府未來的控煙重點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可選多項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42920" y="1557360"/>
          <a:ext cx="7201080" cy="3676680"/>
        </p:xfrm>
        <a:graphic>
          <a:graphicData uri="http://schemas.openxmlformats.org/drawingml/2006/table">
            <a:tbl>
              <a:tblPr/>
              <a:tblGrid>
                <a:gridCol w="3108240"/>
                <a:gridCol w="2129040"/>
                <a:gridCol w="1963800"/>
              </a:tblGrid>
              <a:tr h="730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市民樣本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(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基數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=99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吸煙者樣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(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基數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=48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加強執法／巡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60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加強禁煙宣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60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增加戒煙服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48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繼續擴大禁煙範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44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增加罸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39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不准賣煙／禁止香煙入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其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唔知／難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6737400" y="2549520"/>
            <a:ext cx="1081080" cy="576360"/>
          </a:xfrm>
          <a:custGeom>
            <a:avLst/>
            <a:gdLst>
              <a:gd name="textAreaLeft" fmla="*/ 246600 w 1081080"/>
              <a:gd name="textAreaRight" fmla="*/ 834480 w 1081080"/>
              <a:gd name="textAreaTop" fmla="*/ 131400 h 576360"/>
              <a:gd name="textAreaBottom" fmla="*/ 444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140360" y="2349360"/>
            <a:ext cx="2160360" cy="3589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140360" y="2708280"/>
            <a:ext cx="2160360" cy="3589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140360" y="3068640"/>
            <a:ext cx="2160360" cy="3589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2760" y="654372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D18F5-2FAA-4777-9B06-77128C7A945C}" type="slidenum">
              <a:rPr b="1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4178-DD53-4684-AA5E-73932A1FAE2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主要結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buClr>
                <a:srgbClr val="6699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新禁煙政策成效獲肯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buClr>
                <a:srgbClr val="6699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較多被訪者認為未來的控煙重點應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5840">
              <a:spcBef>
                <a:spcPts val="4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加強執法／巡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5840">
              <a:spcBef>
                <a:spcPts val="4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加強禁煙宣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5840">
              <a:spcBef>
                <a:spcPts val="4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增加戒煙服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2760" y="654372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42305-B3E0-4AB6-B2FE-E805E98A2167}" type="slidenum">
              <a:rPr b="1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476D-F75C-4E21-B8CF-C8449811BB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對政府提供之戒煙服務的意見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61880" y="2635200"/>
          <a:ext cx="4199040" cy="244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2635200"/>
                    <a:ext cx="419904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3040200" y="169920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對政府提供之戒煙服務的認知程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648320" y="2638440"/>
          <a:ext cx="4100400" cy="2446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2638440"/>
                    <a:ext cx="4100400" cy="24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1332000" y="4292640"/>
            <a:ext cx="718920" cy="5032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292720" y="4292640"/>
            <a:ext cx="719280" cy="5032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2760" y="654372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9C74C-BD96-4BFF-A8AF-8DE18117A31D}" type="slidenum">
              <a:rPr b="1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6345-A750-4EC6-92D2-BC39CDA1781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887200" y="1124280"/>
            <a:ext cx="31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政府目前所提供的戒煙服務是否足夠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43000" y="2114640"/>
          <a:ext cx="4367160" cy="271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000" y="2114640"/>
                    <a:ext cx="4367160" cy="27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4562640" y="2116080"/>
          <a:ext cx="4392360" cy="2728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62640" y="2116080"/>
                    <a:ext cx="4392360" cy="27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 rot="2638800">
            <a:off x="226800" y="3454200"/>
            <a:ext cx="2232000" cy="7617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2638800">
            <a:off x="4608000" y="3446280"/>
            <a:ext cx="2328840" cy="8982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2760" y="654372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86B15-D614-4582-B926-C9BF70528CC5}" type="slidenum">
              <a:rPr b="1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522936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57.8%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市民認為戒煙服務唔足夠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一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788000" y="5229360"/>
            <a:ext cx="40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58%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吸煙者認為服務唔足夠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一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40200" y="3879720"/>
            <a:ext cx="1079280" cy="5032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237440" y="3971880"/>
            <a:ext cx="1079640" cy="5032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72D8-E542-4C40-BDB0-94B7A79138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2:35:31Z</dcterms:created>
  <dc:creator>Fanny Kwong</dc:creator>
  <dc:description/>
  <dc:language>en-US</dc:language>
  <cp:lastModifiedBy>HKUPOP</cp:lastModifiedBy>
  <dcterms:modified xsi:type="dcterms:W3CDTF">2007-12-12T10:32:03Z</dcterms:modified>
  <cp:revision>44</cp:revision>
  <dc:subject/>
  <dc:title>Slide 1</dc:title>
</cp:coreProperties>
</file>