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64CE-F7C0-4B68-B9E1-580FD533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B921-92BE-4C47-A426-908943FD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481C-66E1-469C-9441-3DAD5343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E430-5CB5-4FA6-A3FB-2AFB03B1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378A-8694-4A2B-9A85-F3C7A2F2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B43C-13D8-44FF-8C67-ACCFACC4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56D7-C61E-4A50-B31C-38539D8D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DE05-4F9C-4441-8BDE-BE09C8EB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24C7-39C6-469A-B3A5-93794A8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3155-A5F0-466C-B48E-DC7D1499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22D5-DD66-4162-8E9F-C3813774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2A05-3F1B-4B69-910D-487F1987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34A4-B4D3-4AC7-AE0E-1FDC2A7E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16D1-E43C-41AC-9CA4-1D149A83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911E-DDA9-4915-AAEE-8DCFDBE8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F2CE-FA60-494B-8915-030245CB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18B7-4915-4B2B-BAA6-EE370CE8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EB14-581F-4150-B241-0EFE8C44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3BB4-A4F6-4CFE-B739-A382E40D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3EB9-02A0-4C75-B916-3D39E0D8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4B20-75B9-4B75-A04D-DEF2982C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44AA-F644-4E59-9117-C2B88A1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E5A8-78A3-459C-8463-B344569F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63FF-629A-43FA-A3B9-AD26AC0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A7A2-604C-484B-86A6-4A9C87A5CCEA}" type="slidenum">
              <a:rPr b="0" lang="zh-TW" sz="1200" spc="-1" strike="noStrike">
                <a:solidFill>
                  <a:srgbClr val="000000"/>
                </a:solidFill>
                <a:latin typeface="Arial Black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1" marL="698400" indent="-268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2" marL="1074240" indent="-2145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3" marL="1504080" indent="-214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4" marL="1933920" indent="-214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5" marL="1933920" indent="-214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6" marL="1933920" indent="-214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E97C-9EBB-483F-8696-66DB251CC1C1}" type="slidenum">
              <a:rPr b="0" lang="zh-TW" sz="1200" spc="-1" strike="noStrike">
                <a:solidFill>
                  <a:srgbClr val="000000"/>
                </a:solidFill>
                <a:latin typeface="Arial Black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6933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新細明體"/>
              </a:rPr>
              <a:t>Click to edit the title text format</a:t>
            </a:r>
            <a:endParaRPr b="1" lang="en-US" sz="5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新細明體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/imgres?imgurl=http://www.all-in-the-image.com/pi/downloads/objects/large-red-heart-gingerbauer.gif&amp;imgrefurl=http://www.all-in-the-image.com/graphics.htm&amp;h=252&amp;w=276&amp;sz=23&amp;hl=en&amp;start=2&amp;tbnid=oPVfgPsSpCqjTM:&amp;tbnh=104&amp;tbnw=114&amp;prev=/images%3Fq%3Dred%2Bheart%26svnum%3D10%26hl%3Den%26lr%3D%26sa%3D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images.google.com/imgres?imgurl=http://www.laporta.co.uk/images/shopimages/maximo_2st_white.jpg&amp;imgrefurl=http://www.laporta.co.uk/products/sofas_maximo.html&amp;h=240&amp;w=340&amp;sz=9&amp;hl=en&amp;start=4&amp;tbnid=tVLDVdlV_MpQmM:&amp;tbnh=84&amp;tbnw=119&amp;prev=/images%3Fq%3Dwhite%2Bsofa%26svnum%3D10%26hl%3Den%26lr%3D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leystressclinic.com/self-confidence_files/image001.gif&amp;imgrefurl=http://www.harleystressclinic.com/self-confidence.htm&amp;h=198&amp;w=189&amp;sz=6&amp;hl=en&amp;start=152&amp;tbnid=zSu1hMusNCqEKM:&amp;tbnh=104&amp;tbnw=99&amp;prev=/images%3Fq%3Dconfidence%26start%3D140%26ndsp%3D20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62160" y="4191120"/>
            <a:ext cx="4647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講者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袁家慧博士</a:t>
            </a:r>
            <a:endParaRPr b="0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資深輔導心理學家</a:t>
            </a:r>
            <a:endParaRPr b="0" lang="en-US" sz="3000" spc="-1" strike="noStrike">
              <a:solidFill>
                <a:srgbClr val="000000"/>
              </a:solidFill>
              <a:latin typeface="新細明體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新細明體"/>
              </a:rPr>
              <a:t>二零零六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年</a:t>
            </a:r>
            <a:r>
              <a:rPr b="0" lang="zh-CN" sz="3000" spc="-1" strike="noStrike">
                <a:solidFill>
                  <a:srgbClr val="000000"/>
                </a:solidFill>
                <a:latin typeface="新細明體"/>
              </a:rPr>
              <a:t>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月</a:t>
            </a:r>
            <a:r>
              <a:rPr b="0" lang="zh-CN" sz="3000" spc="-1" strike="noStrike">
                <a:solidFill>
                  <a:srgbClr val="000000"/>
                </a:solidFill>
                <a:latin typeface="新細明體"/>
              </a:rPr>
              <a:t>二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三日</a:t>
            </a:r>
            <a:endParaRPr b="0" lang="en-US" sz="3000" spc="-1" strike="noStrike">
              <a:solidFill>
                <a:srgbClr val="000000"/>
              </a:solidFill>
              <a:latin typeface="新細明體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86200" y="838080"/>
            <a:ext cx="4209480" cy="2671920"/>
            <a:chOff x="3886200" y="838080"/>
            <a:chExt cx="4209480" cy="2671920"/>
          </a:xfrm>
        </p:grpSpPr>
        <p:grpSp>
          <p:nvGrpSpPr>
            <p:cNvPr id="84" name=""/>
            <p:cNvGrpSpPr/>
            <p:nvPr/>
          </p:nvGrpSpPr>
          <p:grpSpPr>
            <a:xfrm>
              <a:off x="3886200" y="838080"/>
              <a:ext cx="2910240" cy="1145520"/>
              <a:chOff x="3886200" y="838080"/>
              <a:chExt cx="2910240" cy="1145520"/>
            </a:xfrm>
          </p:grpSpPr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86200" y="838080"/>
                <a:ext cx="107640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4969800" y="1066680"/>
                <a:ext cx="1826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54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對抗煙癮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504320" y="2197080"/>
              <a:ext cx="3591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0" spc="-1" strike="noStrike">
                  <a:solidFill>
                    <a:srgbClr val="cc0000"/>
                  </a:solidFill>
                  <a:latin typeface="新細明體"/>
                  <a:ea typeface="新細明體"/>
                </a:rPr>
                <a:t>由      開始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029200" y="2184480"/>
              <a:ext cx="1447920" cy="132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「先減後戒」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三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步</a:t>
            </a:r>
            <a:br>
              <a:rPr sz="3600"/>
            </a:b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持之以恒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定期與醫護人員檢討戒煙進度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持續減少吸煙數目，繼續使用尼古丁代替品紓緩吸煙意欲，直至達成戒煙目標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面對香煙引誘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370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避免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香煙引誘及進行關連的活動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1370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尋求替代品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SzPct val="1370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很想吸煙時，嘗試讓自己冷靜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10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分鐘，延緩吸煙的欲望，讓煙癮漸漸冷卻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保持正面態度及樂觀心情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自我獎勵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確立無煙生活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建立一個無煙的工作間和起居環境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告訴工作伙伴和朋友，你的辦公室和家居是無煙空間，並請他們合作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丟棄所有煙包、煙盒、打火機和煙灰缸  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鼓勵有吸煙習慣的家人和朋友戒煙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選擇無煙食肆和活動場所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1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86400" y="4419720"/>
            <a:ext cx="2895480" cy="20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克服煙癮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應付戒掉煙癮後，偶爾也可能出現吸煙的渴望。這時可嘗試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離開身處的環境，或暫停手上的事情，想想別的事物分散注意力，讓吸煙的渴望慢慢降溫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想像一下吸煙對自己健康的禍害，及對家人和朋友的負面影響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萬一再次吸煙，無需為一時失敗而沮喪。借此機會勉勵自己，不少人也要經過多次失敗方能成功戒煙。 應立下決心再接再勵 ，以達成戒煙目標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需要時，使用尼古丁代替品，以紓緩吸煙渴望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總結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705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有意戒煙人士應先行減少吸煙數目以便適應，再徹底戒除煙癮。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達到減少每日吸煙數目，能增加戒煙人士的成功感，有助他們建立戒煙信心。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他們的戒煙成功率更高，再次上癮機會亦較低。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「先減後戒」，並輔以尼古丁補充療法的循序漸進戒煙療程，比傳統「一刀切」式即時戒煙方法，更能幫助吸煙者徹底擺脫煙癮。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334120"/>
            <a:ext cx="64771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3300"/>
                </a:solidFill>
                <a:latin typeface="Arial"/>
                <a:ea typeface="新細明體"/>
              </a:rPr>
              <a:t>意志和恒心，是成功戒煙的關鍵</a:t>
            </a:r>
            <a:r>
              <a:rPr b="1" lang="en-US" sz="3500" spc="-1" strike="noStrike">
                <a:solidFill>
                  <a:srgbClr val="ff3300"/>
                </a:solidFill>
                <a:latin typeface="Arial"/>
                <a:ea typeface="新細明體"/>
              </a:rPr>
              <a:t>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了解吸煙者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很多吸煙者都是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由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於年輕時開始吸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食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第一口煙，上癮後無意或無法戒除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而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成為長期煙民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調查顯示，大部份吸煙者於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十八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歲時已感到後悔吸煙；逾半亦曾嘗試戒煙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71500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Henningfield. Tob Control, 2000; Action on Smoking and Health Fact Sheets: Basic Facts 24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吸煙心癮</a:t>
            </a: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? 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除了因為身體對尼古丁產生依賴外，吸煙也可能是一種心理上的需求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吸煙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希望透過吸煙放鬆心情、減壓、追上潮流、獲得朋輩認同，又或因社交應酬和習慣等原因，令吸煙者不能自拔，即所謂「心癮」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吸煙心態、男女有別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81080"/>
          <a:ext cx="8229600" cy="4516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男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女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84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4640" indent="-404640"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02805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減輕或控制不安、焦慮、緊張和失落等負面情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4640" indent="-404640"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消除壓力、疲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4640" indent="-404640"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社交應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4640" indent="-404640"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02805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集中注意力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: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寫作、通宵工作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4640" indent="-4046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4640" indent="-404640"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02805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顯現個性、自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4640" indent="-404640"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02805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與男性看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4640" indent="-404640">
                        <a:lnSpc>
                          <a:spcPct val="100000"/>
                        </a:lnSpc>
                        <a:spcBef>
                          <a:spcPts val="700"/>
                        </a:spcBef>
                        <a:buSzPct val="102805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希望減輕體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4640" indent="-4046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為何</a:t>
            </a: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要</a:t>
            </a: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戒煙</a:t>
            </a: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? 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個人因素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懷孕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家有小孩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友人因吸煙有關疾病死亡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自己的健康問題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自己的財政問題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…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政府禁煙措施、設立無煙食肆、增加煙草稅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…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為何戒煙失敗</a:t>
            </a: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?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酗煙太深，未能一下子戒掉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戒煙後出現的不適徵狀</a:t>
            </a: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如</a:t>
            </a: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不安、焦慮、疲倦</a:t>
            </a: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個人欠缺堅定意志力或戒煙動機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多次戒煙失敗，失去自信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受週遭朋友、環境影響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為何戒煙後</a:t>
            </a: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會</a:t>
            </a: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再上癮</a:t>
            </a: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?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就算成功戒煙，亦可能重新上癮</a:t>
            </a: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飲酒、應酬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壓力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經常處於吸煙環境中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受吸煙朋友影響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難忍戒煙後的不適徵狀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97640" y="3276720"/>
            <a:ext cx="2646360" cy="2781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「先減後戒」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一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步</a:t>
            </a:r>
            <a:br>
              <a:rPr sz="3600"/>
            </a:b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建立信心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明白並接受吸煙有損健康</a:t>
            </a:r>
            <a:r>
              <a:rPr b="0" lang="zh-CN" sz="2100" spc="-1" strike="noStrike">
                <a:solidFill>
                  <a:srgbClr val="000000"/>
                </a:solidFill>
                <a:latin typeface="新細明體"/>
              </a:rPr>
              <a:t>這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事實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找出引發煙癮的事情或處境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如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鬆弛時、遇到壓力時、跟吸煙朋友一起時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……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嘗試改變習慣 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如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飯後吸煙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，並尋求取代方法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檢討以往戒煙的經歷，找出可行和不可行之戒煙方法，搜集戒煙資訊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告訴家人、朋友及同事你決定戒煙，請他們支持及鼓勵 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向醫護人員請教適合自己的戒煙方法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如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尼古丁補充療法</a:t>
            </a: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學習減壓和鬆弛技巧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新細明體"/>
              </a:rPr>
              <a:t>預備一個輕鬆、愉快的心情開始戒煙，想像戒煙後健康和生活的正面改變</a:t>
            </a: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「先減後戒」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二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步</a:t>
            </a:r>
            <a:br>
              <a:rPr sz="3600"/>
            </a:br>
            <a:r>
              <a:rPr b="1" lang="zh-TW" sz="4400" spc="-1" strike="noStrike">
                <a:solidFill>
                  <a:srgbClr val="cc0000"/>
                </a:solidFill>
                <a:latin typeface="新細明體"/>
              </a:rPr>
              <a:t>循序漸進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與醫護人員共同訂立切合個人情況的戒煙目標和完成日期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記錄每日吸煙數目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多進行紓緩情壓力的活動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看電影、運動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刻意抵抗吸煙的意欲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參加個人、小組或電話戒煙輔導 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在專業人士指導下，使用尼古丁代替品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如戒煙膠貼、香口膠或吸劑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UPOP</cp:lastModifiedBy>
  <dcterms:modified xsi:type="dcterms:W3CDTF">2006-11-24T04:48:45Z</dcterms:modified>
  <cp:revision>4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