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6.wmf" ContentType="image/x-wmf"/>
  <Override PartName="/ppt/media/image19.jpeg" ContentType="image/jpeg"/>
  <Override PartName="/ppt/media/image24.jpeg" ContentType="image/jpeg"/>
  <Override PartName="/ppt/media/image23.jpeg" ContentType="image/jpeg"/>
  <Override PartName="/ppt/media/image22.wmf" ContentType="image/x-wmf"/>
  <Override PartName="/ppt/media/image21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4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PMingLiU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3473-11AE-4E5F-A270-C745B0A9DED8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2512-6E47-4501-BFD9-287ECE2D6A65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520" y="378216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08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448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580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52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448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580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08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520" y="378216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08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448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580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52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448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580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08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PMingLiU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PMingLiU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MingLiU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PMingLiU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MingLiU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MingLiU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PMingLiU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PMingLiU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PMingLiU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PMingLiU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PMingLiU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PMingLiU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PMingLiU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zarrefun.com/FAH1701.jpg&amp;imgrefurl=http://www.bizarrefun.com/Products%2520FAH1700B.htm&amp;h=134&amp;w=373&amp;sz=14&amp;hl=en&amp;start=113&amp;tbnid=FnRAPjgyfwMSeM:&amp;tbnh=44&amp;tbnw=122&amp;prev=/images%3Fq%3Da%2Bstick%2Bof%2Bcigarette%26start%3D100%26ndsp%3D20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bizarrefun.com/FAH1701.jpg&amp;imgrefurl=http://www.bizarrefun.com/Products%2520FAH1700B.htm&amp;h=134&amp;w=373&amp;sz=14&amp;hl=en&amp;start=113&amp;tbnid=FnRAPjgyfwMSeM:&amp;tbnh=44&amp;tbnw=122&amp;prev=/images%3Fq%3Da%2Bstick%2Bof%2Bcigarette%26start%3D100%26ndsp%3D20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bizarrefun.com/FAH1701.jpg&amp;imgrefurl=http://www.bizarrefun.com/Products%2520FAH1700B.htm&amp;h=134&amp;w=373&amp;sz=14&amp;hl=en&amp;start=113&amp;tbnid=FnRAPjgyfwMSeM:&amp;tbnh=44&amp;tbnw=122&amp;prev=/images%3Fq%3Da%2Bstick%2Bof%2Bcigarette%26start%3D100%26ndsp%3D20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bizarrefun.com/FAH1701.jpg&amp;imgrefurl=http://www.bizarrefun.com/Products%2520FAH1700B.htm&amp;h=134&amp;w=373&amp;sz=14&amp;hl=en&amp;start=113&amp;tbnid=FnRAPjgyfwMSeM:&amp;tbnh=44&amp;tbnw=122&amp;prev=/images%3Fq%3Da%2Bstick%2Bof%2Bcigarette%26start%3D100%26ndsp%3D20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bizarrefun.com/FAH1701.jpg&amp;imgrefurl=http://www.bizarrefun.com/Products%2520FAH1700B.htm&amp;h=134&amp;w=373&amp;sz=14&amp;hl=en&amp;start=113&amp;tbnid=FnRAPjgyfwMSeM:&amp;tbnh=44&amp;tbnw=122&amp;prev=/images%3Fq%3Da%2Bstick%2Bof%2Bcigarette%26start%3D100%26ndsp%3D20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bizarrefun.com/FAH1701.jpg&amp;imgrefurl=http://www.bizarrefun.com/Products%2520FAH1700B.htm&amp;h=134&amp;w=373&amp;sz=14&amp;hl=en&amp;start=113&amp;tbnid=FnRAPjgyfwMSeM:&amp;tbnh=44&amp;tbnw=122&amp;prev=/images%3Fq%3Da%2Bstick%2Bof%2Bcigarette%26start%3D100%26ndsp%3D20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bizarrefun.com/FAH1701.jpg&amp;imgrefurl=http://www.bizarrefun.com/Products%2520FAH1700B.htm&amp;h=134&amp;w=373&amp;sz=14&amp;hl=en&amp;start=113&amp;tbnid=FnRAPjgyfwMSeM:&amp;tbnh=44&amp;tbnw=122&amp;prev=/images%3Fq%3Da%2Bstick%2Bof%2Bcigarette%26start%3D100%26ndsp%3D20%26svnum%3D10%26hl%3Den%26lr%3D%26sa%3DN" TargetMode="External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hyperlink" Target="http://images.google.com/imgres?imgurl=http://www.quitsmokingonline.com/quitsmoking/aawillpowerman.jpg&amp;imgrefurl=http://www.quitsmokingonline.com/quitsmoking/lesson1f.htm&amp;h=143&amp;w=224&amp;sz=5&amp;hl=en&amp;start=6&amp;tbnid=PP0UtLBz7NV37M:&amp;tbnh=69&amp;tbnw=108&amp;prev=/images%3Fq%3Dquit%2Bsmoking%2Bwith%2Bwillpower%26svnum%3D10%26hl%3Den%26lr%3D%26sa%3D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hyperlink" Target="http://images.google.com/imgres?imgurl=http://www.photo.net/bboard-uploads/008G2o-17993184.jpg&amp;imgrefurl=http://www.photo.net/bboard/q-and-a-fetch-msg%3Fmsg_id%3D008G2o%26tag%3D&amp;h=537&amp;w=511&amp;sz=100&amp;hl=en&amp;start=12&amp;tbnid=I1onZuBCNxzQYM:&amp;tbnh=132&amp;tbnw=126&amp;prev=/images%3Fq%3Dcoffee%2B%2526%2Bsmoke%26svnum%3D10%26hl%3Den%26lr%3D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zarrefun.com/FAH1701.jpg&amp;imgrefurl=http://www.bizarrefun.com/Products%2520FAH1700B.htm&amp;h=134&amp;w=373&amp;sz=14&amp;hl=en&amp;start=113&amp;tbnid=FnRAPjgyfwMSeM:&amp;tbnh=44&amp;tbnw=122&amp;prev=/images%3Fq%3Da%2Bstick%2Bof%2Bcigarette%26start%3D100%26ndsp%3D20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images.google.com/imgres?imgurl=http://www.cosmetic-dentistry.bz/images/lisa%2520smile.JPG&amp;imgrefurl=http://www.cosmetic-dentistry.bz/extreme%2520makeover%2520-%2520discolored.htm&amp;h=575&amp;w=1030&amp;sz=56&amp;hl=en&amp;start=8&amp;tbnid=MyI-mbXARkv9MM:&amp;tbnh=84&amp;tbnw=150&amp;prev=/images%3Fq%3Dyellow%2Bteeth%26svnum%3D10%26hl%3Den%26lr%3D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images.google.com/imgres?imgurl=http://www.dw-world.de/image/0,,1599703_1,00.jpg&amp;imgrefurl=http://www.dw-world.de/dw/article/0,,1732310,00.html%3Fmaca%3Den-topstories-83-rdf&amp;h=142&amp;w=192&amp;sz=10&amp;hl=en&amp;start=9&amp;tbnid=cAsqJh825TSjLM:&amp;tbnh=76&amp;tbnw=103&amp;prev=/images%3Fq%3Dyellow%2Bteeth%26svnum%3D10%26hl%3Den%26lr%3D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rabmedicare.com/tom/images/NotoSmoking_300x200.jpg&amp;imgrefurl=http://www.arabmedicare.com/tom/beauty173.htm&amp;h=200&amp;w=300&amp;sz=27&amp;hl=en&amp;start=77&amp;tbnid=MGxWKXQoxd3UsM:&amp;tbnh=77&amp;tbnw=116&amp;prev=/images%3Fq%3Dyellow%2Bteeth%26start%3D60%26ndsp%3D20%26svnum%3D10%26hl%3Den%26lr%3D%26sa%3DN" TargetMode="External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athway-hypnotherapy.co.uk/images/cig1.gif&amp;imgrefurl=http://www.pathway-hypnotherapy.co.uk/&amp;h=90&amp;w=90&amp;sz=5&amp;hl=en&amp;start=39&amp;tbnid=n3wzfhEKGMimwM:&amp;tbnh=78&amp;tbnw=78&amp;prev=/images%3Fq%3Dquit%2Bsmoking%2Bwith%2Bwillpower%26start%3D20%26ndsp%3D20%26svnum%3D10%26hl%3Den%26lr%3D%26sa%3DN" TargetMode="External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nshealth.co.uk/includes/modules/pics/smoking_plan.jpg&amp;imgrefurl=http://www.menshealth.co.uk/health/smoking/&amp;h=56&amp;w=79&amp;sz=8&amp;hl=en&amp;start=43&amp;tbnid=rrkzwU7TsQxhpM:&amp;tbnh=52&amp;tbnw=73&amp;prev=/images%3Fq%3Dquit%2Bsmoking%2Bwith%2Bwillpower%26start%3D40%26ndsp%3D20%26svnum%3D1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images.google.com/imgres?imgurl=http://www.swans.pair.com/IMG_PRODUCTS/failure.jpg&amp;imgrefurl=http://www.swans.pair.com/DISCOGRAPHY/failure10.html&amp;h=288&amp;w=288&amp;sz=15&amp;hl=en&amp;start=61&amp;tbnid=O3fSKRa1L57TdM:&amp;tbnh=115&amp;tbnw=115&amp;prev=/images%3Fq%3Dfailure%26start%3D60%26ndsp%3D20%26svnum%3D10%26hl%3Den%26lr%3D%26sa%3DN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PMingLiU"/>
              </a:rPr>
              <a:t>「香港吸</a:t>
            </a:r>
            <a:r>
              <a:rPr b="1" lang="zh-TW" sz="4000" spc="-1" strike="noStrike">
                <a:solidFill>
                  <a:srgbClr val="000000"/>
                </a:solidFill>
                <a:latin typeface="PMingLiU"/>
              </a:rPr>
              <a:t>煙</a:t>
            </a:r>
            <a:r>
              <a:rPr b="1" lang="zh-CN" sz="4000" spc="-1" strike="noStrike">
                <a:solidFill>
                  <a:srgbClr val="000000"/>
                </a:solidFill>
                <a:latin typeface="PMingLiU"/>
              </a:rPr>
              <a:t>人士</a:t>
            </a:r>
            <a:br>
              <a:rPr sz="4000"/>
            </a:br>
            <a:r>
              <a:rPr b="1" lang="zh-CN" sz="6600" spc="-1" strike="noStrike">
                <a:solidFill>
                  <a:srgbClr val="cc0000"/>
                </a:solidFill>
                <a:latin typeface="PMingLiU"/>
              </a:rPr>
              <a:t>戒煙阻力</a:t>
            </a:r>
            <a:r>
              <a:rPr b="1" lang="zh-CN" sz="4000" spc="-1" strike="noStrike">
                <a:solidFill>
                  <a:srgbClr val="000000"/>
                </a:solidFill>
                <a:latin typeface="PMingLiU"/>
              </a:rPr>
              <a:t>意見調查 」</a:t>
            </a: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二零零六年十月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二十三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1347400">
            <a:off x="6629400" y="1676520"/>
            <a:ext cx="1924200" cy="693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433000">
            <a:off x="304920" y="5715000"/>
            <a:ext cx="1923840" cy="69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20454000">
            <a:off x="533520" y="761760"/>
            <a:ext cx="1923840" cy="693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216400">
            <a:off x="4647960" y="990720"/>
            <a:ext cx="1923840" cy="693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21232200">
            <a:off x="6095520" y="5181480"/>
            <a:ext cx="1924200" cy="693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 rot="20216400">
            <a:off x="7391520" y="5866920"/>
            <a:ext cx="1447560" cy="52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 rot="20216400">
            <a:off x="1600200" y="1828800"/>
            <a:ext cx="1447920" cy="5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PMingLiU"/>
              </a:rPr>
              <a:t>受訪者在過去戒煙時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</a:rPr>
              <a:t>的阻力</a:t>
            </a:r>
            <a:br>
              <a:rPr sz="3200"/>
            </a:br>
            <a:r>
              <a:rPr b="1" lang="zh-TW" sz="4000" spc="-1" strike="noStrike">
                <a:solidFill>
                  <a:srgbClr val="cc0000"/>
                </a:solidFill>
                <a:latin typeface="PMingLiU"/>
              </a:rPr>
              <a:t>焦慮、不快樂、心情抑鬱</a:t>
            </a: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51" name=""/>
          <p:cNvSpPr/>
          <p:nvPr/>
        </p:nvSpPr>
        <p:spPr>
          <a:xfrm>
            <a:off x="6268320" y="6276960"/>
            <a:ext cx="215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有效樣本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: 500</a:t>
            </a:r>
            <a:r>
              <a:rPr b="0" lang="zh-TW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可選擇多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752480"/>
            <a:ext cx="63248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PMingLiU"/>
                <a:ea typeface="PMingLiU"/>
              </a:rPr>
              <a:t>過去戒煙時有沒有試過出現以下問題？ </a:t>
            </a:r>
            <a:r>
              <a:rPr b="0" lang="en-US" sz="2000" spc="-1" strike="noStrike">
                <a:solidFill>
                  <a:srgbClr val="000000"/>
                </a:solidFill>
                <a:latin typeface="PMingLiU"/>
                <a:ea typeface="PMingLiU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PMingLiU"/>
                <a:ea typeface="PMingLiU"/>
              </a:rPr>
              <a:t>可選擇多項</a:t>
            </a:r>
            <a:r>
              <a:rPr b="0" lang="en-US" sz="20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90920" y="2362320"/>
          <a:ext cx="55702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362320"/>
                    <a:ext cx="55702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992960" y="3809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忐忑不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16520" y="2438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焦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92960" y="3352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心情抑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05040" y="2971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覺得不快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全無徵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92840" y="4191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失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79960" y="5105520"/>
            <a:ext cx="11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不知道 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/ 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很難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1295280"/>
            <a:ext cx="1600200" cy="10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PMingLiU"/>
              </a:rPr>
              <a:t>受訪者吸煙的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</a:rPr>
              <a:t>「心癮」時刻</a:t>
            </a:r>
            <a:br>
              <a:rPr sz="3600"/>
            </a:br>
            <a:r>
              <a:rPr b="1" lang="zh-TW" sz="4000" spc="-1" strike="noStrike">
                <a:solidFill>
                  <a:srgbClr val="cc0000"/>
                </a:solidFill>
                <a:latin typeface="PMingLiU"/>
              </a:rPr>
              <a:t>吃早餐 、飯後</a:t>
            </a: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658960" y="1981080"/>
          <a:ext cx="663732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8960" y="1981080"/>
                    <a:ext cx="66373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7013880" y="652140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有效樣本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: 500</a:t>
            </a:r>
            <a:r>
              <a:rPr b="0" lang="zh-TW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99040" y="2187720"/>
            <a:ext cx="11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吃早餐 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/ 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吃飯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9760" y="2467080"/>
            <a:ext cx="121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工作期間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/ 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開完一個很長的會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/</a:t>
            </a:r>
            <a:br>
              <a:rPr sz="1600"/>
            </a:b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做完一些重要事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6760" y="3102120"/>
            <a:ext cx="102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與同事 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/ 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朋友一起食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920" y="3573360"/>
            <a:ext cx="19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看足球 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/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飲酒 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/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去酒吧的時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77640" y="3868560"/>
            <a:ext cx="16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無聊時 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/ 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情緒低落時 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休息鬆馳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4164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與人爭吵後 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/ 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緊張 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/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承受大壓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1447920"/>
            <a:ext cx="678204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1c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請問你有多同意或者不同意當你遇到以下情況，會令你想吸煙？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33320" y="4854600"/>
            <a:ext cx="11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剛睡醒 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/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睡覺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360" y="5311800"/>
            <a:ext cx="17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要令自己開心 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/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有事要慶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46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PMingLiU"/>
              </a:rPr>
              <a:t>超過一半受訪者會因為政府立法</a:t>
            </a:r>
            <a:br>
              <a:rPr sz="3600"/>
            </a:br>
            <a:r>
              <a:rPr b="1" lang="zh-TW" sz="4000" spc="-1" strike="noStrike">
                <a:solidFill>
                  <a:srgbClr val="cc0000"/>
                </a:solidFill>
                <a:latin typeface="PMingLiU"/>
              </a:rPr>
              <a:t>在食肆全面禁煙而加強戒煙決心</a:t>
            </a: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2057400"/>
          <a:ext cx="80769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0769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776640" y="617220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empus Sans ITC"/>
                <a:ea typeface="PMingLiU"/>
              </a:rPr>
              <a:t>有效樣本</a:t>
            </a:r>
            <a:r>
              <a:rPr b="0" lang="en-US" sz="1600" spc="-1" strike="noStrike">
                <a:solidFill>
                  <a:srgbClr val="000000"/>
                </a:solidFill>
                <a:latin typeface="Tempus Sans ITC"/>
                <a:ea typeface="PMingLiU"/>
              </a:rPr>
              <a:t>: </a:t>
            </a:r>
            <a:r>
              <a:rPr b="0" lang="en-US" sz="1600" spc="-1" strike="noStrike">
                <a:solidFill>
                  <a:srgbClr val="fc7e00"/>
                </a:solidFill>
                <a:latin typeface="Tempus Sans ITC"/>
                <a:ea typeface="PMingLiU"/>
              </a:rPr>
              <a:t>494</a:t>
            </a:r>
            <a:r>
              <a:rPr b="0" lang="zh-TW" sz="1600" spc="-1" strike="noStrike">
                <a:solidFill>
                  <a:srgbClr val="000000"/>
                </a:solidFill>
                <a:latin typeface="Tempus Sans ITC"/>
                <a:ea typeface="PMingLiU"/>
              </a:rPr>
              <a:t>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752480"/>
            <a:ext cx="70106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1c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政府立法在食肆全面禁煙，會否加強你戒煙的決心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858000" y="2514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PMingLiU"/>
              </a:rPr>
              <a:t>總結</a:t>
            </a: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調查發現，戒煙人士所用的方法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五花百門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，戒煙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過程出現不少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焦慮、不快樂及心情抑鬱等徵狀，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甚至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吃飯後、工作期間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也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觸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動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受訪者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想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吸煙的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「心癮」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PMingLiU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立法會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剛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通過「</a:t>
            </a:r>
            <a:r>
              <a:rPr b="0" lang="en-US" sz="2400" spc="-1" strike="noStrike">
                <a:solidFill>
                  <a:srgbClr val="000000"/>
                </a:solidFill>
                <a:latin typeface="PMingLiU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年吸煙（公眾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衛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生）（修訂）條例草案」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，進一步擴大法定禁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烟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區範圍，所有食肆、酒吧等室內場所將一律全面禁煙，煙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民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戒煙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更具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迫切性 。</a:t>
            </a:r>
            <a:endParaRPr b="0" lang="en-US" sz="2400" spc="-1" strike="noStrike">
              <a:solidFill>
                <a:srgbClr val="000000"/>
              </a:solidFill>
              <a:latin typeface="PMingLiU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不少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煙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民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戒煙失敗告終；因此，教育吸煙人士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有效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的戒煙方法</a:t>
            </a:r>
            <a:r>
              <a:rPr b="0" lang="zh-CN" sz="2400" spc="-1" strike="noStrike">
                <a:solidFill>
                  <a:srgbClr val="000000"/>
                </a:solidFill>
                <a:latin typeface="PMingLiU"/>
              </a:rPr>
              <a:t>刻不容緩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PMingLiU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MingLiU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370640" y="4724280"/>
            <a:ext cx="177336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216400">
            <a:off x="304560" y="1066680"/>
            <a:ext cx="1923840" cy="693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PMingLiU"/>
              </a:rPr>
              <a:t>調查概況</a:t>
            </a: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1752480"/>
          <a:ext cx="8076960" cy="4648320"/>
        </p:xfrm>
        <a:graphic>
          <a:graphicData uri="http://schemas.openxmlformats.org/drawingml/2006/table">
            <a:tbl>
              <a:tblPr/>
              <a:tblGrid>
                <a:gridCol w="2138400"/>
                <a:gridCol w="5938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Arial Unicode MS"/>
                        </a:rPr>
                        <a:t>調查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Arial Unicode MS"/>
                        </a:rPr>
                        <a:t>機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香港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大學民意研究計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Arial Unicode MS"/>
                        </a:rPr>
                        <a:t>調查目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了解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有關吸煙人士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戒煙時遇到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阻力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及面對的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問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Arial Unicode MS"/>
                        </a:rPr>
                        <a:t>調查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二零零六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九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十九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至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二十九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日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Arial Unicode MS"/>
                        </a:rPr>
                        <a:t>調查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由訪問員直接進行電話訪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抽樣方法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從住宅電話簿中隨機抽出部分號碼，再用電腦配套另一部分，成為最後的抽樣架。當成功接觸目標住戶後，再以「即將生日」方法抽取其中一名成員接受訪問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Arial Unicode MS"/>
                        </a:rPr>
                        <a:t>調查對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年齡介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十八至六十五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歲有戒烟經驗（不論成功與否），並操粵語的本地人士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成功訪問數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五百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個成功個案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整體回應比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87.6%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以符合資格的目標對象計算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抽樣誤差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在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95%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置信水平下，各個百分比的抽樣誤差為少於正負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4.4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個百分比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4880" y="26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ffff"/>
                </a:solidFill>
                <a:latin typeface="PMingLiU"/>
              </a:rPr>
              <a:t>調查</a:t>
            </a:r>
            <a:r>
              <a:rPr b="1" lang="zh-CN" sz="3800" spc="-1" strike="noStrike">
                <a:solidFill>
                  <a:srgbClr val="ffffff"/>
                </a:solidFill>
                <a:latin typeface="PMingLiU"/>
              </a:rPr>
              <a:t>結果</a:t>
            </a:r>
            <a:endParaRPr b="1" lang="en-US" sz="38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90680" y="4527360"/>
            <a:ext cx="640080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MingLiU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MingLiU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受訪者吸煙年數</a:t>
            </a:r>
            <a:br>
              <a:rPr sz="3600"/>
            </a:b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平均數：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17.4 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年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66680" y="1752480"/>
          <a:ext cx="747072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47072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639480" y="619452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empus Sans ITC"/>
                <a:ea typeface="PMingLiU"/>
              </a:rPr>
              <a:t>有效樣本</a:t>
            </a:r>
            <a:r>
              <a:rPr b="0" lang="en-US" sz="1600" spc="-1" strike="noStrike">
                <a:solidFill>
                  <a:srgbClr val="000000"/>
                </a:solidFill>
                <a:latin typeface="Tempus Sans ITC"/>
                <a:ea typeface="PMingLiU"/>
              </a:rPr>
              <a:t>: 498</a:t>
            </a:r>
            <a:r>
              <a:rPr b="0" lang="zh-TW" sz="1600" spc="-1" strike="noStrike">
                <a:solidFill>
                  <a:srgbClr val="000000"/>
                </a:solidFill>
                <a:latin typeface="Tempus Sans ITC"/>
                <a:ea typeface="PMingLiU"/>
              </a:rPr>
              <a:t>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3519360"/>
            <a:ext cx="1938240" cy="7038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PMingLiU"/>
              </a:rPr>
              <a:t>平均數</a:t>
            </a: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PMingLiU"/>
              </a:rPr>
              <a:t>: 17.4 </a:t>
            </a: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PMingLiU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PMingLiU"/>
              </a:rPr>
              <a:t>誤差</a:t>
            </a: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PMingLiU"/>
              </a:rPr>
              <a:t>: 0.36 </a:t>
            </a: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PMingLiU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57200"/>
            <a:ext cx="220968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受訪者平均每天吸煙量</a:t>
            </a:r>
            <a:br>
              <a:rPr sz="3600"/>
            </a:b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平均數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: 16.6 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枝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20600" y="1752480"/>
          <a:ext cx="71028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1752480"/>
                    <a:ext cx="7102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752880" y="601992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: 498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1828800"/>
            <a:ext cx="1938240" cy="7038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平均數</a:t>
            </a:r>
            <a:r>
              <a:rPr b="1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: 16.6 </a:t>
            </a:r>
            <a:r>
              <a:rPr b="1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誤差</a:t>
            </a:r>
            <a:r>
              <a:rPr b="1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: 0.28 </a:t>
            </a:r>
            <a:r>
              <a:rPr b="1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304920"/>
            <a:ext cx="18288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914400"/>
            <a:ext cx="175248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PMingLiU"/>
              </a:rPr>
              <a:t>五成受訪者戒煙的主要原因是</a:t>
            </a:r>
            <a:br>
              <a:rPr sz="3600"/>
            </a:br>
            <a:r>
              <a:rPr b="1" lang="zh-TW" sz="4000" spc="-1" strike="noStrike">
                <a:solidFill>
                  <a:srgbClr val="cc0000"/>
                </a:solidFill>
                <a:latin typeface="PMingLiU"/>
              </a:rPr>
              <a:t>想自己更健康</a:t>
            </a: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11" name=""/>
          <p:cNvSpPr/>
          <p:nvPr/>
        </p:nvSpPr>
        <p:spPr>
          <a:xfrm>
            <a:off x="6344640" y="6095880"/>
            <a:ext cx="215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有效樣本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: 492</a:t>
            </a:r>
            <a:r>
              <a:rPr b="0" lang="zh-TW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可選擇多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981080" y="2209680"/>
          <a:ext cx="6934320" cy="384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209680"/>
                    <a:ext cx="693432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066680" y="1600200"/>
            <a:ext cx="52578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您想戒煙的主要原因是？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可選擇多項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2438280"/>
            <a:ext cx="1784520" cy="2943000"/>
            <a:chOff x="457200" y="2438280"/>
            <a:chExt cx="1784520" cy="2943000"/>
          </a:xfrm>
        </p:grpSpPr>
        <p:sp>
          <p:nvSpPr>
            <p:cNvPr id="116" name=""/>
            <p:cNvSpPr/>
            <p:nvPr/>
          </p:nvSpPr>
          <p:spPr>
            <a:xfrm>
              <a:off x="457200" y="4800600"/>
              <a:ext cx="1784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害怕致命性疾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(</a:t>
              </a:r>
              <a:r>
                <a:rPr b="0" lang="zh-TW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如肺癌</a:t>
              </a:r>
              <a:r>
                <a:rPr b="0" lang="en-US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95560" y="28954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想節省金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2000" y="3352680"/>
              <a:ext cx="103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害怕影響子女</a:t>
              </a:r>
              <a:r>
                <a:rPr b="0" lang="zh-TW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伴侶</a:t>
              </a:r>
              <a:r>
                <a:rPr b="0" lang="zh-TW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/</a:t>
              </a:r>
              <a:r>
                <a:rPr b="0" lang="zh-TW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家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2040" y="4495680"/>
              <a:ext cx="13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家人</a:t>
              </a:r>
              <a:r>
                <a:rPr b="0" lang="en-US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/</a:t>
              </a:r>
              <a:r>
                <a:rPr b="0" lang="zh-TW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男女朋友壓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7640" y="24382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想自己更健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07640" y="3886200"/>
              <a:ext cx="91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醫生勸喻 </a:t>
              </a:r>
              <a:r>
                <a:rPr b="0" lang="en-US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身體已出毛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10666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最多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受訪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者使用的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戒煙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方法是</a:t>
            </a:r>
            <a:br>
              <a:rPr sz="3600"/>
            </a:br>
            <a:r>
              <a:rPr b="1" lang="zh-TW" sz="4400" spc="-1" strike="noStrike">
                <a:solidFill>
                  <a:srgbClr val="cc0000"/>
                </a:solidFill>
                <a:latin typeface="PMingLiU"/>
              </a:rPr>
              <a:t>憑意志戒煙</a:t>
            </a:r>
            <a:endParaRPr b="1" lang="en-US" sz="44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438280" y="2286000"/>
          <a:ext cx="557856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2286000"/>
                    <a:ext cx="55785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420600" y="6324480"/>
            <a:ext cx="21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有效樣本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: 500</a:t>
            </a:r>
            <a:r>
              <a:rPr b="0" lang="zh-TW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可選擇多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5920" y="5105520"/>
            <a:ext cx="15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戒煙貼 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/ </a:t>
            </a: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戒煙香口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15120" y="441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食零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5680" y="3733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咀嚼香口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42800" y="3048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逐漸減少吸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5680" y="2590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憑意志戒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752480"/>
            <a:ext cx="58676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PMingLiU"/>
                <a:ea typeface="PMingLiU"/>
              </a:rPr>
              <a:t>您曾經用過</a:t>
            </a:r>
            <a:r>
              <a:rPr b="0" lang="zh-CN" sz="2000" spc="-1" strike="noStrike">
                <a:solidFill>
                  <a:srgbClr val="000000"/>
                </a:solidFill>
                <a:latin typeface="PMingLiU"/>
                <a:ea typeface="PMingLiU"/>
              </a:rPr>
              <a:t>什麽</a:t>
            </a:r>
            <a:r>
              <a:rPr b="0" lang="zh-TW" sz="2000" spc="-1" strike="noStrike">
                <a:solidFill>
                  <a:srgbClr val="000000"/>
                </a:solidFill>
                <a:latin typeface="PMingLiU"/>
                <a:ea typeface="PMingLiU"/>
              </a:rPr>
              <a:t>方法去戒煙？</a:t>
            </a:r>
            <a:r>
              <a:rPr b="0" lang="fr-FR" sz="2000" spc="-1" strike="noStrike">
                <a:solidFill>
                  <a:srgbClr val="000000"/>
                </a:solidFill>
                <a:latin typeface="PMingLiU"/>
                <a:ea typeface="PMingLiU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PMingLiU"/>
                <a:ea typeface="PMingLiU"/>
              </a:rPr>
              <a:t>可選擇多項</a:t>
            </a:r>
            <a:r>
              <a:rPr b="0" lang="fr-FR" sz="20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PMingLiU"/>
                <a:ea typeface="PMingLiU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PMingLiU"/>
                <a:ea typeface="PMingLiU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173160"/>
            <a:ext cx="2057400" cy="1465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</a:rPr>
              <a:t>大部分高吸烟量人士使用的</a:t>
            </a:r>
            <a:r>
              <a:rPr b="1" lang="zh-TW" sz="3200" spc="-1" strike="noStrike">
                <a:solidFill>
                  <a:srgbClr val="000000"/>
                </a:solidFill>
                <a:latin typeface="PMingLiU"/>
              </a:rPr>
              <a:t>戒煙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</a:rPr>
              <a:t>方法</a:t>
            </a:r>
            <a:br>
              <a:rPr sz="3200"/>
            </a:br>
            <a:r>
              <a:rPr b="1" lang="zh-CN" sz="4000" spc="-1" strike="noStrike">
                <a:solidFill>
                  <a:srgbClr val="cc0000"/>
                </a:solidFill>
                <a:latin typeface="PMingLiU"/>
              </a:rPr>
              <a:t>同樣是</a:t>
            </a:r>
            <a:r>
              <a:rPr b="1" lang="zh-TW" sz="4000" spc="-1" strike="noStrike">
                <a:solidFill>
                  <a:srgbClr val="cc0000"/>
                </a:solidFill>
                <a:latin typeface="PMingLiU"/>
              </a:rPr>
              <a:t>憑意志戒煙</a:t>
            </a:r>
            <a:endParaRPr b="1" lang="en-US" sz="40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14600" y="2286000"/>
          <a:ext cx="557856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286000"/>
                    <a:ext cx="55785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344640" y="6172200"/>
            <a:ext cx="21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有效樣本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: 271</a:t>
            </a:r>
            <a:r>
              <a:rPr b="0" lang="zh-TW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Trebuchet MS"/>
                <a:ea typeface="PMingLiU"/>
              </a:rPr>
              <a:t>可選擇多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28880" y="5183280"/>
            <a:ext cx="143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戒煙貼 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/ 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戒煙香口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64240" y="4572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零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76440" y="3962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咀嚼香口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64840" y="3200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逐漸減少吸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00120" y="25383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憑意志戒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828800"/>
            <a:ext cx="82296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1c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[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每日平均抽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16</a:t>
            </a:r>
            <a:r>
              <a:rPr b="0" i="1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枝煙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或以上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]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您曾經用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什麽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方法去戒煙？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可選擇多項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近兩成受訪者戒煙失敗達五次或以上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90720" y="2057400"/>
          <a:ext cx="72072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207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639480" y="619452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empus Sans ITC"/>
                <a:ea typeface="PMingLiU"/>
              </a:rPr>
              <a:t>有效樣本</a:t>
            </a:r>
            <a:r>
              <a:rPr b="0" lang="en-US" sz="1600" spc="-1" strike="noStrike">
                <a:solidFill>
                  <a:srgbClr val="000000"/>
                </a:solidFill>
                <a:latin typeface="Tempus Sans ITC"/>
                <a:ea typeface="PMingLiU"/>
              </a:rPr>
              <a:t>: 489</a:t>
            </a:r>
            <a:r>
              <a:rPr b="0" lang="zh-TW" sz="1600" spc="-1" strike="noStrike">
                <a:solidFill>
                  <a:srgbClr val="000000"/>
                </a:solidFill>
                <a:latin typeface="Tempus Sans ITC"/>
                <a:ea typeface="PMingLiU"/>
              </a:rPr>
              <a:t>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523880"/>
            <a:ext cx="70106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1c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過去您試過幾多次戒煙失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2:22:46Z</dcterms:created>
  <dc:creator>Grey Worldwide</dc:creator>
  <dc:description/>
  <dc:language>en-US</dc:language>
  <cp:lastModifiedBy>HKUPOP</cp:lastModifiedBy>
  <dcterms:modified xsi:type="dcterms:W3CDTF">2006-10-23T08:49:25Z</dcterms:modified>
  <cp:revision>1292</cp:revision>
  <dc:subject/>
  <dc:title>PowerPoint Presentation</dc:title>
</cp:coreProperties>
</file>