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3.wmf" ContentType="image/x-wmf"/>
  <Override PartName="/ppt/media/image6.wmf" ContentType="image/x-wmf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png" ContentType="image/png"/>
  <Override PartName="/ppt/media/image4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宋体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41E7A7F-EF1A-4D47-BFD1-F16FC1748AE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4E840F3-2648-4717-A5D9-D038AA5AE65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0240" y="77616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8160" y="4740120"/>
            <a:ext cx="4927680" cy="44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BA2D910-46B3-4E49-A225-C22291844EB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0240" y="77616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8160" y="4740120"/>
            <a:ext cx="4927680" cy="44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A8A4C33-BFB5-4A23-83F5-D02F8D5AC01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0240" y="77616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8160" y="4740120"/>
            <a:ext cx="4927680" cy="44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9C9D47E-402A-4B11-950E-2ED988CF96F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0240" y="77616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8160" y="4740120"/>
            <a:ext cx="4927680" cy="44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27B6-65F2-40A8-83F5-6C5E7140F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B909-5781-4828-BBDA-3C920DF53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47C9-9227-4398-A9D0-A78034D77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4CC3-D8AE-4FA4-96A8-06D09B46B8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77A0-D092-43F5-B35C-15B55B0D2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B0E7-E9A8-4FB1-A508-BCECC5D9F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8C48-E623-4548-8009-975DED3AD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37AD-3CE3-477C-8AD6-A72E4E2DB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F246-4D99-4B1C-A81A-0A28746EA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0D35-22B8-4C66-86C6-B29628F01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5F6D-2BFA-48A7-8D51-F9539B72E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2377-A129-4536-9DE3-1A76BFCD0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宋体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0CD2-A28F-49F4-A305-6345DD441A92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db.lv/zinas/data/upimages/foto2005/20.03-hk-wome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F092-42EC-4045-83FC-952D7D0B42B3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a50021"/>
                </a:solidFill>
                <a:latin typeface="宋体"/>
              </a:rPr>
              <a:t>香港單身女性</a:t>
            </a:r>
            <a:r>
              <a:rPr b="1" lang="zh-CN" sz="4000" spc="-1" strike="noStrike">
                <a:solidFill>
                  <a:srgbClr val="a50021"/>
                </a:solidFill>
                <a:latin typeface="宋体"/>
              </a:rPr>
              <a:t>對</a:t>
            </a:r>
            <a:r>
              <a:rPr b="1" lang="zh-TW" sz="4000" spc="-1" strike="noStrike">
                <a:solidFill>
                  <a:srgbClr val="a50021"/>
                </a:solidFill>
                <a:latin typeface="宋体"/>
              </a:rPr>
              <a:t>性</a:t>
            </a:r>
            <a:r>
              <a:rPr b="1" lang="zh-CN" sz="4000" spc="-1" strike="noStrike">
                <a:solidFill>
                  <a:srgbClr val="a50021"/>
                </a:solidFill>
                <a:latin typeface="宋体"/>
              </a:rPr>
              <a:t>及</a:t>
            </a:r>
            <a:r>
              <a:rPr b="1" lang="zh-TW" sz="4000" spc="-1" strike="noStrike">
                <a:solidFill>
                  <a:srgbClr val="a50021"/>
                </a:solidFill>
                <a:latin typeface="宋体"/>
              </a:rPr>
              <a:t>避孕意見</a:t>
            </a:r>
            <a:br>
              <a:rPr sz="4000"/>
            </a:br>
            <a:r>
              <a:rPr b="1" lang="zh-TW" sz="4000" spc="-1" strike="noStrike">
                <a:solidFill>
                  <a:srgbClr val="a50021"/>
                </a:solidFill>
                <a:latin typeface="宋体"/>
              </a:rPr>
              <a:t>調查</a:t>
            </a:r>
            <a:r>
              <a:rPr b="1" lang="zh-CN" sz="4000" spc="-1" strike="noStrike">
                <a:solidFill>
                  <a:srgbClr val="a50021"/>
                </a:solidFill>
                <a:latin typeface="宋体"/>
              </a:rPr>
              <a:t>報告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講者：彭嘉麗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2800" spc="-1" strike="noStrike">
                <a:solidFill>
                  <a:srgbClr val="000000"/>
                </a:solidFill>
                <a:latin typeface="宋体"/>
              </a:rPr>
              <a:t>港大民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研究計劃統籌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宋体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9" name="Picture 18" descr="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0"/>
            <a:ext cx="1981440" cy="168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CFC5-E412-476A-B2CC-9C7EBEABDA07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"/>
          <p:cNvGrpSpPr/>
          <p:nvPr/>
        </p:nvGrpSpPr>
        <p:grpSpPr>
          <a:xfrm>
            <a:off x="838080" y="2362320"/>
            <a:ext cx="7467840" cy="3835440"/>
            <a:chOff x="838080" y="2362320"/>
            <a:chExt cx="7467840" cy="3835440"/>
          </a:xfrm>
        </p:grpSpPr>
        <p:graphicFrame>
          <p:nvGraphicFramePr>
            <p:cNvPr id="90" name="Object 3"/>
            <p:cNvGraphicFramePr/>
            <p:nvPr/>
          </p:nvGraphicFramePr>
          <p:xfrm>
            <a:off x="838080" y="2362320"/>
            <a:ext cx="746784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2362320"/>
                      <a:ext cx="746784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4"/>
            <p:cNvSpPr/>
            <p:nvPr/>
          </p:nvSpPr>
          <p:spPr>
            <a:xfrm>
              <a:off x="838080" y="2556000"/>
              <a:ext cx="7025400" cy="36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5"/>
          <p:cNvSpPr/>
          <p:nvPr/>
        </p:nvSpPr>
        <p:spPr>
          <a:xfrm>
            <a:off x="6957720" y="6257880"/>
            <a:ext cx="11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宋体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4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Text Box 6"/>
          <p:cNvGrpSpPr/>
          <p:nvPr/>
        </p:nvGrpSpPr>
        <p:grpSpPr>
          <a:xfrm>
            <a:off x="1139760" y="1749600"/>
            <a:ext cx="7096320" cy="377640"/>
            <a:chOff x="1139760" y="1749600"/>
            <a:chExt cx="7096320" cy="377640"/>
          </a:xfrm>
        </p:grpSpPr>
        <p:pic>
          <p:nvPicPr>
            <p:cNvPr id="95" name="Text Box 6" descr=""/>
            <p:cNvPicPr/>
            <p:nvPr/>
          </p:nvPicPr>
          <p:blipFill>
            <a:blip r:embed="rId3"/>
            <a:stretch/>
          </p:blipFill>
          <p:spPr>
            <a:xfrm>
              <a:off x="1139760" y="1749600"/>
              <a:ext cx="709632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43000" y="1752480"/>
              <a:ext cx="70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問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你認爲女性一生中最多可以有幾多個性伴侶為之正常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五成四受訪者接受</a:t>
            </a:r>
            <a:br>
              <a:rPr sz="3600"/>
            </a:b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女性一生中可以有多於一個性伴侶</a:t>
            </a:r>
            <a:endParaRPr b="1" lang="en-US" sz="36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98" name="文字方塊 9"/>
          <p:cNvSpPr/>
          <p:nvPr/>
        </p:nvSpPr>
        <p:spPr>
          <a:xfrm>
            <a:off x="6019920" y="4038480"/>
            <a:ext cx="1828800" cy="368280"/>
          </a:xfrm>
          <a:prstGeom prst="rect">
            <a:avLst/>
          </a:prstGeom>
          <a:solidFill>
            <a:srgbClr val="ffe1eb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宋体"/>
              </a:rPr>
              <a:t>平均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 2.7</a:t>
            </a:r>
            <a:r>
              <a:rPr b="0" lang="zh-TW" sz="1800" spc="-1" strike="noStrike">
                <a:solidFill>
                  <a:srgbClr val="000000"/>
                </a:solidFill>
                <a:latin typeface="宋体"/>
              </a:rPr>
              <a:t>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群組 14"/>
          <p:cNvGrpSpPr/>
          <p:nvPr/>
        </p:nvGrpSpPr>
        <p:grpSpPr>
          <a:xfrm>
            <a:off x="8153280" y="2895480"/>
            <a:ext cx="983520" cy="2286000"/>
            <a:chOff x="8153280" y="2895480"/>
            <a:chExt cx="983520" cy="2286000"/>
          </a:xfrm>
        </p:grpSpPr>
        <p:sp>
          <p:nvSpPr>
            <p:cNvPr id="100" name="右大括弧 12"/>
            <p:cNvSpPr/>
            <p:nvPr/>
          </p:nvSpPr>
          <p:spPr>
            <a:xfrm>
              <a:off x="8153280" y="289548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9720 h 2286000"/>
                <a:gd name="textAreaBottom" fmla="*/ 227628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0"/>
                    <a:pt x="10800" y="300"/>
                  </a:cubicBezTo>
                  <a:lnTo>
                    <a:pt x="10800" y="10500"/>
                  </a:lnTo>
                  <a:cubicBezTo>
                    <a:pt x="10800" y="10650"/>
                    <a:pt x="16200" y="10800"/>
                    <a:pt x="21600" y="10800"/>
                  </a:cubicBezTo>
                  <a:cubicBezTo>
                    <a:pt x="16200" y="10800"/>
                    <a:pt x="10800" y="10950"/>
                    <a:pt x="10800" y="11100"/>
                  </a:cubicBezTo>
                  <a:lnTo>
                    <a:pt x="10800" y="21300"/>
                  </a:lnTo>
                  <a:cubicBezTo>
                    <a:pt x="10800" y="214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字方塊 13"/>
            <p:cNvSpPr/>
            <p:nvPr/>
          </p:nvSpPr>
          <p:spPr>
            <a:xfrm>
              <a:off x="8500320" y="3897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B8CD-5B82-4412-98A0-0109C7F11D1A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1066680" y="2438280"/>
            <a:ext cx="7358040" cy="3606840"/>
            <a:chOff x="1066680" y="2438280"/>
            <a:chExt cx="7358040" cy="3606840"/>
          </a:xfrm>
        </p:grpSpPr>
        <p:graphicFrame>
          <p:nvGraphicFramePr>
            <p:cNvPr id="104" name="Object 3"/>
            <p:cNvGraphicFramePr/>
            <p:nvPr/>
          </p:nvGraphicFramePr>
          <p:xfrm>
            <a:off x="1066680" y="2438280"/>
            <a:ext cx="7358040" cy="360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438280"/>
                      <a:ext cx="7358040" cy="36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Text Box 4"/>
            <p:cNvSpPr/>
            <p:nvPr/>
          </p:nvSpPr>
          <p:spPr>
            <a:xfrm>
              <a:off x="1066680" y="2620440"/>
              <a:ext cx="6922080" cy="33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5"/>
          <p:cNvSpPr/>
          <p:nvPr/>
        </p:nvSpPr>
        <p:spPr>
          <a:xfrm>
            <a:off x="6957720" y="6257880"/>
            <a:ext cx="11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宋体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4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ext Box 6"/>
          <p:cNvGrpSpPr/>
          <p:nvPr/>
        </p:nvGrpSpPr>
        <p:grpSpPr>
          <a:xfrm>
            <a:off x="1139760" y="1749600"/>
            <a:ext cx="7480440" cy="377640"/>
            <a:chOff x="1139760" y="1749600"/>
            <a:chExt cx="7480440" cy="377640"/>
          </a:xfrm>
        </p:grpSpPr>
        <p:pic>
          <p:nvPicPr>
            <p:cNvPr id="109" name="Text Box 6" descr=""/>
            <p:cNvPicPr/>
            <p:nvPr/>
          </p:nvPicPr>
          <p:blipFill>
            <a:blip r:embed="rId3"/>
            <a:stretch/>
          </p:blipFill>
          <p:spPr>
            <a:xfrm>
              <a:off x="1139760" y="1749600"/>
              <a:ext cx="7480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143000" y="1752480"/>
              <a:ext cx="746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問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咁你認為對一般女性而言，喺一星期內有幾多次性行爲先至正常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宋体"/>
              </a:rPr>
              <a:t>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受訪者認爲</a:t>
            </a:r>
            <a:br>
              <a:rPr sz="3600"/>
            </a:br>
            <a:r>
              <a:rPr b="1" lang="zh-TW" sz="3200" spc="-1" strike="noStrike">
                <a:solidFill>
                  <a:srgbClr val="a50021"/>
                </a:solidFill>
                <a:latin typeface="宋体"/>
              </a:rPr>
              <a:t>女性一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星期內</a:t>
            </a:r>
            <a:r>
              <a:rPr b="1" lang="zh-TW" sz="3200" spc="-1" strike="noStrike">
                <a:solidFill>
                  <a:srgbClr val="a50021"/>
                </a:solidFill>
                <a:latin typeface="宋体"/>
              </a:rPr>
              <a:t>有多於一次性行爲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才算</a:t>
            </a:r>
            <a:r>
              <a:rPr b="1" lang="zh-TW" sz="3200" spc="-1" strike="noStrike">
                <a:solidFill>
                  <a:srgbClr val="a50021"/>
                </a:solidFill>
                <a:latin typeface="宋体"/>
              </a:rPr>
              <a:t>正常</a:t>
            </a:r>
            <a:endParaRPr b="1" lang="en-US" sz="3200" spc="-1" strike="noStrike">
              <a:solidFill>
                <a:srgbClr val="a50021"/>
              </a:solidFill>
              <a:latin typeface="宋体"/>
            </a:endParaRPr>
          </a:p>
        </p:txBody>
      </p:sp>
      <p:grpSp>
        <p:nvGrpSpPr>
          <p:cNvPr id="112" name="群組 12"/>
          <p:cNvGrpSpPr/>
          <p:nvPr/>
        </p:nvGrpSpPr>
        <p:grpSpPr>
          <a:xfrm>
            <a:off x="8153280" y="3276720"/>
            <a:ext cx="990720" cy="1752480"/>
            <a:chOff x="8153280" y="3276720"/>
            <a:chExt cx="990720" cy="1752480"/>
          </a:xfrm>
        </p:grpSpPr>
        <p:sp>
          <p:nvSpPr>
            <p:cNvPr id="113" name="右大括弧 13"/>
            <p:cNvSpPr/>
            <p:nvPr/>
          </p:nvSpPr>
          <p:spPr>
            <a:xfrm>
              <a:off x="8153280" y="32767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7920 h 1752480"/>
                <a:gd name="textAreaBottom" fmla="*/ 174456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3"/>
                    <a:pt x="10800" y="326"/>
                  </a:cubicBezTo>
                  <a:lnTo>
                    <a:pt x="10800" y="10474"/>
                  </a:lnTo>
                  <a:cubicBezTo>
                    <a:pt x="10800" y="10637"/>
                    <a:pt x="16200" y="10800"/>
                    <a:pt x="21600" y="10800"/>
                  </a:cubicBezTo>
                  <a:cubicBezTo>
                    <a:pt x="16200" y="10800"/>
                    <a:pt x="10800" y="10963"/>
                    <a:pt x="10800" y="11126"/>
                  </a:cubicBezTo>
                  <a:lnTo>
                    <a:pt x="10800" y="21274"/>
                  </a:lnTo>
                  <a:cubicBezTo>
                    <a:pt x="10800" y="21437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字方塊 14"/>
            <p:cNvSpPr/>
            <p:nvPr/>
          </p:nvSpPr>
          <p:spPr>
            <a:xfrm>
              <a:off x="845820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字方塊 15"/>
          <p:cNvSpPr/>
          <p:nvPr/>
        </p:nvSpPr>
        <p:spPr>
          <a:xfrm>
            <a:off x="6019920" y="4038480"/>
            <a:ext cx="1828800" cy="368280"/>
          </a:xfrm>
          <a:prstGeom prst="rect">
            <a:avLst/>
          </a:prstGeom>
          <a:solidFill>
            <a:srgbClr val="ffe1eb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宋体"/>
              </a:rPr>
              <a:t>平均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 2.2</a:t>
            </a:r>
            <a:r>
              <a:rPr b="0" lang="zh-TW" sz="1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EE32-2FF1-46BB-BB28-C73F015B694C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"/>
          <p:cNvGrpSpPr/>
          <p:nvPr/>
        </p:nvGrpSpPr>
        <p:grpSpPr>
          <a:xfrm>
            <a:off x="1066680" y="2532240"/>
            <a:ext cx="7335720" cy="3485520"/>
            <a:chOff x="1066680" y="2532240"/>
            <a:chExt cx="7335720" cy="3485520"/>
          </a:xfrm>
        </p:grpSpPr>
        <p:graphicFrame>
          <p:nvGraphicFramePr>
            <p:cNvPr id="118" name="Object 3"/>
            <p:cNvGraphicFramePr/>
            <p:nvPr/>
          </p:nvGraphicFramePr>
          <p:xfrm>
            <a:off x="1087200" y="2532240"/>
            <a:ext cx="7315200" cy="34189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87200" y="2532240"/>
                      <a:ext cx="7315200" cy="341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Text Box 4"/>
            <p:cNvSpPr/>
            <p:nvPr/>
          </p:nvSpPr>
          <p:spPr>
            <a:xfrm>
              <a:off x="1066680" y="2620440"/>
              <a:ext cx="6922080" cy="33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5"/>
          <p:cNvSpPr/>
          <p:nvPr/>
        </p:nvSpPr>
        <p:spPr>
          <a:xfrm>
            <a:off x="6957720" y="6257880"/>
            <a:ext cx="11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宋体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Text Box 6"/>
          <p:cNvGrpSpPr/>
          <p:nvPr/>
        </p:nvGrpSpPr>
        <p:grpSpPr>
          <a:xfrm>
            <a:off x="1139760" y="1749600"/>
            <a:ext cx="7480440" cy="377640"/>
            <a:chOff x="1139760" y="1749600"/>
            <a:chExt cx="7480440" cy="377640"/>
          </a:xfrm>
        </p:grpSpPr>
        <p:pic>
          <p:nvPicPr>
            <p:cNvPr id="123" name="Text Box 6" descr=""/>
            <p:cNvPicPr/>
            <p:nvPr/>
          </p:nvPicPr>
          <p:blipFill>
            <a:blip r:embed="rId3"/>
            <a:stretch/>
          </p:blipFill>
          <p:spPr>
            <a:xfrm>
              <a:off x="1139760" y="1749600"/>
              <a:ext cx="7480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143000" y="1752480"/>
              <a:ext cx="746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問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你有幾接受女性同佢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地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嘅性伴侶只有性關係而沒有感情關係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百分之四受訪者接受和伴侶之間</a:t>
            </a:r>
            <a:br>
              <a:rPr sz="3600"/>
            </a:b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只有性關係而沒有感情關係</a:t>
            </a:r>
            <a:endParaRPr b="1" lang="en-US" sz="3600" spc="-1" strike="noStrike">
              <a:solidFill>
                <a:srgbClr val="a50021"/>
              </a:solidFill>
              <a:latin typeface="宋体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3ABF-5C87-4C89-918B-03E7F424771C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1066680" y="2438280"/>
            <a:ext cx="7358040" cy="3606840"/>
            <a:chOff x="1066680" y="2438280"/>
            <a:chExt cx="7358040" cy="3606840"/>
          </a:xfrm>
        </p:grpSpPr>
        <p:graphicFrame>
          <p:nvGraphicFramePr>
            <p:cNvPr id="128" name="Object 3"/>
            <p:cNvGraphicFramePr/>
            <p:nvPr/>
          </p:nvGraphicFramePr>
          <p:xfrm>
            <a:off x="1066680" y="2438280"/>
            <a:ext cx="7358040" cy="360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438280"/>
                      <a:ext cx="7358040" cy="36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 Box 4"/>
            <p:cNvSpPr/>
            <p:nvPr/>
          </p:nvSpPr>
          <p:spPr>
            <a:xfrm>
              <a:off x="1066680" y="2620440"/>
              <a:ext cx="6922080" cy="33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5"/>
          <p:cNvSpPr/>
          <p:nvPr/>
        </p:nvSpPr>
        <p:spPr>
          <a:xfrm>
            <a:off x="6957720" y="6257880"/>
            <a:ext cx="11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宋体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5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Text Box 6"/>
          <p:cNvGrpSpPr/>
          <p:nvPr/>
        </p:nvGrpSpPr>
        <p:grpSpPr>
          <a:xfrm>
            <a:off x="1139760" y="1749600"/>
            <a:ext cx="7480440" cy="377640"/>
            <a:chOff x="1139760" y="1749600"/>
            <a:chExt cx="7480440" cy="377640"/>
          </a:xfrm>
        </p:grpSpPr>
        <p:pic>
          <p:nvPicPr>
            <p:cNvPr id="133" name="Text Box 6" descr=""/>
            <p:cNvPicPr/>
            <p:nvPr/>
          </p:nvPicPr>
          <p:blipFill>
            <a:blip r:embed="rId3"/>
            <a:stretch/>
          </p:blipFill>
          <p:spPr>
            <a:xfrm>
              <a:off x="1139760" y="1749600"/>
              <a:ext cx="7480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143000" y="1752480"/>
              <a:ext cx="746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問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最後，請問你認為喺性行爲上獲得滿足對女性重唔重要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七成三受訪者認爲</a:t>
            </a: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在</a:t>
            </a: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性行爲上獲得滿足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感</a:t>
            </a: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對女性重要</a:t>
            </a:r>
            <a:endParaRPr b="1" lang="en-US" sz="3600" spc="-1" strike="noStrike">
              <a:solidFill>
                <a:srgbClr val="a50021"/>
              </a:solidFill>
              <a:latin typeface="宋体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5FFA-68C7-438A-883C-35D71F418E8F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宋体"/>
                <a:ea typeface="新細明體"/>
              </a:rPr>
              <a:t>香港單身女性對避孕的態度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4593-1430-473A-A1C8-3796685BC37A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"/>
          <p:cNvGrpSpPr/>
          <p:nvPr/>
        </p:nvGrpSpPr>
        <p:grpSpPr>
          <a:xfrm>
            <a:off x="304920" y="2362320"/>
            <a:ext cx="8458200" cy="3581280"/>
            <a:chOff x="304920" y="2362320"/>
            <a:chExt cx="8458200" cy="3581280"/>
          </a:xfrm>
        </p:grpSpPr>
        <p:graphicFrame>
          <p:nvGraphicFramePr>
            <p:cNvPr id="140" name="Object 3"/>
            <p:cNvGraphicFramePr/>
            <p:nvPr/>
          </p:nvGraphicFramePr>
          <p:xfrm>
            <a:off x="304920" y="2362320"/>
            <a:ext cx="8458200" cy="358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362320"/>
                      <a:ext cx="845820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Text Box 4"/>
            <p:cNvSpPr/>
            <p:nvPr/>
          </p:nvSpPr>
          <p:spPr>
            <a:xfrm>
              <a:off x="304920" y="2543040"/>
              <a:ext cx="7957080" cy="33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5"/>
          <p:cNvSpPr/>
          <p:nvPr/>
        </p:nvSpPr>
        <p:spPr>
          <a:xfrm>
            <a:off x="5257800" y="6248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宋体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50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可選擇多項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Text Box 6"/>
          <p:cNvGrpSpPr/>
          <p:nvPr/>
        </p:nvGrpSpPr>
        <p:grpSpPr>
          <a:xfrm>
            <a:off x="1517760" y="1901880"/>
            <a:ext cx="6492600" cy="377640"/>
            <a:chOff x="1517760" y="1901880"/>
            <a:chExt cx="6492600" cy="377640"/>
          </a:xfrm>
        </p:grpSpPr>
        <p:pic>
          <p:nvPicPr>
            <p:cNvPr id="145" name="Text Box 6" descr=""/>
            <p:cNvPicPr/>
            <p:nvPr/>
          </p:nvPicPr>
          <p:blipFill>
            <a:blip r:embed="rId3"/>
            <a:stretch/>
          </p:blipFill>
          <p:spPr>
            <a:xfrm>
              <a:off x="1517760" y="1901880"/>
              <a:ext cx="6492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523880" y="1905120"/>
              <a:ext cx="647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問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請問你有冇用過以下嘅方法避孕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五成七受訪者使用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安全套避孕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一成七使用口服避孕丸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五使用體外射精</a:t>
            </a:r>
            <a:endParaRPr b="1" lang="en-US" sz="3200" spc="-1" strike="noStrike">
              <a:solidFill>
                <a:srgbClr val="a50021"/>
              </a:solidFill>
              <a:latin typeface="宋体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DC38-8BA0-4AED-9CBD-F4AF32EF46B7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5"/>
          <p:cNvGrpSpPr/>
          <p:nvPr/>
        </p:nvGrpSpPr>
        <p:grpSpPr>
          <a:xfrm>
            <a:off x="304920" y="2209680"/>
            <a:ext cx="8424720" cy="3530880"/>
            <a:chOff x="304920" y="2209680"/>
            <a:chExt cx="8424720" cy="3530880"/>
          </a:xfrm>
        </p:grpSpPr>
        <p:graphicFrame>
          <p:nvGraphicFramePr>
            <p:cNvPr id="150" name="Object 6"/>
            <p:cNvGraphicFramePr/>
            <p:nvPr/>
          </p:nvGraphicFramePr>
          <p:xfrm>
            <a:off x="304920" y="2209680"/>
            <a:ext cx="8424720" cy="353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09680"/>
                      <a:ext cx="8424720" cy="353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Text Box 7"/>
            <p:cNvSpPr/>
            <p:nvPr/>
          </p:nvSpPr>
          <p:spPr>
            <a:xfrm>
              <a:off x="304920" y="2387880"/>
              <a:ext cx="7925760" cy="33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9"/>
          <p:cNvGrpSpPr/>
          <p:nvPr/>
        </p:nvGrpSpPr>
        <p:grpSpPr>
          <a:xfrm>
            <a:off x="1517760" y="1670040"/>
            <a:ext cx="6492600" cy="378000"/>
            <a:chOff x="1517760" y="1670040"/>
            <a:chExt cx="6492600" cy="378000"/>
          </a:xfrm>
        </p:grpSpPr>
        <p:pic>
          <p:nvPicPr>
            <p:cNvPr id="154" name="Text Box 9" descr=""/>
            <p:cNvPicPr/>
            <p:nvPr/>
          </p:nvPicPr>
          <p:blipFill>
            <a:blip r:embed="rId3"/>
            <a:stretch/>
          </p:blipFill>
          <p:spPr>
            <a:xfrm>
              <a:off x="1517760" y="1670040"/>
              <a:ext cx="64926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523880" y="1676520"/>
              <a:ext cx="647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問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請問你認爲安全套主要用嚟避孕、定係避免感染性病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3"/>
          <p:cNvSpPr/>
          <p:nvPr/>
        </p:nvSpPr>
        <p:spPr>
          <a:xfrm>
            <a:off x="6881760" y="6208560"/>
            <a:ext cx="11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宋体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七成受訪者認爲</a:t>
            </a: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安全套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可同時</a:t>
            </a: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用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作</a:t>
            </a: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避孕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及預防</a:t>
            </a: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感染性病</a:t>
            </a:r>
            <a:endParaRPr b="1" lang="en-US" sz="3600" spc="-1" strike="noStrike">
              <a:solidFill>
                <a:srgbClr val="a50021"/>
              </a:solidFill>
              <a:latin typeface="宋体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E9ED-8161-4F18-9D40-650E64EFFD8D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"/>
          <p:cNvGrpSpPr/>
          <p:nvPr/>
        </p:nvGrpSpPr>
        <p:grpSpPr>
          <a:xfrm>
            <a:off x="304920" y="2286000"/>
            <a:ext cx="8424720" cy="3786120"/>
            <a:chOff x="304920" y="2286000"/>
            <a:chExt cx="8424720" cy="3786120"/>
          </a:xfrm>
        </p:grpSpPr>
        <p:graphicFrame>
          <p:nvGraphicFramePr>
            <p:cNvPr id="160" name="Object 3"/>
            <p:cNvGraphicFramePr/>
            <p:nvPr/>
          </p:nvGraphicFramePr>
          <p:xfrm>
            <a:off x="304920" y="2286000"/>
            <a:ext cx="8424720" cy="378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0"/>
                      <a:ext cx="8424720" cy="378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4"/>
            <p:cNvSpPr/>
            <p:nvPr/>
          </p:nvSpPr>
          <p:spPr>
            <a:xfrm>
              <a:off x="304920" y="2477160"/>
              <a:ext cx="7925760" cy="35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Text Box 6"/>
          <p:cNvGrpSpPr/>
          <p:nvPr/>
        </p:nvGrpSpPr>
        <p:grpSpPr>
          <a:xfrm>
            <a:off x="907920" y="1749600"/>
            <a:ext cx="7407360" cy="377640"/>
            <a:chOff x="907920" y="1749600"/>
            <a:chExt cx="7407360" cy="377640"/>
          </a:xfrm>
        </p:grpSpPr>
        <p:pic>
          <p:nvPicPr>
            <p:cNvPr id="164" name="Text Box 6" descr=""/>
            <p:cNvPicPr/>
            <p:nvPr/>
          </p:nvPicPr>
          <p:blipFill>
            <a:blip r:embed="rId3"/>
            <a:stretch/>
          </p:blipFill>
          <p:spPr>
            <a:xfrm>
              <a:off x="907920" y="1749600"/>
              <a:ext cx="74073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914400" y="1752480"/>
              <a:ext cx="739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問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喺避孕嘅可靠性方面，你認為安全套定口服避孕丸嘅可靠性高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啲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成六受訪者認爲在避孕方面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安全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較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可靠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三成三</a:t>
            </a:r>
            <a:r>
              <a:rPr b="1" lang="zh-TW" sz="3200" spc="-1" strike="noStrike">
                <a:solidFill>
                  <a:srgbClr val="a50021"/>
                </a:solidFill>
                <a:latin typeface="宋体"/>
              </a:rPr>
              <a:t>則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認爲</a:t>
            </a:r>
            <a:r>
              <a:rPr b="1" lang="zh-TW" sz="3200" spc="-1" strike="noStrike">
                <a:solidFill>
                  <a:srgbClr val="a50021"/>
                </a:solidFill>
                <a:latin typeface="宋体"/>
              </a:rPr>
              <a:t>口服避孕丸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較</a:t>
            </a:r>
            <a:r>
              <a:rPr b="1" lang="zh-TW" sz="3200" spc="-1" strike="noStrike">
                <a:solidFill>
                  <a:srgbClr val="a50021"/>
                </a:solidFill>
                <a:latin typeface="宋体"/>
              </a:rPr>
              <a:t>可靠</a:t>
            </a:r>
            <a:endParaRPr b="1" lang="en-US" sz="32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881760" y="6208560"/>
            <a:ext cx="11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宋体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24E4-B660-4466-B785-1940B0372AB0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1066680" y="2438280"/>
            <a:ext cx="7358040" cy="3606840"/>
            <a:chOff x="1066680" y="2438280"/>
            <a:chExt cx="7358040" cy="3606840"/>
          </a:xfrm>
        </p:grpSpPr>
        <p:graphicFrame>
          <p:nvGraphicFramePr>
            <p:cNvPr id="170" name="Object 3"/>
            <p:cNvGraphicFramePr/>
            <p:nvPr/>
          </p:nvGraphicFramePr>
          <p:xfrm>
            <a:off x="1066680" y="2438280"/>
            <a:ext cx="7358040" cy="360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438280"/>
                      <a:ext cx="7358040" cy="36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Text Box 4"/>
            <p:cNvSpPr/>
            <p:nvPr/>
          </p:nvSpPr>
          <p:spPr>
            <a:xfrm>
              <a:off x="1066680" y="2620440"/>
              <a:ext cx="6922080" cy="33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Text Box 6"/>
          <p:cNvGrpSpPr/>
          <p:nvPr/>
        </p:nvGrpSpPr>
        <p:grpSpPr>
          <a:xfrm>
            <a:off x="1139760" y="1749600"/>
            <a:ext cx="7096320" cy="377640"/>
            <a:chOff x="1139760" y="1749600"/>
            <a:chExt cx="7096320" cy="377640"/>
          </a:xfrm>
        </p:grpSpPr>
        <p:pic>
          <p:nvPicPr>
            <p:cNvPr id="174" name="Text Box 6" descr=""/>
            <p:cNvPicPr/>
            <p:nvPr/>
          </p:nvPicPr>
          <p:blipFill>
            <a:blip r:embed="rId3"/>
            <a:stretch/>
          </p:blipFill>
          <p:spPr>
            <a:xfrm>
              <a:off x="1139760" y="1749600"/>
              <a:ext cx="709632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143000" y="1752480"/>
              <a:ext cx="70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問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你是否同意女性口服避孕丸係一種既安全又可靠嘅避孕方法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成八受訪者同意</a:t>
            </a:r>
            <a:br>
              <a:rPr sz="3600"/>
            </a:b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避孕丸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是</a:t>
            </a: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安全又可靠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的</a:t>
            </a: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避孕方法</a:t>
            </a:r>
            <a:endParaRPr b="1" lang="en-US" sz="36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6881760" y="6208560"/>
            <a:ext cx="11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宋体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5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087C-449D-4EE8-BDDE-9019ABF2B8AC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685800" y="2438280"/>
            <a:ext cx="7543800" cy="3733560"/>
            <a:chOff x="685800" y="2438280"/>
            <a:chExt cx="7543800" cy="3733560"/>
          </a:xfrm>
        </p:grpSpPr>
        <p:graphicFrame>
          <p:nvGraphicFramePr>
            <p:cNvPr id="180" name="Object 3"/>
            <p:cNvGraphicFramePr/>
            <p:nvPr/>
          </p:nvGraphicFramePr>
          <p:xfrm>
            <a:off x="685800" y="2438280"/>
            <a:ext cx="7542360" cy="373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2438280"/>
                      <a:ext cx="7542360" cy="37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4"/>
            <p:cNvSpPr/>
            <p:nvPr/>
          </p:nvSpPr>
          <p:spPr>
            <a:xfrm>
              <a:off x="685800" y="2553840"/>
              <a:ext cx="7543800" cy="34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Text Box 5"/>
          <p:cNvGrpSpPr/>
          <p:nvPr/>
        </p:nvGrpSpPr>
        <p:grpSpPr>
          <a:xfrm>
            <a:off x="1517760" y="1670040"/>
            <a:ext cx="6492600" cy="378000"/>
            <a:chOff x="1517760" y="1670040"/>
            <a:chExt cx="6492600" cy="378000"/>
          </a:xfrm>
        </p:grpSpPr>
        <p:pic>
          <p:nvPicPr>
            <p:cNvPr id="184" name="Text Box 5" descr=""/>
            <p:cNvPicPr/>
            <p:nvPr/>
          </p:nvPicPr>
          <p:blipFill>
            <a:blip r:embed="rId3"/>
            <a:stretch/>
          </p:blipFill>
          <p:spPr>
            <a:xfrm>
              <a:off x="1517760" y="1670040"/>
              <a:ext cx="64926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523880" y="1676520"/>
              <a:ext cx="647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問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你認爲口服避孕丸對健康有否不良影響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6"/>
          <p:cNvSpPr/>
          <p:nvPr/>
        </p:nvSpPr>
        <p:spPr>
          <a:xfrm>
            <a:off x="6881760" y="6257880"/>
            <a:ext cx="11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宋体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八成五受訪者</a:t>
            </a:r>
            <a:r>
              <a:rPr b="1" lang="zh-TW" sz="3600" spc="-1" strike="noStrike">
                <a:solidFill>
                  <a:srgbClr val="000000"/>
                </a:solidFill>
                <a:latin typeface="宋体"/>
              </a:rPr>
              <a:t>認爲</a:t>
            </a:r>
            <a:br>
              <a:rPr sz="3600"/>
            </a:b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口服避孕丸對健康有不良影響</a:t>
            </a:r>
            <a:endParaRPr b="1" lang="en-US" sz="3600" spc="-1" strike="noStrike">
              <a:solidFill>
                <a:srgbClr val="a50021"/>
              </a:solidFill>
              <a:latin typeface="宋体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C068-4882-490D-ABA3-88541C027BF1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宋体"/>
              </a:rPr>
              <a:t>調查概況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259160"/>
        </p:xfrm>
        <a:graphic>
          <a:graphicData uri="http://schemas.openxmlformats.org/drawingml/2006/table">
            <a:tbl>
              <a:tblPr/>
              <a:tblGrid>
                <a:gridCol w="1752480"/>
                <a:gridCol w="64771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調查目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瞭解香港單身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性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對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及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避孕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方面的態度以提供切合需要的公衆健康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調查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日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調查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由訪問員直接進行電話訪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調查對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齡介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-4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歲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單身女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調查機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港大民意研究計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成功訪問人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效回應比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.5% 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以符合資格的目標對象計算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新細明體"/>
                        </a:rPr>
                        <a:t>抽樣誤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1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少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C2D3-EB58-4AE8-8F10-617E1E224878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"/>
          <p:cNvGrpSpPr/>
          <p:nvPr/>
        </p:nvGrpSpPr>
        <p:grpSpPr>
          <a:xfrm>
            <a:off x="609480" y="2209680"/>
            <a:ext cx="8077320" cy="3786480"/>
            <a:chOff x="609480" y="2209680"/>
            <a:chExt cx="8077320" cy="3786480"/>
          </a:xfrm>
        </p:grpSpPr>
        <p:graphicFrame>
          <p:nvGraphicFramePr>
            <p:cNvPr id="190" name="Object 3"/>
            <p:cNvGraphicFramePr/>
            <p:nvPr/>
          </p:nvGraphicFramePr>
          <p:xfrm>
            <a:off x="609480" y="2209680"/>
            <a:ext cx="8077320" cy="3786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2209680"/>
                      <a:ext cx="8077320" cy="378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Text Box 4"/>
            <p:cNvSpPr/>
            <p:nvPr/>
          </p:nvSpPr>
          <p:spPr>
            <a:xfrm>
              <a:off x="609480" y="2504880"/>
              <a:ext cx="7610760" cy="33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Text Box 6"/>
          <p:cNvGrpSpPr/>
          <p:nvPr/>
        </p:nvGrpSpPr>
        <p:grpSpPr>
          <a:xfrm>
            <a:off x="1517760" y="1596960"/>
            <a:ext cx="6492600" cy="378000"/>
            <a:chOff x="1517760" y="1596960"/>
            <a:chExt cx="6492600" cy="378000"/>
          </a:xfrm>
        </p:grpSpPr>
        <p:pic>
          <p:nvPicPr>
            <p:cNvPr id="194" name="Text Box 6" descr=""/>
            <p:cNvPicPr/>
            <p:nvPr/>
          </p:nvPicPr>
          <p:blipFill>
            <a:blip r:embed="rId3"/>
            <a:stretch/>
          </p:blipFill>
          <p:spPr>
            <a:xfrm>
              <a:off x="1517760" y="1596960"/>
              <a:ext cx="64926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523880" y="1600200"/>
              <a:ext cx="647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問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除避孕之外，你知唔知道口服避孕丸有啲乜嘢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好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處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五成八受訪者</a:t>
            </a: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不知道</a:t>
            </a: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口服避孕丸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的好處</a:t>
            </a:r>
            <a:endParaRPr b="1" lang="en-US" sz="36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846040" y="6248520"/>
            <a:ext cx="20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宋体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5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可選擇多項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A163-25BD-4D08-8744-18BCCA743D5A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新細明體"/>
              </a:rPr>
              <a:t>總結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4721-0BB3-45CE-A315-FC02780B43B5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a50021"/>
                </a:solidFill>
                <a:latin typeface="宋体"/>
                <a:ea typeface="新細明體"/>
              </a:rPr>
              <a:t>香港單身女性對性的態度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51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四成七受訪者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接受女性最早有性行爲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年齡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歲；百分之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十接受</a:t>
            </a:r>
            <a:r>
              <a:rPr b="0" lang="fr-FR" sz="25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歲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或以下</a:t>
            </a:r>
            <a:r>
              <a:rPr b="0" lang="fr-FR" sz="25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亦有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百分之三認爲結婚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之後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才可以有性行爲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24"/>
              </a:spcBef>
              <a:buSzPct val="11516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五成四受訪者接受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女性一生中可以有多於一個的性伴侶</a:t>
            </a:r>
            <a:endParaRPr b="0" lang="en-US" sz="25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24"/>
              </a:spcBef>
              <a:buSzPct val="11516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六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成受訪者認爲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女性一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星期內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有多於一次的性行爲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才算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正常</a:t>
            </a:r>
            <a:endParaRPr b="0" lang="en-US" sz="25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SzPct val="11516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百分之四受訪者接受和伴侶之間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只有性關係而沒有感情關係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而九成不能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接受有性無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24"/>
              </a:spcBef>
              <a:buSzPct val="11516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七成三受訪者認爲在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性行爲上獲得滿足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感</a:t>
            </a:r>
            <a:r>
              <a:rPr b="0" lang="zh-TW" sz="2500" spc="-1" strike="noStrike">
                <a:solidFill>
                  <a:srgbClr val="000000"/>
                </a:solidFill>
                <a:latin typeface="宋体"/>
              </a:rPr>
              <a:t>對女性重要</a:t>
            </a:r>
            <a:endParaRPr b="0" lang="en-US" sz="25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3052-8B6A-4ED6-8506-F4D0BF3501D9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a50021"/>
                </a:solidFill>
                <a:latin typeface="宋体"/>
                <a:ea typeface="新細明體"/>
              </a:rPr>
              <a:t>香港單身女性對避孕的</a:t>
            </a:r>
            <a:r>
              <a:rPr b="1" lang="zh-CN" sz="4000" spc="-1" strike="noStrike">
                <a:solidFill>
                  <a:srgbClr val="a50021"/>
                </a:solidFill>
                <a:latin typeface="宋体"/>
                <a:ea typeface="新細明體"/>
              </a:rPr>
              <a:t>認知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52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最多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五成七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受訪者使用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安全套避孕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成七使用口服避孕丸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避孕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較體外射精的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兩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成五還要低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575"/>
              </a:spcBef>
              <a:buSzPct val="1252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七成受訪者認爲安全套可同時避孕及預防性病、一成七誤以爲安全套只可用作避孕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575"/>
              </a:spcBef>
              <a:buSzPct val="1252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四成六受訪者認爲在避孕方面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安全套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較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可靠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；三成三受訪者認爲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口服避孕丸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較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可靠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575"/>
              </a:spcBef>
              <a:buSzPct val="1252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四成八受訪者同意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口服避孕丸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一種既安全又可靠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避孕方法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575"/>
              </a:spcBef>
              <a:buSzPct val="1252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八成五受訪者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認爲口服避孕丸對健康有不良影響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575"/>
              </a:spcBef>
              <a:buSzPct val="1252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五成八受訪者不知道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除避孕外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口服避孕丸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其他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好處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575"/>
              </a:spcBef>
              <a:buSzPct val="1252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調查顯示，本港單身女性的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性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觀念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並不算保守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，但避孕知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識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卻不足，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應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加强公衆教育</a:t>
            </a:r>
            <a:r>
              <a:rPr b="0" lang="zh-TW" sz="2300" spc="-1" strike="noStrike">
                <a:solidFill>
                  <a:srgbClr val="000000"/>
                </a:solidFill>
                <a:latin typeface="宋体"/>
              </a:rPr>
              <a:t>以提升認知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8C30-BCC9-49B1-B195-CD2FDE1975D0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受</a:t>
            </a:r>
            <a:r>
              <a:rPr b="1" lang="zh-TW" sz="4000" spc="-1" strike="noStrike">
                <a:solidFill>
                  <a:srgbClr val="ffffff"/>
                </a:solidFill>
                <a:latin typeface="宋体"/>
              </a:rPr>
              <a:t>訪者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背景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19C-CB9C-4411-A208-284401592F5A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宋体"/>
              </a:rPr>
              <a:t>受</a:t>
            </a:r>
            <a:r>
              <a:rPr b="1" lang="zh-TW" sz="4000" spc="-1" strike="noStrike">
                <a:solidFill>
                  <a:srgbClr val="a50021"/>
                </a:solidFill>
                <a:latin typeface="宋体"/>
              </a:rPr>
              <a:t>訪者</a:t>
            </a:r>
            <a:r>
              <a:rPr b="1" lang="zh-TW" sz="4000" spc="-1" strike="noStrike">
                <a:solidFill>
                  <a:srgbClr val="a50021"/>
                </a:solidFill>
                <a:latin typeface="Arial Unicode MS"/>
              </a:rPr>
              <a:t>年齡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665280" y="1600200"/>
          <a:ext cx="7812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1600200"/>
                    <a:ext cx="7812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4"/>
          <p:cNvSpPr/>
          <p:nvPr/>
        </p:nvSpPr>
        <p:spPr>
          <a:xfrm>
            <a:off x="5181480" y="61722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CCB5-E31C-4E61-B366-7FD727159D4F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宋体"/>
              </a:rPr>
              <a:t>受</a:t>
            </a:r>
            <a:r>
              <a:rPr b="1" lang="zh-TW" sz="4000" spc="-1" strike="noStrike">
                <a:solidFill>
                  <a:srgbClr val="a50021"/>
                </a:solidFill>
                <a:latin typeface="宋体"/>
              </a:rPr>
              <a:t>訪者</a:t>
            </a:r>
            <a:r>
              <a:rPr b="1" lang="zh-TW" sz="4000" spc="-1" strike="noStrike">
                <a:solidFill>
                  <a:srgbClr val="a50021"/>
                </a:solidFill>
                <a:latin typeface="Arial Unicode MS"/>
              </a:rPr>
              <a:t>的教育程度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457200" y="160020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4"/>
          <p:cNvSpPr/>
          <p:nvPr/>
        </p:nvSpPr>
        <p:spPr>
          <a:xfrm>
            <a:off x="5181480" y="61722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5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9348-4B7C-4FFB-A672-7DBB0991D621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宋体"/>
              </a:rPr>
              <a:t>受</a:t>
            </a:r>
            <a:r>
              <a:rPr b="1" lang="zh-TW" sz="4000" spc="-1" strike="noStrike">
                <a:solidFill>
                  <a:srgbClr val="a50021"/>
                </a:solidFill>
                <a:latin typeface="宋体"/>
              </a:rPr>
              <a:t>訪者</a:t>
            </a:r>
            <a:r>
              <a:rPr b="1" lang="zh-TW" sz="4000" spc="-1" strike="noStrike">
                <a:solidFill>
                  <a:srgbClr val="a50021"/>
                </a:solidFill>
                <a:latin typeface="Arial Unicode MS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Arial Unicode MS"/>
              </a:rPr>
              <a:t>職業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304920" y="1685880"/>
          <a:ext cx="845820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85880"/>
                    <a:ext cx="84582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4"/>
          <p:cNvSpPr/>
          <p:nvPr/>
        </p:nvSpPr>
        <p:spPr>
          <a:xfrm>
            <a:off x="5181480" y="61722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43C3-F15E-4CD5-B121-B76CB262DB4F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宋体"/>
              </a:rPr>
              <a:t>受</a:t>
            </a:r>
            <a:r>
              <a:rPr b="1" lang="zh-TW" sz="4000" spc="-1" strike="noStrike">
                <a:solidFill>
                  <a:srgbClr val="a50021"/>
                </a:solidFill>
                <a:latin typeface="宋体"/>
              </a:rPr>
              <a:t>訪者</a:t>
            </a:r>
            <a:r>
              <a:rPr b="1" lang="zh-TW" sz="4000" spc="-1" strike="noStrike">
                <a:solidFill>
                  <a:srgbClr val="a50021"/>
                </a:solidFill>
                <a:latin typeface="Arial Unicode MS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Arial Unicode MS"/>
              </a:rPr>
              <a:t>每月個人入息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  <p:graphicFrame>
        <p:nvGraphicFramePr>
          <p:cNvPr id="72" name="Object 3"/>
          <p:cNvGraphicFramePr/>
          <p:nvPr/>
        </p:nvGraphicFramePr>
        <p:xfrm>
          <a:off x="457200" y="1371600"/>
          <a:ext cx="82296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229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4"/>
          <p:cNvSpPr/>
          <p:nvPr/>
        </p:nvSpPr>
        <p:spPr>
          <a:xfrm>
            <a:off x="5181480" y="61722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4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6053-9AB1-40CA-A344-520D8F7A9854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宋体"/>
                <a:ea typeface="新細明體"/>
              </a:rPr>
              <a:t>香港單身女性對性的態度</a:t>
            </a:r>
            <a:endParaRPr b="1" lang="en-US" sz="4000" spc="-1" strike="noStrike">
              <a:solidFill>
                <a:srgbClr val="a50021"/>
              </a:solidFill>
              <a:latin typeface="宋体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304920" y="2286000"/>
            <a:ext cx="8305200" cy="4114440"/>
            <a:chOff x="304920" y="2286000"/>
            <a:chExt cx="8305200" cy="4114440"/>
          </a:xfrm>
        </p:grpSpPr>
        <p:graphicFrame>
          <p:nvGraphicFramePr>
            <p:cNvPr id="78" name="Object 3"/>
            <p:cNvGraphicFramePr/>
            <p:nvPr/>
          </p:nvGraphicFramePr>
          <p:xfrm>
            <a:off x="323640" y="2286000"/>
            <a:ext cx="8286480" cy="4005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3640" y="2286000"/>
                      <a:ext cx="8286480" cy="40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Text Box 4"/>
            <p:cNvSpPr/>
            <p:nvPr/>
          </p:nvSpPr>
          <p:spPr>
            <a:xfrm>
              <a:off x="304920" y="2360520"/>
              <a:ext cx="7831440" cy="40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328E-0783-4DC9-9220-DABFD5FEA7E0}" type="slidenum">
              <a:rPr b="0" lang="zh-TW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638680" y="62485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宋体"/>
              </a:rPr>
              <a:t>有效樣本：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5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Text Box 6"/>
          <p:cNvGrpSpPr/>
          <p:nvPr/>
        </p:nvGrpSpPr>
        <p:grpSpPr>
          <a:xfrm>
            <a:off x="1517760" y="1749600"/>
            <a:ext cx="6492600" cy="377640"/>
            <a:chOff x="1517760" y="1749600"/>
            <a:chExt cx="6492600" cy="377640"/>
          </a:xfrm>
        </p:grpSpPr>
        <p:pic>
          <p:nvPicPr>
            <p:cNvPr id="84" name="Text Box 6" descr=""/>
            <p:cNvPicPr/>
            <p:nvPr/>
          </p:nvPicPr>
          <p:blipFill>
            <a:blip r:embed="rId3"/>
            <a:stretch/>
          </p:blipFill>
          <p:spPr>
            <a:xfrm>
              <a:off x="1517760" y="1749600"/>
              <a:ext cx="6492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523880" y="1752480"/>
              <a:ext cx="647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問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0" lang="zh-TW" sz="1800" spc="-1" strike="noStrike">
                  <a:solidFill>
                    <a:srgbClr val="000000"/>
                  </a:solidFill>
                  <a:latin typeface="宋体"/>
                </a:rPr>
                <a:t>請問你接受女性最早有性行爲嘅年齡係幾多歲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四成七受訪者</a:t>
            </a:r>
            <a:r>
              <a:rPr b="1" lang="zh-TW" sz="2800" spc="-1" strike="noStrike">
                <a:solidFill>
                  <a:srgbClr val="a50021"/>
                </a:solidFill>
                <a:latin typeface="宋体"/>
              </a:rPr>
              <a:t>接受女性最早有性行爲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的</a:t>
            </a:r>
            <a:r>
              <a:rPr b="1" lang="zh-TW" sz="2800" spc="-1" strike="noStrike">
                <a:solidFill>
                  <a:srgbClr val="a50021"/>
                </a:solidFill>
                <a:latin typeface="宋体"/>
              </a:rPr>
              <a:t>年齡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是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歲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百分之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十接受</a:t>
            </a:r>
            <a:r>
              <a:rPr b="1" lang="fr-FR" sz="32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歲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或以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百分之三認爲結婚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之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才可以有性行爲</a:t>
            </a:r>
            <a:r>
              <a:rPr b="1" lang="zh-TW" sz="3600" spc="-1" strike="noStrike">
                <a:solidFill>
                  <a:srgbClr val="a50021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a50021"/>
              </a:solidFill>
              <a:latin typeface="宋体"/>
            </a:endParaRPr>
          </a:p>
        </p:txBody>
      </p:sp>
      <p:sp>
        <p:nvSpPr>
          <p:cNvPr id="87" name="文字方塊 8"/>
          <p:cNvSpPr/>
          <p:nvPr/>
        </p:nvSpPr>
        <p:spPr>
          <a:xfrm>
            <a:off x="6019920" y="4038480"/>
            <a:ext cx="1828800" cy="368280"/>
          </a:xfrm>
          <a:prstGeom prst="rect">
            <a:avLst/>
          </a:prstGeom>
          <a:solidFill>
            <a:srgbClr val="ffe1eb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宋体"/>
              </a:rPr>
              <a:t>平均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 19.3</a:t>
            </a:r>
            <a:r>
              <a:rPr b="0" lang="zh-TW" sz="1800" spc="-1" strike="noStrike">
                <a:solidFill>
                  <a:srgbClr val="000000"/>
                </a:solidFill>
                <a:latin typeface="宋体"/>
              </a:rPr>
              <a:t>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7:02:50Z</dcterms:created>
  <dc:creator>HIT-G280-00</dc:creator>
  <dc:description/>
  <dc:language>en-US</dc:language>
  <cp:lastModifiedBy>HIT-G280-00</cp:lastModifiedBy>
  <dcterms:modified xsi:type="dcterms:W3CDTF">2007-09-04T09:39:09Z</dcterms:modified>
  <cp:revision>527</cp:revision>
  <dc:subject/>
  <dc:title>Slide 1</dc:title>
</cp:coreProperties>
</file>