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F3615D-5B0C-4EBF-820C-7312C937DE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A603F6-B45B-4888-8C94-66E80493DA58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365F82-CE49-45CF-B4C4-D80BDE867241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745492-C041-4E3B-8862-95D3655D672A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951320-CD02-4FD1-AF9E-EB2CACDBF4E3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98A3D3-AF7D-4E09-9512-9CC2F182198D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75551A-E3B2-4196-8726-A035BD3BFB4B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6E45E6-4332-4BE0-A2BC-140DB4A7357F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66A49-6B70-43E5-AD09-3F72D8DC2210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F6592A-B456-46B1-99F9-3CDD4DCD34EF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D97215-ED0A-4DC2-A516-0AB30707EF70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A406D2-D328-43A5-B71D-45D607F08A93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582E42-4A10-4A24-8572-F4FBC8B198BD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E2F193-8980-4A8D-A409-D761C69CB50F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250F32-4E7F-4184-911A-EEFA437E85F3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EA70D5-DA6B-464A-98D0-DB173ADC3DCB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C4B223-805D-483B-8AE2-180B40626A39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090808-882C-4915-8D89-B24B2FCF1169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B1B-5C30-4F4B-88BD-4BE88BA0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F16-3C08-4689-8895-99B17AE0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400-7C3D-428E-AA8E-010717D2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66D-9AC9-4DA4-A0ED-7128997C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D70-5D82-46E8-940D-6F2DADF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F69-16E2-43E3-91DF-ABC98ED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881-4C18-46E6-A8A2-0198101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9D9-1E76-4E45-A385-93EA88F4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CBD-7D69-4436-B6A2-7C041AE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F45-DA52-410F-A638-13A776F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4E4-E53D-4192-8BA8-32A40B8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871-F633-4ABC-8DC4-DABE99A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B99-2E42-42F5-AA81-8D2EF78C6434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052"/>
          <p:cNvSpPr/>
          <p:nvPr/>
        </p:nvSpPr>
        <p:spPr>
          <a:xfrm>
            <a:off x="3809880" y="8380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香港大學民意研究計劃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University of Hong Kong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ublic Opinion Programme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9" name="Object 2053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66"/>
                </a:solidFill>
                <a:latin typeface="Times New Roman"/>
                <a:ea typeface="標楷體"/>
              </a:rPr>
              <a:t>「市民眼中的香港電台」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</a:rPr>
              <a:t>鍾庭耀博士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標楷體"/>
              </a:rPr>
              <a:t>香港大學 民意研究計劃 總監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009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7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日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815364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18.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巿民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最希望港台在新增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數碼電視頻道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提供的節目類型 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讀出答案，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可選多項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000080" y="15717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0" y="1638360"/>
          <a:ext cx="891540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8360"/>
                    <a:ext cx="89154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2"/>
          <p:cNvSpPr/>
          <p:nvPr/>
        </p:nvSpPr>
        <p:spPr>
          <a:xfrm>
            <a:off x="6604200" y="181296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1,001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10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	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19.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巿民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最希望港台在新增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數碼聲音廣播頻道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提供的節目類型 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讀出答案，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可選多項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1000080" y="15717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33200" y="1714680"/>
          <a:ext cx="8653680" cy="46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714680"/>
                    <a:ext cx="8653680" cy="46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999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20.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市民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最想收看港台轉播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內地電視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的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節目類型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不讀答案，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可選多項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000080" y="15717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28760" y="1643040"/>
          <a:ext cx="8358120" cy="46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643040"/>
                    <a:ext cx="835812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995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476400" y="635796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因篇幅所限，只列出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6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或以上的答案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2962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21.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市民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最想收聽港台轉播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內地電台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的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節目類型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不讀答案，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可選多項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1000080" y="15717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3" name="Object 0"/>
          <p:cNvGraphicFramePr/>
          <p:nvPr/>
        </p:nvGraphicFramePr>
        <p:xfrm>
          <a:off x="285840" y="1714680"/>
          <a:ext cx="835812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714680"/>
                    <a:ext cx="835812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992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333480" y="635796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因篇幅所限，只列出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6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或以上的答案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22-Q26. 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各項香港電台功能的重要程度 評分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0-10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1000080" y="142884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785960"/>
          <a:ext cx="7506000" cy="3876480"/>
        </p:xfrm>
        <a:graphic>
          <a:graphicData uri="http://schemas.openxmlformats.org/drawingml/2006/table">
            <a:tbl>
              <a:tblPr/>
              <a:tblGrid>
                <a:gridCol w="3934080"/>
                <a:gridCol w="1214280"/>
                <a:gridCol w="1143000"/>
                <a:gridCol w="121464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平均分數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抽樣誤差 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評分人數 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1. </a:t>
                      </a:r>
                      <a:r>
                        <a:rPr b="1" lang="zh-TW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推動教育及鼓勵持續學習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2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3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7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. </a:t>
                      </a: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監察社會及政府施政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1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4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70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3. </a:t>
                      </a: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促進社會共融及多元性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9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3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61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. </a:t>
                      </a: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激發創意，豐富香港的多元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8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文化生活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8*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3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51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. </a:t>
                      </a: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確立公民身分及促進公民社會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8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的發展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8*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3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36</a:t>
                      </a:r>
                      <a:endParaRPr b="1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3"/>
          <p:cNvSpPr/>
          <p:nvPr/>
        </p:nvSpPr>
        <p:spPr>
          <a:xfrm>
            <a:off x="1071720" y="5786280"/>
            <a:ext cx="753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ecff"/>
                </a:solidFill>
                <a:latin typeface="Times New Roman"/>
              </a:rPr>
              <a:t>*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「激發創意，豐富香港的多元文化生活」的平均分數為 </a:t>
            </a:r>
            <a:r>
              <a:rPr b="0" i="1" lang="en-US" sz="1400" spc="-1" strike="noStrike">
                <a:solidFill>
                  <a:srgbClr val="ccecff"/>
                </a:solidFill>
                <a:latin typeface="Times New Roman"/>
              </a:rPr>
              <a:t>6.78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，而「確立公民身分及促進公民社會的發展」的平均分數為 </a:t>
            </a:r>
            <a:r>
              <a:rPr b="0" i="1" lang="en-US" sz="1400" spc="-1" strike="noStrike">
                <a:solidFill>
                  <a:srgbClr val="ccecff"/>
                </a:solidFill>
                <a:latin typeface="Times New Roman"/>
              </a:rPr>
              <a:t>6.76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。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785880" y="1143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78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香港市民對香港電台的評價相當正面，評分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全部超過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6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分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很多更在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以上。當中以電視時事節目和電台新聞報道得分最高，滿意度接近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四分三認為港台「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有多元的文化、教育及資訊節目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、三分二認為港台「歷史悠久、承載着深厚本地文化」、「是商業廣播外，吸納資訊的另外選擇」、及「節目能夠服務大眾，照顧小眾」，評價正面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電視節目之中，市民最滿意港台的時事節目，其次是戲劇節目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然後是文化藝術節目和教育電視節目，評分全部超過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電台節目之中，市民最滿意港台的新聞報道，其次是教育及資訊節目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然後是長者及小眾節目，評分全部超過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香港電台需要努力的似乎是網站方面的發展。一則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使用網站人士只得三成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二則喜歡程度只有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6.3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分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0" algn="just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785880" y="1143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展望將來發展，市民大都期望香港電台日後的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數碼電視和電台頻道，能提供更多新聞時事節目，和文化／歷史／藝術節目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而</a:t>
            </a:r>
            <a:r>
              <a:rPr b="0" lang="zh-TW" sz="2000" spc="-1" strike="noStrike">
                <a:solidFill>
                  <a:srgbClr val="ffff66"/>
                </a:solidFill>
                <a:latin typeface="Times New Roman"/>
                <a:ea typeface="標楷體"/>
              </a:rPr>
              <a:t>電台頻道則更加要包括音樂節目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倘若有關頻道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轉播內地電視和電台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節目，則被訪者的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取態同樣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是以新聞時事節目，和文化／歷史／藝術節目為優先，電台頻道則更要包括音樂節目 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就港台的定位，市民提供的優先次序為：「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推動教育及鼓勵持續學習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、「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監察社會及政府施政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、「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促進社會共融及多元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、「激發創意，豐富香港的多元文化生活」、「確立公民身分及促進公民社會的發展」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61800" indent="-27612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香港電台發展的方向，當然不能完全由民意決定。不過，香港電台貴為香港的品牌，在履行公共廣播機構使命的時候，</a:t>
            </a:r>
            <a:r>
              <a:rPr b="0" lang="zh-TW" sz="20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公眾認同以及民意監察，當然是不可或缺的一個環節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66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357280"/>
            <a:ext cx="7543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對香港電台在不同範疇之</a:t>
            </a:r>
            <a:r>
              <a:rPr b="1" lang="zh-TW" sz="28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現有服務的評價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未來</a:t>
            </a:r>
            <a:r>
              <a:rPr b="1" lang="zh-TW" sz="28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新增服務的需求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電台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800" spc="-1" strike="noStrike" u="sng">
                <a:solidFill>
                  <a:srgbClr val="ffff66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800" spc="-1" strike="noStrike" u="sng">
                <a:solidFill>
                  <a:srgbClr val="ffff66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66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01720" indent="0">
              <a:spcBef>
                <a:spcPts val="601"/>
              </a:spcBef>
              <a:buNone/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01720" indent="0">
              <a:spcBef>
                <a:spcPts val="601"/>
              </a:spcBef>
              <a:buNone/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，訪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01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1,001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01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1.9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01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9720" y="457200"/>
            <a:ext cx="7572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Q1. 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過去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6</a:t>
            </a: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個月內，你有幾經常收睇或收聽香港電台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Times New Roman"/>
                <a:ea typeface="標楷體"/>
              </a:rPr>
              <a:t>既電視或電台節目？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99072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09600" y="2419200"/>
          <a:ext cx="8248680" cy="40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419200"/>
                    <a:ext cx="82486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"/>
          <p:cNvSpPr/>
          <p:nvPr/>
        </p:nvSpPr>
        <p:spPr>
          <a:xfrm>
            <a:off x="6147000" y="23464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1,001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2. 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以下邊句或邊幾句可以合適地形容你眼中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既香港電台？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讀出答案，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可選多項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67" name="群組 13"/>
          <p:cNvGrpSpPr/>
          <p:nvPr/>
        </p:nvGrpSpPr>
        <p:grpSpPr>
          <a:xfrm>
            <a:off x="0" y="1523880"/>
            <a:ext cx="8929800" cy="5129280"/>
            <a:chOff x="0" y="1523880"/>
            <a:chExt cx="8929800" cy="5129280"/>
          </a:xfrm>
        </p:grpSpPr>
        <p:sp>
          <p:nvSpPr>
            <p:cNvPr id="68" name="Line 3"/>
            <p:cNvSpPr/>
            <p:nvPr/>
          </p:nvSpPr>
          <p:spPr>
            <a:xfrm>
              <a:off x="961200" y="1672200"/>
              <a:ext cx="73213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aphicFrame>
          <p:nvGraphicFramePr>
            <p:cNvPr id="69" name="Object 4"/>
            <p:cNvGraphicFramePr/>
            <p:nvPr/>
          </p:nvGraphicFramePr>
          <p:xfrm>
            <a:off x="0" y="1523880"/>
            <a:ext cx="8929800" cy="4238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523880"/>
                      <a:ext cx="8929800" cy="42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5"/>
            <p:cNvSpPr/>
            <p:nvPr/>
          </p:nvSpPr>
          <p:spPr>
            <a:xfrm>
              <a:off x="887400" y="5530680"/>
              <a:ext cx="11091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有多元的文化、教育及資訊節目 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1996560" y="5530680"/>
              <a:ext cx="11829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歷史悠久、承載着深厚本地文化的機構 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3179880" y="5530680"/>
              <a:ext cx="103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是商業廣播外，吸納資訊的另外選擇 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4363200" y="5530680"/>
              <a:ext cx="9612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節目能服務大眾，照顧小眾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7691400" y="5604840"/>
              <a:ext cx="8874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落伍及不合時宜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5398560" y="5530680"/>
              <a:ext cx="10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公正持平，可信的廣播機構 </a:t>
              </a: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  <a:ea typeface="新細明體"/>
                </a:rPr>
                <a:t>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6383160" y="1805040"/>
              <a:ext cx="178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ccecff"/>
                  </a:solidFill>
                  <a:latin typeface="Times New Roman"/>
                </a:rPr>
                <a:t>回答人數 </a:t>
              </a:r>
              <a:r>
                <a:rPr b="1" lang="en-US" sz="2000" spc="-1" strike="noStrike">
                  <a:solidFill>
                    <a:srgbClr val="ccecff"/>
                  </a:solidFill>
                  <a:latin typeface="Times New Roman"/>
                </a:rPr>
                <a:t>= 1,001</a:t>
              </a:r>
              <a:endParaRPr b="1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6433920" y="5456520"/>
              <a:ext cx="11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集電台、電視及互聯網廣播於一身，滲透面廣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>
              <a:off x="5970240" y="6376320"/>
              <a:ext cx="1846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534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3-Q5. 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市民對香港電台各個服務範疇的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喜歡程度評分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0-10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928800" y="20001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0080" y="2428920"/>
          <a:ext cx="7429680" cy="3429000"/>
        </p:xfrm>
        <a:graphic>
          <a:graphicData uri="http://schemas.openxmlformats.org/drawingml/2006/table">
            <a:tbl>
              <a:tblPr/>
              <a:tblGrid>
                <a:gridCol w="2786040"/>
                <a:gridCol w="1785960"/>
                <a:gridCol w="1357200"/>
                <a:gridCol w="1500480"/>
              </a:tblGrid>
              <a:tr h="101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平均分數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抽樣誤差 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評分人數 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r>
                        <a:rPr b="1" lang="zh-TW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電視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新細明體"/>
                        </a:rPr>
                        <a:t>7.2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1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55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電台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7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3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808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港台網站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3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8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388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6-Q10. 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市民對各類香港電台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電視節目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的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滿意程度評分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0-10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1000080" y="17859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00080" y="2071800"/>
          <a:ext cx="7500960" cy="3643200"/>
        </p:xfrm>
        <a:graphic>
          <a:graphicData uri="http://schemas.openxmlformats.org/drawingml/2006/table">
            <a:tbl>
              <a:tblPr/>
              <a:tblGrid>
                <a:gridCol w="3214800"/>
                <a:gridCol w="1558800"/>
                <a:gridCol w="1468440"/>
                <a:gridCol w="125892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平均分數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抽樣誤差 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評分人數 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1. </a:t>
                      </a:r>
                      <a:r>
                        <a:rPr b="1" lang="zh-TW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時事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8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1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952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戲劇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3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1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850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3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文化藝術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1*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1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759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教育電視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1*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6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36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青年及兒童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8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5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44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57"/>
          <p:cNvSpPr/>
          <p:nvPr/>
        </p:nvSpPr>
        <p:spPr>
          <a:xfrm>
            <a:off x="928800" y="585792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ecff"/>
                </a:solidFill>
                <a:latin typeface="Times New Roman"/>
              </a:rPr>
              <a:t>*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「文化藝術」的平均分為</a:t>
            </a:r>
            <a:r>
              <a:rPr b="0" i="1" lang="en-US" sz="1400" spc="-1" strike="noStrike">
                <a:solidFill>
                  <a:srgbClr val="ccecff"/>
                </a:solidFill>
                <a:latin typeface="Times New Roman"/>
              </a:rPr>
              <a:t>7.10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，而「教育電視」的平均分為</a:t>
            </a:r>
            <a:r>
              <a:rPr b="0" i="1" lang="en-US" sz="1400" spc="-1" strike="noStrike">
                <a:solidFill>
                  <a:srgbClr val="ccecff"/>
                </a:solidFill>
                <a:latin typeface="Times New Roman"/>
              </a:rPr>
              <a:t>7.07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。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11-Q16. 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市民對各類香港電台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Times New Roman"/>
                <a:ea typeface="標楷體"/>
              </a:rPr>
              <a:t>電台節目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的</a:t>
            </a:r>
            <a:br>
              <a:rPr sz="2600"/>
            </a:b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滿意程度評分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0-10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分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 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000080" y="178596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00080" y="2130480"/>
          <a:ext cx="7500960" cy="3944880"/>
        </p:xfrm>
        <a:graphic>
          <a:graphicData uri="http://schemas.openxmlformats.org/drawingml/2006/table">
            <a:tbl>
              <a:tblPr/>
              <a:tblGrid>
                <a:gridCol w="3786120"/>
                <a:gridCol w="1285920"/>
                <a:gridCol w="1214640"/>
                <a:gridCol w="121428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平均分數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抽樣誤差 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評分人數 </a:t>
                      </a:r>
                      <a:endParaRPr b="1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1. </a:t>
                      </a:r>
                      <a:r>
                        <a:rPr b="1" lang="zh-TW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新聞報道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5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1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793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教育及資訊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1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4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613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3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長者及小眾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7.0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6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93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時事及電話</a:t>
                      </a: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phone-in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9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5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667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文化藝術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8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4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77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6. 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音樂及綜合節目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標楷體"/>
                        </a:rPr>
                        <a:t>6.7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+/-0.15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574</a:t>
                      </a:r>
                      <a:endParaRPr b="1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8153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Q17.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巿民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最常用的港台網站服務 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讀出答案，</a:t>
            </a:r>
            <a:r>
              <a:rPr b="1" lang="zh-TW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可選多項</a:t>
            </a: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00080" y="142884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2" name="群組 15"/>
          <p:cNvGrpSpPr/>
          <p:nvPr/>
        </p:nvGrpSpPr>
        <p:grpSpPr>
          <a:xfrm>
            <a:off x="0" y="1643040"/>
            <a:ext cx="9144000" cy="4609440"/>
            <a:chOff x="0" y="1643040"/>
            <a:chExt cx="9144000" cy="4609440"/>
          </a:xfrm>
        </p:grpSpPr>
        <p:graphicFrame>
          <p:nvGraphicFramePr>
            <p:cNvPr id="93" name="Object 4"/>
            <p:cNvGraphicFramePr/>
            <p:nvPr/>
          </p:nvGraphicFramePr>
          <p:xfrm>
            <a:off x="0" y="1643040"/>
            <a:ext cx="9144000" cy="4219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43040"/>
                      <a:ext cx="9144000" cy="42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Text Box 5"/>
            <p:cNvSpPr/>
            <p:nvPr/>
          </p:nvSpPr>
          <p:spPr>
            <a:xfrm>
              <a:off x="682200" y="5694480"/>
              <a:ext cx="12884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節目重溫</a:t>
              </a:r>
              <a:r>
                <a:rPr b="1" lang="zh-TW" sz="1400" spc="-1" strike="noStrike">
                  <a:solidFill>
                    <a:srgbClr val="ccffff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1743480" y="5694480"/>
              <a:ext cx="10612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經典節目重溫 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7" name="Text Box 7"/>
            <p:cNvSpPr/>
            <p:nvPr/>
          </p:nvSpPr>
          <p:spPr>
            <a:xfrm>
              <a:off x="2653200" y="5731200"/>
              <a:ext cx="90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節目直播 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3562920" y="5694480"/>
              <a:ext cx="9093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網上新聞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6291720" y="5689800"/>
              <a:ext cx="8337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ffff"/>
                  </a:solidFill>
                  <a:latin typeface="Times New Roman"/>
                </a:rPr>
                <a:t>Teen Power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4396680" y="571500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網上學習 </a:t>
              </a: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  <a:ea typeface="新細明體"/>
                </a:rPr>
                <a:t>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1" name="Text Box 11"/>
            <p:cNvSpPr/>
            <p:nvPr/>
          </p:nvSpPr>
          <p:spPr>
            <a:xfrm>
              <a:off x="8060760" y="5689800"/>
              <a:ext cx="8085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ccecff"/>
                  </a:solidFill>
                  <a:latin typeface="Times New Roman"/>
                </a:rPr>
                <a:t>沒有用過港台網站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807520" y="1812600"/>
              <a:ext cx="178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ccecff"/>
                  </a:solidFill>
                  <a:latin typeface="Times New Roman"/>
                </a:rPr>
                <a:t>回答人數 </a:t>
              </a:r>
              <a:r>
                <a:rPr b="1" lang="en-US" sz="2000" spc="-1" strike="noStrike">
                  <a:solidFill>
                    <a:srgbClr val="ccecff"/>
                  </a:solidFill>
                  <a:latin typeface="Times New Roman"/>
                </a:rPr>
                <a:t>= 1,001</a:t>
              </a:r>
              <a:endParaRPr b="1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5306400" y="5670720"/>
              <a:ext cx="98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ffff"/>
                  </a:solidFill>
                  <a:latin typeface="Times New Roman"/>
                </a:rPr>
                <a:t>eTV online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7125840" y="5715000"/>
              <a:ext cx="90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ecff"/>
                  </a:solidFill>
                  <a:latin typeface="Times New Roman"/>
                </a:rPr>
                <a:t>Podcast </a:t>
              </a:r>
              <a:endParaRPr b="1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09-12-17T07:47:58Z</dcterms:modified>
  <cp:revision>1398</cp:revision>
  <dc:subject/>
  <dc:title>無投影片標題</dc:title>
</cp:coreProperties>
</file>