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AEB5-BED1-45A5-9A2B-A321C69DF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PMingLiU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1EA-B995-479C-9F6A-34D249831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789-7E85-4CC5-9FB3-E0630AD3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2B2-C76F-46BA-A85B-8D525E2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D50-F348-4903-9703-EA65F358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C97-4C62-46CC-8B51-097D7D33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893-E5F3-4B7E-AC7D-E15A0584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310F-9E10-42A5-91B2-A9A88C8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4194-B3AB-4E10-820F-7D369FD0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7AE-7373-42EC-908D-C3D9341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3869-2FE8-4A5D-994F-3E818F8D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35E-F4A3-4AD6-BEE3-41B86EB0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13D1-D8E4-4903-BA0D-FC6D051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F14-76E5-4CF8-AC45-E8BD8F8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401-551F-48F8-8647-D61E749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728-B83F-4C72-8BAC-4DE0930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16BE-EB15-45D2-A8F8-FB5EB4C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FF4-91BE-460B-AC1E-62438349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7467-716E-4F2E-B09C-82A5AD5D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5308-047A-4240-A1CE-AE5CCEA9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8F55-C44A-43C0-A49D-CBE45B8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BD5B-2009-42E2-8BC8-E6158E19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32E2-83C7-4880-A18D-40034E3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7CC6-8892-44CA-8C1A-6F65BA4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075-0A55-4C26-A95C-B4EB425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0A15-CDAD-4877-BE7E-0DEFC20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3276-D408-41EF-B7EC-3765518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1EA8-86B3-474A-969C-FCB07AF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902A-AD09-40FE-8AF6-299B537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1466-6599-423A-A6B6-F02A800C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429C-C11D-4032-A9DA-CB92BE4C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9EFC-ADCC-4EC3-99C1-35E232D5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0C3C-E46F-4F9B-B1D9-458A062A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BBB9-C827-43A9-A76E-C7A740C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DE5E-A7F5-4DC2-B566-38C6E99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202-C751-4332-ADE3-723F95C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693E-8E57-460D-AAC2-4FB6B62F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2B83-9A24-41A3-87EE-3055CDD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6E8B-1241-497B-9F3B-A54D623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E93C-74E5-4099-B242-0D8D06B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6B8D-E307-43E0-A958-DFA06C2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F980-91F2-4690-AF91-5AD0ADB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864A-E293-4A24-A91D-49EDD72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E181-8C33-42E2-9CFB-36676B1E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5FAE-E334-414A-AE8E-A61CC70C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B48-8AF6-4EFB-BB46-D69EE0C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B62-D269-4D04-924D-4B5E0364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6FD-8EDC-4797-BBF9-E7A7C22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90D-2B7A-4E49-BA93-6424ED6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F0F-70D3-4089-AF34-9CFD476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1A6-4E94-4431-A259-998456702BF0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BC4F-0951-4C31-8D74-3549541F906A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0A2-3F96-4DA9-B14F-A9DB8F6CF55B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A54-D693-4951-8929-06DC894C44C3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397C-6EB3-442B-9FEE-62141F3EE400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D9F-9495-4D4E-BDD9-E76450F3F89C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00339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339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23DF-8169-4818-A26A-3AAF738D5A80}" type="datetime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86E-CF38-4C22-B37F-180C3E5028F7}" type="slidenum">
              <a:rPr b="0" lang="en-US" sz="1000" spc="-1" strike="noStrike">
                <a:solidFill>
                  <a:srgbClr val="14335a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30280" y="2060640"/>
            <a:ext cx="6308640" cy="2455920"/>
          </a:xfrm>
          <a:prstGeom prst="rect">
            <a:avLst/>
          </a:prstGeom>
          <a:ln w="0">
            <a:noFill/>
          </a:ln>
        </p:spPr>
      </p:pic>
      <p:sp>
        <p:nvSpPr>
          <p:cNvPr id="184" name="Subtitle 2"/>
          <p:cNvSpPr/>
          <p:nvPr/>
        </p:nvSpPr>
        <p:spPr>
          <a:xfrm>
            <a:off x="1523880" y="358128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鍾庭耀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微軟正黑體"/>
              </a:rPr>
              <a:t>香港大學民意研究計劃總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C7CC-BCD5-4B19-B26E-8FCA8C2EA1D4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353880" y="2341440"/>
            <a:ext cx="6967800" cy="20052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BCF1-72FB-480E-8630-F787E738F200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0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或以上出現老花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徵狀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或其他視力退化者的</a:t>
            </a:r>
            <a:r>
              <a:rPr b="1" lang="zh-TW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視力問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457200" y="1676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雙眼有冇曾經出現過以下既視力問題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明確表示出現老花徵狀或其他視力退化問題的被訪者中，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超過三成受訪者在</a:t>
            </a:r>
            <a:r>
              <a:rPr b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5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前出現相關問題</a:t>
            </a:r>
            <a:br>
              <a:rPr sz="3600"/>
            </a:b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平均於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48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歲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出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380880" y="1676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幾多歲開始出現以上既情況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5868720" y="609588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明確表示出現老花徵狀或其他視力退化問題的被訪者</a:t>
            </a: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4D5-82E4-416A-9C95-1A74C75D4DB1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Right Brace 6"/>
          <p:cNvGrpSpPr/>
          <p:nvPr/>
        </p:nvGrpSpPr>
        <p:grpSpPr>
          <a:xfrm>
            <a:off x="6022800" y="2200320"/>
            <a:ext cx="470160" cy="1092240"/>
            <a:chOff x="6022800" y="2200320"/>
            <a:chExt cx="470160" cy="1092240"/>
          </a:xfrm>
        </p:grpSpPr>
        <p:pic>
          <p:nvPicPr>
            <p:cNvPr id="229" name="Right Brace 6" descr=""/>
            <p:cNvPicPr/>
            <p:nvPr/>
          </p:nvPicPr>
          <p:blipFill>
            <a:blip r:embed="rId2"/>
            <a:stretch/>
          </p:blipFill>
          <p:spPr>
            <a:xfrm>
              <a:off x="6022800" y="2200320"/>
              <a:ext cx="4701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095880" y="2293920"/>
              <a:ext cx="1080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7"/>
          <p:cNvSpPr/>
          <p:nvPr/>
        </p:nvSpPr>
        <p:spPr>
          <a:xfrm>
            <a:off x="6400800" y="2590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943600" y="4191120"/>
            <a:ext cx="2057400" cy="794520"/>
          </a:xfrm>
          <a:prstGeom prst="rect">
            <a:avLst/>
          </a:prstGeom>
          <a:solidFill>
            <a:srgbClr val="c0504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平均年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8.3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標準誤差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0.34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基數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353880" y="2341440"/>
            <a:ext cx="7351920" cy="200520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999D-03D0-4B13-917E-87492D14121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76%</a:t>
            </a:r>
            <a:r>
              <a:rPr b="1" lang="zh-TW" sz="37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因視力問題影響日常活動</a:t>
            </a:r>
            <a:endParaRPr b="0" lang="en-US" sz="37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6" name="Content Placeholder 5"/>
          <p:cNvGraphicFramePr/>
          <p:nvPr/>
        </p:nvGraphicFramePr>
        <p:xfrm>
          <a:off x="195120" y="1446120"/>
          <a:ext cx="780588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1446120"/>
                    <a:ext cx="780588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Box 3"/>
          <p:cNvSpPr/>
          <p:nvPr/>
        </p:nvSpPr>
        <p:spPr>
          <a:xfrm>
            <a:off x="457200" y="1295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的視力問題有冇影響你以下的日常活動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7655040" y="6172200"/>
            <a:ext cx="117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FB5-8372-4687-9035-CE464B3A7ABA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ight Brace 9"/>
          <p:cNvGrpSpPr/>
          <p:nvPr/>
        </p:nvGrpSpPr>
        <p:grpSpPr>
          <a:xfrm>
            <a:off x="7547040" y="1895400"/>
            <a:ext cx="622080" cy="3378240"/>
            <a:chOff x="7547040" y="1895400"/>
            <a:chExt cx="622080" cy="3378240"/>
          </a:xfrm>
        </p:grpSpPr>
        <p:pic>
          <p:nvPicPr>
            <p:cNvPr id="242" name="Right Brace 9" descr=""/>
            <p:cNvPicPr/>
            <p:nvPr/>
          </p:nvPicPr>
          <p:blipFill>
            <a:blip r:embed="rId3"/>
            <a:stretch/>
          </p:blipFill>
          <p:spPr>
            <a:xfrm>
              <a:off x="7547040" y="1895400"/>
              <a:ext cx="62208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620120" y="1992240"/>
              <a:ext cx="161640" cy="31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0"/>
          <p:cNvSpPr/>
          <p:nvPr/>
        </p:nvSpPr>
        <p:spPr>
          <a:xfrm>
            <a:off x="8077320" y="304812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PMingLiU"/>
              </a:rPr>
              <a:t>76% </a:t>
            </a:r>
            <a:r>
              <a:rPr b="0" lang="zh-TW" sz="1400" spc="-1" strike="noStrike">
                <a:solidFill>
                  <a:srgbClr val="ff0000"/>
                </a:solidFill>
                <a:latin typeface="Arial"/>
                <a:ea typeface="PMingLiU"/>
              </a:rPr>
              <a:t>提及起碼其中一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多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歲出現老花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九成半受訪者不介意被人發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57200" y="1752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0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幾歲就有老花，你介唔介意俾人知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7450560" y="648828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常見老花小動作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Content Placeholder 5" descr=""/>
          <p:cNvPicPr/>
          <p:nvPr/>
        </p:nvPicPr>
        <p:blipFill>
          <a:blip r:embed="rId1"/>
          <a:stretch/>
        </p:blipFill>
        <p:spPr>
          <a:xfrm>
            <a:off x="3240" y="2144880"/>
            <a:ext cx="8097840" cy="37987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80880" y="1371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要除眼鏡、用放大鏡或者擺遠ｄ先可以做到以下事情，你認為會唔會容易俾人發現有老花呢？（讀出答案，可選多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763164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5C4-8C60-4E91-811A-B3BB95179C43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585720" y="2462040"/>
            <a:ext cx="6357960" cy="10494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98D-E5D4-4A1C-8DFA-054B816FC6ED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22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不知如何處理老花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7" name="Content Placeholder 5" descr=""/>
          <p:cNvPicPr/>
          <p:nvPr/>
        </p:nvPicPr>
        <p:blipFill>
          <a:blip r:embed="rId1"/>
          <a:stretch/>
        </p:blipFill>
        <p:spPr>
          <a:xfrm>
            <a:off x="81000" y="1420920"/>
            <a:ext cx="8982000" cy="47768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457200" y="11430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知唔知道有乜野方法可以處理老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不讀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7450560" y="609588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41F7-CDA7-467B-88D4-5B8C6406F859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638680" y="518148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處理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輕微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花辦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63" name="Content Placeholder 5"/>
          <p:cNvGraphicFramePr/>
          <p:nvPr/>
        </p:nvGraphicFramePr>
        <p:xfrm>
          <a:off x="609480" y="2057400"/>
          <a:ext cx="7772400" cy="38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7724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發現自己有老花而度數唔太深，你會點做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763164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265-DC82-4F42-87CE-0F566270ADC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Right Brace 6"/>
          <p:cNvGrpSpPr/>
          <p:nvPr/>
        </p:nvGrpSpPr>
        <p:grpSpPr>
          <a:xfrm>
            <a:off x="5175360" y="2955960"/>
            <a:ext cx="792000" cy="1854000"/>
            <a:chOff x="5175360" y="2955960"/>
            <a:chExt cx="792000" cy="1854000"/>
          </a:xfrm>
        </p:grpSpPr>
        <p:pic>
          <p:nvPicPr>
            <p:cNvPr id="269" name="Right Brace 6" descr=""/>
            <p:cNvPicPr/>
            <p:nvPr/>
          </p:nvPicPr>
          <p:blipFill>
            <a:blip r:embed="rId3"/>
            <a:stretch/>
          </p:blipFill>
          <p:spPr>
            <a:xfrm>
              <a:off x="5175360" y="2955960"/>
              <a:ext cx="79200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938400">
              <a:off x="5486040" y="3041640"/>
              <a:ext cx="12384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7"/>
          <p:cNvSpPr/>
          <p:nvPr/>
        </p:nvSpPr>
        <p:spPr>
          <a:xfrm>
            <a:off x="5867280" y="3809880"/>
            <a:ext cx="1524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Arial"/>
                <a:ea typeface="PMingLiU"/>
              </a:rPr>
              <a:t>68%</a:t>
            </a:r>
            <a:r>
              <a:rPr b="1" lang="en-US" sz="2000" spc="-1" strike="noStrike">
                <a:solidFill>
                  <a:srgbClr val="376092"/>
                </a:solidFill>
                <a:latin typeface="Arial"/>
                <a:ea typeface="PMingLiU"/>
              </a:rPr>
              <a:t>提及起碼其中一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oup 169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156520" cy="5340240"/>
          </a:xfrm>
          <a:prstGeom prst="rect">
            <a:avLst/>
          </a:prstGeom>
          <a:ln w="0">
            <a:noFill/>
          </a:ln>
        </p:spPr>
      </p:pic>
      <p:sp>
        <p:nvSpPr>
          <p:cNvPr id="187" name="標題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調查概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C23A-C766-4E8F-A441-8E217394E36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</a:t>
            </a:r>
            <a:r>
              <a:rPr b="1" lang="zh-CN" sz="3600" spc="-1" strike="noStrike">
                <a:solidFill>
                  <a:srgbClr val="000000"/>
                </a:solidFill>
                <a:latin typeface="SimSun"/>
                <a:ea typeface="SimSun"/>
              </a:rPr>
              <a:t>處理</a:t>
            </a:r>
            <a:r>
              <a:rPr b="1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嚴重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花辦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73" name="Content Placeholder 5"/>
          <p:cNvGraphicFramePr/>
          <p:nvPr/>
        </p:nvGraphicFramePr>
        <p:xfrm>
          <a:off x="542880" y="2104920"/>
          <a:ext cx="772812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2104920"/>
                    <a:ext cx="7728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發現自己有老花而度數幾深，你會點做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7526880" y="6172200"/>
            <a:ext cx="13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2208-9E24-48B9-844F-93CEEE339257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Brace 6"/>
          <p:cNvGrpSpPr/>
          <p:nvPr/>
        </p:nvGrpSpPr>
        <p:grpSpPr>
          <a:xfrm>
            <a:off x="4486320" y="3035160"/>
            <a:ext cx="1023840" cy="1818000"/>
            <a:chOff x="4486320" y="3035160"/>
            <a:chExt cx="1023840" cy="1818000"/>
          </a:xfrm>
        </p:grpSpPr>
        <p:pic>
          <p:nvPicPr>
            <p:cNvPr id="279" name="Right Brace 6" descr=""/>
            <p:cNvPicPr/>
            <p:nvPr/>
          </p:nvPicPr>
          <p:blipFill>
            <a:blip r:embed="rId3"/>
            <a:stretch/>
          </p:blipFill>
          <p:spPr>
            <a:xfrm>
              <a:off x="4486320" y="3035160"/>
              <a:ext cx="1023840" cy="18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12204000">
              <a:off x="4909680" y="3088800"/>
              <a:ext cx="13356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7"/>
          <p:cNvSpPr/>
          <p:nvPr/>
        </p:nvSpPr>
        <p:spPr>
          <a:xfrm>
            <a:off x="5257800" y="396252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PMingLiU"/>
              </a:rPr>
              <a:t>46% </a:t>
            </a:r>
            <a:r>
              <a:rPr b="1" lang="en-US" sz="1800" spc="-1" strike="noStrike">
                <a:solidFill>
                  <a:srgbClr val="376092"/>
                </a:solidFill>
                <a:latin typeface="Arial"/>
                <a:ea typeface="PMingLiU"/>
              </a:rPr>
              <a:t>提及起碼其中一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出現輕微老花但沒有選擇戴老花鏡的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中，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7%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不戴老花鏡的原因是</a:t>
            </a:r>
            <a:r>
              <a:rPr b="1" lang="zh-TW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怕麻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3" name="Content Placeholder 5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8229600" cy="3741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457200" y="1600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你唔會戴老花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（讀出答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，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5181480" y="5934240"/>
            <a:ext cx="359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沒有選擇「去視光師或眼鏡舖驗佩老花鏡」或「自己買老花鏡」的受訪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B87-2078-47BF-95F1-2B8575195E89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32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覺得戴老花鏡會令樣貌變老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Content Placeholder 5" descr=""/>
          <p:cNvPicPr/>
          <p:nvPr/>
        </p:nvPicPr>
        <p:blipFill>
          <a:blip r:embed="rId1"/>
          <a:stretch/>
        </p:blipFill>
        <p:spPr>
          <a:xfrm>
            <a:off x="457200" y="203832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一般來講，你覺得戴左老花鏡會唔會睇上去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d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745056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BE9-24FF-4507-9155-085A0211C14D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認為戴老花鏡令樣貌變老的受訪者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平均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認為樣貌會變老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大約 </a:t>
            </a:r>
            <a:r>
              <a:rPr b="1" lang="en-US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5 </a:t>
            </a:r>
            <a:r>
              <a:rPr b="1" lang="zh-TW" sz="28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咁睇上去俾真實年齡會老幾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5975640" y="6095880"/>
            <a:ext cx="13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「認為戴老花鏡令樣貌變老」的受訪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684-1550-444E-8D4C-4997AB9B8AB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400800" y="3276720"/>
            <a:ext cx="1905120" cy="79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平均數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4.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標準誤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0.23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基數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軟正黑體"/>
              </a:rPr>
              <a:t>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841320" y="2322360"/>
            <a:ext cx="6632640" cy="157320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2EE1-99CF-4B79-B2F9-17E098E19F6E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55%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不知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道</a:t>
            </a: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市面上有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專為老花而設的漸進式隱形眼鏡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1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你知唔知市面上有專為老花而設的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D47-2917-406B-9A7C-7122D1FBC29A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80%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受訪者不考慮使用漸進式隱形眼鏡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Content Placeholder 5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1450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如果你有老花，你會唔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7555320" y="641196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考慮使用漸進式隱形眼鏡的受訪者中，</a:t>
            </a:r>
            <a:br>
              <a:rPr sz="2700"/>
            </a:br>
            <a:r>
              <a:rPr b="0" lang="en-US" sz="32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84%</a:t>
            </a:r>
            <a:r>
              <a:rPr b="0" lang="zh-TW" sz="3200" spc="-1" strike="noStrike">
                <a:solidFill>
                  <a:srgbClr val="ff0000"/>
                </a:solidFill>
                <a:latin typeface="Franklin Gothic Book"/>
                <a:ea typeface="微軟正黑體"/>
              </a:rPr>
              <a:t>覺得比較方便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0" name="Content Placeholder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3120" cy="40384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410080" y="6172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考慮使用漸進式隱形眼鏡的受訪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83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4AB0-9ADF-4FF7-862E-6130565A669B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考慮使用漸進式隱形眼鏡的受訪者中，</a:t>
            </a:r>
            <a:br>
              <a:rPr sz="2700"/>
            </a:br>
            <a:r>
              <a:rPr b="0" lang="en-US" sz="28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54%</a:t>
            </a:r>
            <a:r>
              <a:rPr b="0" lang="zh-CN" sz="2800" spc="-1" strike="noStrike">
                <a:solidFill>
                  <a:srgbClr val="ff0000"/>
                </a:solidFill>
                <a:latin typeface="Franklin Gothic Book"/>
                <a:ea typeface="PMingLiU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PMingLiU"/>
              </a:rPr>
              <a:t>不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會考慮使用漸進式隱形眼鏡是因為不習慣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不適合戴隱形眼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5" name="Content Placeholder 5" descr=""/>
          <p:cNvPicPr/>
          <p:nvPr/>
        </p:nvPicPr>
        <p:blipFill>
          <a:blip r:embed="rId1"/>
          <a:stretch/>
        </p:blipFill>
        <p:spPr>
          <a:xfrm>
            <a:off x="0" y="1905120"/>
            <a:ext cx="8915400" cy="4038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"/>
          <p:cNvSpPr/>
          <p:nvPr/>
        </p:nvSpPr>
        <p:spPr>
          <a:xfrm>
            <a:off x="457200" y="1523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點解唔會考慮使用漸進式隱形眼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410080" y="6172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不考慮使用漸進式隱形眼鏡的受訪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10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36F-3F1B-45A3-ACA5-E3BBFBEC97EA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858960" y="2139840"/>
            <a:ext cx="5322600" cy="1030320"/>
          </a:xfrm>
          <a:prstGeom prst="rect">
            <a:avLst/>
          </a:prstGeom>
          <a:ln w="0">
            <a:noFill/>
          </a:ln>
        </p:spPr>
      </p:pic>
      <p:sp>
        <p:nvSpPr>
          <p:cNvPr id="32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77A-7355-4946-828A-D812EDD75236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性別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0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913040"/>
            <a:ext cx="7467480" cy="3898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7291440" y="61722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Hei"/>
                <a:ea typeface="SimHei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SimHei"/>
                <a:ea typeface="SimHei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EC5A-0795-4369-86BB-D4DF56BCAC2C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年齡分佈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4" name="內容版面配置區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172360" cy="4341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3"/>
          <p:cNvSpPr/>
          <p:nvPr/>
        </p:nvSpPr>
        <p:spPr>
          <a:xfrm>
            <a:off x="7298280" y="62024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78C8-EA82-4D86-9E21-2D8D5208F6B9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教育程度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8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913040"/>
            <a:ext cx="7467480" cy="3898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3"/>
          <p:cNvSpPr/>
          <p:nvPr/>
        </p:nvSpPr>
        <p:spPr>
          <a:xfrm>
            <a:off x="729828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9AD-65EF-4B68-B6AD-1CE4F8E4D58E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職業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2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620120" cy="428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7298280" y="61722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914-ABD3-4CAF-AB33-A7D17C31C380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每月收入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6" name="內容版面配置區 3" descr=""/>
          <p:cNvPicPr/>
          <p:nvPr/>
        </p:nvPicPr>
        <p:blipFill>
          <a:blip r:embed="rId1"/>
          <a:stretch/>
        </p:blipFill>
        <p:spPr>
          <a:xfrm>
            <a:off x="285840" y="1712880"/>
            <a:ext cx="8400960" cy="474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7333200" y="648828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10F-C1FF-4C92-86EC-2325B6E606BF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視力狀況</a:t>
            </a:r>
            <a:r>
              <a:rPr b="1" lang="zh-TW" sz="24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（不包括老花或視力退化徵狀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288480" y="59436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2 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可選多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66F-2C85-49D1-BBCD-795F75590911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內容版面配置區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受訪者配戴隱形眼鏡的習慣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7221960" y="594360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有效樣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5DF-C480-4BE7-B20A-AAC04AE7B5C0}" type="slidenum">
              <a:rPr b="0" lang="en-US" sz="1000" spc="-1" strike="noStrike">
                <a:solidFill>
                  <a:srgbClr val="14335a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內容版面配置區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4674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1:50:43Z</dcterms:created>
  <dc:creator>angus.mak</dc:creator>
  <dc:description/>
  <dc:language>en-US</dc:language>
  <cp:lastModifiedBy>joseph</cp:lastModifiedBy>
  <dcterms:modified xsi:type="dcterms:W3CDTF">2010-04-19T10:45:22Z</dcterms:modified>
  <cp:revision>253</cp:revision>
  <dc:subject/>
  <dc:title>港人老花情況調查</dc:title>
</cp:coreProperties>
</file>