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536b3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9723-8870-4AEC-B5DE-EB9CE22F361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FB75-0991-499C-A03C-40FB3A00DA81}" type="slidenum">
              <a:rPr b="0" lang="zh-TW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FF4F-41E3-4734-AEA7-93B705BCE1E3}" type="slidenum">
              <a:rPr b="0" lang="zh-TW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328-1F44-4E0B-8CCB-6BF31E55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41E3-1572-4FC4-B2FB-CF41DB53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0F3A-65F1-4065-BD28-DE89DE7B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B4EC-2627-4EE3-8405-6B781D72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CBFB-4E80-49A2-9B25-AEFD3582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693B-B17A-4ABE-9CFC-12B060B1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89A7-F9A3-41FB-8A11-521914C0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4E83-C733-4C72-88C2-13B3105B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7DC4-BC8F-4A0F-BF66-3E4F4477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6CB3-918D-4A84-B0BF-F9A84370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FA33-7772-44E2-A17F-878D366B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51EC-0A6E-495C-A427-B2286C8C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8C6D-3E52-4DF7-BC4A-6806EB57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9797-2844-4875-81C2-69D720FE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CE99-0D0F-4A39-B6FC-106CC15C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E0FB-772D-4929-89E4-37AC2A03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C616-45CA-4421-9932-04BA7354F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873977-2CF3-4F70-98FB-5CB4EB68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41BA20-FADD-4405-A881-CF613070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FAC90-37B9-4DC8-A0C1-80CEE14E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49F594-FC0A-41AD-899A-96C8B9C4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20373C-C779-4BDD-A620-3EAEA8BC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90E6-B176-477F-B1AC-7185A60C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88ED2-AE8E-4287-B5B4-4D91E8ED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837383-5A40-462B-BE5F-6A3067B2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DB8EEB-BCBE-4761-AA93-E69F42E6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56DE63-0210-4B98-A755-F6E4D166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8DE7D7-3ECC-4F07-AF9F-533C2A05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C25218-7F58-4426-91FE-A8F9248F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E6351C-067A-4C69-84EF-AD25510D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D0A0C-3F48-43CC-A348-EB1E7B11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58857-C233-4050-88A6-FA8DFE70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F68FB-EA8E-48B1-B5C9-7061817F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81F6-50D2-4C06-9893-8BCCD49C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01118-7E15-4671-85E1-5DD3F5E0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AB6E9-5D10-4E35-800A-A56298ED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E7607-A97E-463C-9B1D-CBBB96DA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FCB4D-D916-4664-9461-68F52D31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EB208-8738-4927-A33D-A09ADB5A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80D03-092A-437B-81DD-DCDB342F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D60B2-81FC-486A-AFE9-2A1DBC21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FC04C-00DE-457D-9C52-3D01949A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55197-2D75-4216-9AD8-B67AE393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4933-9512-47B3-8880-BF8FF5E4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2C5-69FF-4FE6-93CE-719E2E85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4E82-5E2E-4660-976D-7BED8731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B17D-C290-456E-8B3F-2FADE496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2CF4-B0EA-4CBC-B8CE-0A3F2402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c4ff"/>
            </a:gs>
            <a:gs pos="100000">
              <a:srgbClr val="de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cb7f8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7cb7f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f9ee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3f9ee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368bc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fcce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d7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7cb7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9583-5A50-49BF-A339-1BB5F0F9FC58}" type="datetime">
              <a:rPr b="0" lang="zh-TW" sz="1200" spc="-1" strike="noStrike">
                <a:solidFill>
                  <a:srgbClr val="7cb7f8"/>
                </a:solidFill>
                <a:latin typeface="Times New Roman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2E70-C626-49B6-AD21-1165D2755741}" type="slidenum">
              <a:rPr b="1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c4ff"/>
            </a:gs>
            <a:gs pos="100000">
              <a:srgbClr val="de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線接點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fcce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直線接點 7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fcc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直線接點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f9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fcce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直線接點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f9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橢圓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f9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fcce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矩形 13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ff5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矩形 14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ff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矩形 15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0fa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直線接點 16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fcce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直線接點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0fa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直線接點 18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fcc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直線接點 19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fcce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直線接點 20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fcc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直線接點 22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fcc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矩形 23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fcce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橢圓 24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f9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橢圓 25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f9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橢圓 26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f9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橢圓 27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f9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橢圓 28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f9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536b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f9ee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3f9ee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368bc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fcce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d7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536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DD55-3FA9-474A-98F0-21B8AC0BBAB2}" type="datetime">
              <a:rPr b="0" lang="zh-TW" sz="1200" spc="-1" strike="noStrike">
                <a:solidFill>
                  <a:srgbClr val="0536b3"/>
                </a:solidFill>
                <a:latin typeface="Times New Roman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1AC1-05F4-4F14-B16D-4C02160D26E6}" type="slidenum">
              <a:rPr b="1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c4ff"/>
            </a:gs>
            <a:gs pos="100000">
              <a:srgbClr val="de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直線接點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fcce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直線接點 7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fcc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直線接點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f9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fcce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直線接點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f9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橢圓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f9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536b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f9ee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3f9ee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368bc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fcce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d7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536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0A36-7753-4AF9-BEAC-106C1E7C09D6}" type="datetime">
              <a:rPr b="0" lang="zh-TW" sz="1200" spc="-1" strike="noStrike">
                <a:solidFill>
                  <a:srgbClr val="0536b3"/>
                </a:solidFill>
                <a:latin typeface="Times New Roman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D805-7F30-4643-BDB4-D02699A88CBE}" type="slidenum">
              <a:rPr b="1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c4ff"/>
            </a:gs>
            <a:gs pos="100000">
              <a:srgbClr val="de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直線接點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fcce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直線接點 7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fcc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直線接點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f9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fcce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直線接點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f9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橢圓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f9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矩形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fcce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矩形 13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ff5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矩形 14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ff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矩形 15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0fa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直線接點 16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fcce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直線接點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0fa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直線接點 18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fcc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直線接點 19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fcce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直線接點 20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fcc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矩形 22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fcce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橢圓 23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f9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橢圓 24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f9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橢圓 25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f9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橢圓 26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f9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橢圓 27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f9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直線接點 28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fcc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cb7f8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7cb7f8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f9ee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3f9ee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368bc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fcce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d7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7cb7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5078-CD74-450B-A646-D3BE2E828A53}" type="datetime">
              <a:rPr b="0" lang="zh-TW" sz="1200" spc="-1" strike="noStrike">
                <a:solidFill>
                  <a:srgbClr val="7cb7f8"/>
                </a:solidFill>
                <a:latin typeface="Times New Roman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5B30-DE45-401C-8E83-E2A22CEEBF50}" type="slidenum">
              <a:rPr b="1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3360" y="1991880"/>
            <a:ext cx="66294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500" spc="-1" strike="noStrike">
                <a:solidFill>
                  <a:srgbClr val="0536b3"/>
                </a:solidFill>
                <a:latin typeface="Times New Roman"/>
                <a:ea typeface="標楷體"/>
              </a:rPr>
              <a:t>市民對環境保護意見調查</a:t>
            </a:r>
            <a:endParaRPr b="0" lang="en-US" sz="45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2410920" y="465300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536b3"/>
                </a:solidFill>
                <a:latin typeface="Times New Roman"/>
                <a:ea typeface="標楷體"/>
              </a:rPr>
              <a:t>彭嘉麗小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536b3"/>
                </a:solidFill>
                <a:latin typeface="Times New Roman"/>
                <a:ea typeface="標楷體"/>
              </a:rPr>
              <a:t>香港大學民意研究計劃助理總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36b3"/>
                </a:solidFill>
                <a:latin typeface="Times New Roman"/>
                <a:ea typeface="標楷體"/>
              </a:rPr>
              <a:t>2010</a:t>
            </a:r>
            <a:r>
              <a:rPr b="1" lang="zh-TW" sz="2400" spc="-1" strike="noStrike">
                <a:solidFill>
                  <a:srgbClr val="0536b3"/>
                </a:solidFill>
                <a:latin typeface="Times New Roman"/>
                <a:ea typeface="標楷體"/>
              </a:rPr>
              <a:t>年</a:t>
            </a:r>
            <a:r>
              <a:rPr b="1" lang="en-US" sz="2400" spc="-1" strike="noStrike">
                <a:solidFill>
                  <a:srgbClr val="0536b3"/>
                </a:solidFill>
                <a:latin typeface="Times New Roman"/>
                <a:ea typeface="標楷體"/>
              </a:rPr>
              <a:t>7</a:t>
            </a:r>
            <a:r>
              <a:rPr b="1" lang="zh-TW" sz="2400" spc="-1" strike="noStrike">
                <a:solidFill>
                  <a:srgbClr val="0536b3"/>
                </a:solidFill>
                <a:latin typeface="Times New Roman"/>
                <a:ea typeface="標楷體"/>
              </a:rPr>
              <a:t>月</a:t>
            </a:r>
            <a:r>
              <a:rPr b="1" lang="en-US" sz="2400" spc="-1" strike="noStrike">
                <a:solidFill>
                  <a:srgbClr val="0536b3"/>
                </a:solidFill>
                <a:latin typeface="Times New Roman"/>
                <a:ea typeface="標楷體"/>
              </a:rPr>
              <a:t>8</a:t>
            </a:r>
            <a:r>
              <a:rPr b="1" lang="zh-TW" sz="2400" spc="-1" strike="noStrike">
                <a:solidFill>
                  <a:srgbClr val="0536b3"/>
                </a:solidFill>
                <a:latin typeface="Times New Roman"/>
                <a:ea typeface="標楷體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投影片編號版面配置區 7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0078-9BE7-4EB4-A258-7CA27DDA3C15}" type="slidenum">
              <a:rPr b="1" lang="zh-TW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" name="Object 2053"/>
          <p:cNvGraphicFramePr/>
          <p:nvPr/>
        </p:nvGraphicFramePr>
        <p:xfrm>
          <a:off x="1219320" y="685800"/>
          <a:ext cx="95400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0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85800"/>
                    <a:ext cx="95400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2052"/>
          <p:cNvSpPr/>
          <p:nvPr/>
        </p:nvSpPr>
        <p:spPr>
          <a:xfrm>
            <a:off x="2133720" y="70164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Century Schoolbook"/>
                <a:ea typeface="標楷體"/>
              </a:rPr>
              <a:t>香港大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Century Schoolbook"/>
                <a:ea typeface="標楷體"/>
              </a:rPr>
              <a:t>民意研究計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1" descr="H:\CLIENTS\Current - Healthcare\Coca-Cola\Bonaqua\Bonaqua Light Weight Bottle\Logo\bon leaf logo.jpg"/>
          <p:cNvPicPr/>
          <p:nvPr/>
        </p:nvPicPr>
        <p:blipFill>
          <a:blip r:embed="rId3"/>
          <a:srcRect l="0" t="73690" r="0" b="0"/>
          <a:stretch/>
        </p:blipFill>
        <p:spPr>
          <a:xfrm>
            <a:off x="6072120" y="642960"/>
            <a:ext cx="213192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10920" y="1052640"/>
            <a:ext cx="5830920" cy="20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33cc"/>
                </a:solidFill>
                <a:latin typeface="Times New Roman"/>
                <a:ea typeface="標楷體"/>
              </a:rPr>
              <a:t>市民對碳足跡的認知</a:t>
            </a:r>
            <a:endParaRPr b="0" lang="en-US" sz="4400" spc="-1" strike="noStrike">
              <a:solidFill>
                <a:srgbClr val="7cb7f8"/>
              </a:solidFill>
              <a:latin typeface="Arial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13399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A187-9DE4-40B2-8FB1-5119BE6B53AA}" type="slidenum">
              <a:rPr b="1" lang="zh-TW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內容版面配置區 4" descr=""/>
          <p:cNvPicPr/>
          <p:nvPr/>
        </p:nvPicPr>
        <p:blipFill>
          <a:blip r:embed="rId1"/>
          <a:stretch/>
        </p:blipFill>
        <p:spPr>
          <a:xfrm>
            <a:off x="606600" y="1984320"/>
            <a:ext cx="7642080" cy="3679920"/>
          </a:xfrm>
          <a:prstGeom prst="rect">
            <a:avLst/>
          </a:prstGeom>
          <a:ln w="0">
            <a:noFill/>
          </a:ln>
        </p:spPr>
      </p:pic>
      <p:sp>
        <p:nvSpPr>
          <p:cNvPr id="267" name="投影片編號版面配置區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9B2B-C24F-4490-AF34-BB6F7096385F}" type="slidenum">
              <a:rPr b="1" lang="zh-TW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標題 1"/>
          <p:cNvSpPr/>
          <p:nvPr/>
        </p:nvSpPr>
        <p:spPr>
          <a:xfrm>
            <a:off x="942840" y="333360"/>
            <a:ext cx="7129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536b3"/>
                </a:solidFill>
                <a:latin typeface="Times New Roman"/>
                <a:ea typeface="標楷體"/>
              </a:rPr>
              <a:t>少於三成人表示對碳足跡有認知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536b3"/>
                </a:solidFill>
                <a:latin typeface="Times New Roman"/>
                <a:ea typeface="標楷體"/>
              </a:rPr>
              <a:t>另有近半數不知道但有興趣認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直線接點 7"/>
          <p:cNvSpPr/>
          <p:nvPr/>
        </p:nvSpPr>
        <p:spPr>
          <a:xfrm>
            <a:off x="826920" y="1339920"/>
            <a:ext cx="7129800" cy="0"/>
          </a:xfrm>
          <a:prstGeom prst="line">
            <a:avLst/>
          </a:prstGeom>
          <a:ln w="44280">
            <a:solidFill>
              <a:srgbClr val="118c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矩形 9"/>
          <p:cNvSpPr/>
          <p:nvPr/>
        </p:nvSpPr>
        <p:spPr>
          <a:xfrm>
            <a:off x="324000" y="6021360"/>
            <a:ext cx="784836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8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Q8 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你知唔知道乜嘢係 “碳足跡”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(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即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Carbon Footprint)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？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【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如果被訪者答 “唔知”，訪問員請再追問：咁你有冇興趣了解多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D “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碳足跡”？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】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內容版面配置區 4" descr=""/>
          <p:cNvPicPr/>
          <p:nvPr/>
        </p:nvPicPr>
        <p:blipFill>
          <a:blip r:embed="rId1"/>
          <a:stretch/>
        </p:blipFill>
        <p:spPr>
          <a:xfrm>
            <a:off x="660240" y="1839960"/>
            <a:ext cx="7228080" cy="3595680"/>
          </a:xfrm>
          <a:prstGeom prst="rect">
            <a:avLst/>
          </a:prstGeom>
          <a:ln w="0">
            <a:noFill/>
          </a:ln>
        </p:spPr>
      </p:pic>
      <p:sp>
        <p:nvSpPr>
          <p:cNvPr id="272" name="投影片編號版面配置區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4F29-A151-4EC6-99BE-6D1612562768}" type="slidenum">
              <a:rPr b="1" lang="zh-TW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矩形 6"/>
          <p:cNvSpPr/>
          <p:nvPr/>
        </p:nvSpPr>
        <p:spPr>
          <a:xfrm>
            <a:off x="108000" y="5873760"/>
            <a:ext cx="8856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【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不論被訪者有沒有興趣，訪問員請讀出：“碳足跡”其實係一個用黎量度我地日常生活中直接或間接排放嘅溫室氣體，例如二氧化碳及碳排放，對全球暖化嘅影響嘅量度方法。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】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Q9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你覺得喺香港容唔容易買到一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D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比較環保，亦即係產生碳足跡少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D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嘅日常生活產品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標題 1"/>
          <p:cNvSpPr/>
          <p:nvPr/>
        </p:nvSpPr>
        <p:spPr>
          <a:xfrm>
            <a:off x="250920" y="33336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536b3"/>
                </a:solidFill>
                <a:latin typeface="Times New Roman"/>
                <a:ea typeface="標楷體"/>
              </a:rPr>
              <a:t> </a:t>
            </a:r>
            <a:r>
              <a:rPr b="0" lang="zh-TW" sz="3200" spc="-1" strike="noStrike">
                <a:solidFill>
                  <a:srgbClr val="0536b3"/>
                </a:solidFill>
                <a:latin typeface="Times New Roman"/>
                <a:ea typeface="標楷體"/>
              </a:rPr>
              <a:t>逾六成人認為在香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536b3"/>
                </a:solidFill>
                <a:latin typeface="Times New Roman"/>
                <a:ea typeface="標楷體"/>
              </a:rPr>
              <a:t>不容易買到低碳足跡的日常用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直線接點 9"/>
          <p:cNvSpPr/>
          <p:nvPr/>
        </p:nvSpPr>
        <p:spPr>
          <a:xfrm>
            <a:off x="826920" y="1339920"/>
            <a:ext cx="7129800" cy="0"/>
          </a:xfrm>
          <a:prstGeom prst="line">
            <a:avLst/>
          </a:prstGeom>
          <a:ln w="44280">
            <a:solidFill>
              <a:srgbClr val="118c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10920" y="1221840"/>
            <a:ext cx="5830920" cy="205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33cc"/>
                </a:solidFill>
                <a:latin typeface="Times New Roman"/>
                <a:ea typeface="標楷體"/>
              </a:rPr>
              <a:t>市民飲用樽裝水及處理水樽的習慣</a:t>
            </a:r>
            <a:endParaRPr b="0" lang="en-US" sz="4400" spc="-1" strike="noStrike">
              <a:solidFill>
                <a:srgbClr val="7cb7f8"/>
              </a:solidFill>
              <a:latin typeface="Arial"/>
            </a:endParaRPr>
          </a:p>
        </p:txBody>
      </p:sp>
      <p:sp>
        <p:nvSpPr>
          <p:cNvPr id="277" name="投影片編號版面配置區 3"/>
          <p:cNvSpPr/>
          <p:nvPr/>
        </p:nvSpPr>
        <p:spPr>
          <a:xfrm>
            <a:off x="13399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4B70-E250-44FA-92E3-1C491A8E43D6}" type="slidenum">
              <a:rPr b="1" lang="zh-TW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內容版面配置區 4" descr=""/>
          <p:cNvPicPr/>
          <p:nvPr/>
        </p:nvPicPr>
        <p:blipFill>
          <a:blip r:embed="rId1"/>
          <a:stretch/>
        </p:blipFill>
        <p:spPr>
          <a:xfrm>
            <a:off x="438120" y="1652760"/>
            <a:ext cx="8136000" cy="3922560"/>
          </a:xfrm>
          <a:prstGeom prst="rect">
            <a:avLst/>
          </a:prstGeom>
          <a:ln w="0">
            <a:noFill/>
          </a:ln>
        </p:spPr>
      </p:pic>
      <p:sp>
        <p:nvSpPr>
          <p:cNvPr id="279" name="投影片編號版面配置區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9042-5FF6-4050-BD31-90E44FE0EBCD}" type="slidenum">
              <a:rPr b="1" lang="zh-TW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矩形 5"/>
          <p:cNvSpPr/>
          <p:nvPr/>
        </p:nvSpPr>
        <p:spPr>
          <a:xfrm>
            <a:off x="179280" y="5979960"/>
            <a:ext cx="871380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8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Q10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請問你有幾經常飲用樽裝水？只包括新買嘅樽裝水，循環再用水樽不計算在內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〔註：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每日飲用一樽或以上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= 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每日飲用者； 每星期飲用一至六樽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= 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每週飲用者；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每個月飲用兩至三樽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= 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每半月飲用者；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每個月飲用一樽左右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= 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每月飲用者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；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一個月飲用少於一樽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= 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不常飲用者；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從未飲用過樽裝水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= 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非飲用者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標題 1"/>
          <p:cNvSpPr/>
          <p:nvPr/>
        </p:nvSpPr>
        <p:spPr>
          <a:xfrm>
            <a:off x="395280" y="333360"/>
            <a:ext cx="784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536b3"/>
                </a:solidFill>
                <a:latin typeface="Times New Roman"/>
                <a:ea typeface="標楷體"/>
              </a:rPr>
              <a:t>逾九成市民會飲用樽裝水，逾四成最少每兩星期飲用一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直線接點 8"/>
          <p:cNvSpPr/>
          <p:nvPr/>
        </p:nvSpPr>
        <p:spPr>
          <a:xfrm>
            <a:off x="826920" y="1339920"/>
            <a:ext cx="7129800" cy="0"/>
          </a:xfrm>
          <a:prstGeom prst="line">
            <a:avLst/>
          </a:prstGeom>
          <a:ln w="44280">
            <a:solidFill>
              <a:srgbClr val="118c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內容版面配置區 4" descr=""/>
          <p:cNvPicPr/>
          <p:nvPr/>
        </p:nvPicPr>
        <p:blipFill>
          <a:blip r:embed="rId1"/>
          <a:stretch/>
        </p:blipFill>
        <p:spPr>
          <a:xfrm>
            <a:off x="679320" y="1692360"/>
            <a:ext cx="7475760" cy="3971880"/>
          </a:xfrm>
          <a:prstGeom prst="rect">
            <a:avLst/>
          </a:prstGeom>
          <a:ln w="0">
            <a:noFill/>
          </a:ln>
        </p:spPr>
      </p:pic>
      <p:sp>
        <p:nvSpPr>
          <p:cNvPr id="284" name="投影片編號版面配置區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B526-09B8-48A2-94F4-7000F4517F77}" type="slidenum">
              <a:rPr b="1" lang="zh-TW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矩形 5"/>
          <p:cNvSpPr/>
          <p:nvPr/>
        </p:nvSpPr>
        <p:spPr>
          <a:xfrm>
            <a:off x="324000" y="6165720"/>
            <a:ext cx="784836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=465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可選多項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Q11 (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只問樽裝水飲用者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)  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點解你會選擇喺街買樽裝水飲呢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標題 1"/>
          <p:cNvSpPr/>
          <p:nvPr/>
        </p:nvSpPr>
        <p:spPr>
          <a:xfrm>
            <a:off x="611280" y="115920"/>
            <a:ext cx="7848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536b3"/>
                </a:solidFill>
                <a:latin typeface="Times New Roman"/>
                <a:ea typeface="標楷體"/>
              </a:rPr>
              <a:t>半數飲用者表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536b3"/>
                </a:solidFill>
                <a:latin typeface="Times New Roman"/>
                <a:ea typeface="標楷體"/>
              </a:rPr>
              <a:t>因為需要即時解渴而選擇買樽裝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直線接點 8"/>
          <p:cNvSpPr/>
          <p:nvPr/>
        </p:nvSpPr>
        <p:spPr>
          <a:xfrm>
            <a:off x="826920" y="1339920"/>
            <a:ext cx="7129800" cy="0"/>
          </a:xfrm>
          <a:prstGeom prst="line">
            <a:avLst/>
          </a:prstGeom>
          <a:ln w="44280">
            <a:solidFill>
              <a:srgbClr val="118c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內容版面配置區 4" descr=""/>
          <p:cNvPicPr/>
          <p:nvPr/>
        </p:nvPicPr>
        <p:blipFill>
          <a:blip r:embed="rId1"/>
          <a:stretch/>
        </p:blipFill>
        <p:spPr>
          <a:xfrm>
            <a:off x="479520" y="1836720"/>
            <a:ext cx="3608280" cy="3747960"/>
          </a:xfrm>
          <a:prstGeom prst="rect">
            <a:avLst/>
          </a:prstGeom>
          <a:ln w="0">
            <a:noFill/>
          </a:ln>
        </p:spPr>
      </p:pic>
      <p:sp>
        <p:nvSpPr>
          <p:cNvPr id="289" name="投影片編號版面配置區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2AF8-6CE0-428F-B835-93EA2FEE2E87}" type="slidenum">
              <a:rPr b="1" lang="zh-TW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矩形 5"/>
          <p:cNvSpPr/>
          <p:nvPr/>
        </p:nvSpPr>
        <p:spPr>
          <a:xfrm>
            <a:off x="324000" y="6165720"/>
            <a:ext cx="56880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=464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Q12 (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只問樽裝水飲用者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) 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如果你喺街上要掉左飲完嘅水樽，你會掉去邊度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圖表 6" descr=""/>
          <p:cNvPicPr/>
          <p:nvPr/>
        </p:nvPicPr>
        <p:blipFill>
          <a:blip r:embed="rId2"/>
          <a:stretch/>
        </p:blipFill>
        <p:spPr>
          <a:xfrm>
            <a:off x="3836880" y="1265400"/>
            <a:ext cx="5307120" cy="3913200"/>
          </a:xfrm>
          <a:prstGeom prst="rect">
            <a:avLst/>
          </a:prstGeom>
          <a:ln w="0">
            <a:noFill/>
          </a:ln>
        </p:spPr>
      </p:pic>
      <p:sp>
        <p:nvSpPr>
          <p:cNvPr id="292" name="向右箭號 7"/>
          <p:cNvSpPr/>
          <p:nvPr/>
        </p:nvSpPr>
        <p:spPr>
          <a:xfrm rot="20917800">
            <a:off x="3893760" y="3060360"/>
            <a:ext cx="662040" cy="441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66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矩形 8"/>
          <p:cNvSpPr/>
          <p:nvPr/>
        </p:nvSpPr>
        <p:spPr>
          <a:xfrm>
            <a:off x="4572000" y="5157720"/>
            <a:ext cx="43560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=156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可選多項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Q13 (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只問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Q12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答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“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垃圾桶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”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者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)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點解你會將佢掉落垃圾桶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標題 1"/>
          <p:cNvSpPr/>
          <p:nvPr/>
        </p:nvSpPr>
        <p:spPr>
          <a:xfrm>
            <a:off x="468360" y="360360"/>
            <a:ext cx="8136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536b3"/>
                </a:solidFill>
                <a:latin typeface="Times New Roman"/>
                <a:ea typeface="標楷體"/>
              </a:rPr>
              <a:t>近半數飲用者表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536b3"/>
                </a:solidFill>
                <a:latin typeface="Times New Roman"/>
                <a:ea typeface="標楷體"/>
              </a:rPr>
              <a:t>會將膠水樽掉進膠樽回收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直線接點 10"/>
          <p:cNvSpPr/>
          <p:nvPr/>
        </p:nvSpPr>
        <p:spPr>
          <a:xfrm>
            <a:off x="826920" y="1447920"/>
            <a:ext cx="7129800" cy="0"/>
          </a:xfrm>
          <a:prstGeom prst="line">
            <a:avLst/>
          </a:prstGeom>
          <a:ln w="44280">
            <a:solidFill>
              <a:srgbClr val="118c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54200" y="1557360"/>
            <a:ext cx="73468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3f9ee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逾九成半被訪者同意環保是每一個人的責任；然而，只有兩成多認為自己在環保方面做得足夠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投影片編號版面配置區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C6F3-F30E-476F-B201-7D9C3BA9E8CE}" type="slidenum">
              <a:rPr b="1" lang="zh-TW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標題 1"/>
          <p:cNvSpPr/>
          <p:nvPr/>
        </p:nvSpPr>
        <p:spPr>
          <a:xfrm>
            <a:off x="611280" y="333360"/>
            <a:ext cx="784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536b3"/>
                </a:solidFill>
                <a:latin typeface="Times New Roman"/>
                <a:ea typeface="標楷體"/>
              </a:rPr>
              <a:t>總結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直線接點 5"/>
          <p:cNvSpPr/>
          <p:nvPr/>
        </p:nvSpPr>
        <p:spPr>
          <a:xfrm>
            <a:off x="826920" y="1413000"/>
            <a:ext cx="7129800" cy="0"/>
          </a:xfrm>
          <a:prstGeom prst="line">
            <a:avLst/>
          </a:prstGeom>
          <a:ln w="44280">
            <a:solidFill>
              <a:srgbClr val="118c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文字方塊 6"/>
          <p:cNvSpPr/>
          <p:nvPr/>
        </p:nvSpPr>
        <p:spPr>
          <a:xfrm>
            <a:off x="755640" y="2332080"/>
            <a:ext cx="73454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3f9ee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  <a:ea typeface="標楷體"/>
              </a:rPr>
              <a:t>市民對環保有何觀念？近八成認為環保需要放棄一些生活享受；近七成則同意環保需要多方面配合，一已之力作用不大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矩形 7"/>
          <p:cNvSpPr/>
          <p:nvPr/>
        </p:nvSpPr>
        <p:spPr>
          <a:xfrm>
            <a:off x="714240" y="3409920"/>
            <a:ext cx="73868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3f9ee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  <a:ea typeface="標楷體"/>
              </a:rPr>
              <a:t>此外，逾六成人表示在香港難以購買較環保的日常生活產品；亦有六成多人認為環保商品一般較昂貴，會增加生活開支。近六成人更認為環保要改變生活習慣，會為生活帶來不便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矩形 8"/>
          <p:cNvSpPr/>
          <p:nvPr/>
        </p:nvSpPr>
        <p:spPr>
          <a:xfrm>
            <a:off x="714240" y="4861080"/>
            <a:ext cx="73868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3f9ee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  <a:ea typeface="標楷體"/>
              </a:rPr>
              <a:t>至於市民如何處置飲用完的膠水樽？近半數表示會掉進回收箱，另有三成多則會棄之於垃圾箱，主要是因為不知道回收箱位置或少見回收箱、習慣及飲用的水樽不便攜帶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900000" y="1599840"/>
            <a:ext cx="72532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749"/>
              </a:spcAft>
              <a:buClr>
                <a:srgbClr val="3f9ee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調查目的：瞭解市民對環境保護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的關注和態度，以及飲用樽裝水和處理方法的意見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749"/>
              </a:spcAft>
              <a:buClr>
                <a:srgbClr val="3f9ee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調查問卷由港大民研計劃諮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Bonaqua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後獨立設計，所有操作、數據收集及分析由民研計劃獨立進行，結果亦由</a:t>
            </a:r>
            <a:r>
              <a:rPr b="1" lang="zh-TW" sz="2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民研計劃全面負責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749"/>
              </a:spcAft>
              <a:buClr>
                <a:srgbClr val="3f9ee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調查方法和結果</a:t>
            </a:r>
            <a:r>
              <a:rPr b="1" lang="zh-TW" sz="2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全面公開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投影片編號版面配置區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6C09-D2D9-4801-8728-0C15A668AF1B}" type="slidenum">
              <a:rPr b="1" lang="zh-TW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標題 1"/>
          <p:cNvSpPr/>
          <p:nvPr/>
        </p:nvSpPr>
        <p:spPr>
          <a:xfrm>
            <a:off x="826920" y="189000"/>
            <a:ext cx="74678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536b3"/>
                </a:solidFill>
                <a:latin typeface="Times New Roman"/>
                <a:ea typeface="標楷體"/>
              </a:rPr>
              <a:t>研究背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直線接點 5"/>
          <p:cNvSpPr/>
          <p:nvPr/>
        </p:nvSpPr>
        <p:spPr>
          <a:xfrm>
            <a:off x="900000" y="1125360"/>
            <a:ext cx="7056720" cy="0"/>
          </a:xfrm>
          <a:prstGeom prst="line">
            <a:avLst/>
          </a:prstGeom>
          <a:ln w="44280">
            <a:solidFill>
              <a:srgbClr val="118c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4678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536b3"/>
                </a:solidFill>
                <a:latin typeface="Times New Roman"/>
                <a:ea typeface="標楷體"/>
              </a:rPr>
              <a:t>樣本資料</a:t>
            </a:r>
            <a:endParaRPr b="0" lang="en-US" sz="4000" spc="-1" strike="noStrike">
              <a:solidFill>
                <a:srgbClr val="0536b3"/>
              </a:solidFill>
              <a:latin typeface="Arial"/>
            </a:endParaRPr>
          </a:p>
        </p:txBody>
      </p:sp>
      <p:sp>
        <p:nvSpPr>
          <p:cNvPr id="233" name="投影片編號版面配置區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56C9-024D-4892-BCE1-AE8F6E6F8900}" type="slidenum">
              <a:rPr b="1" lang="zh-TW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直線接點 6"/>
          <p:cNvSpPr/>
          <p:nvPr/>
        </p:nvSpPr>
        <p:spPr>
          <a:xfrm>
            <a:off x="900000" y="1125360"/>
            <a:ext cx="7056720" cy="0"/>
          </a:xfrm>
          <a:prstGeom prst="line">
            <a:avLst/>
          </a:prstGeom>
          <a:ln w="44280">
            <a:solidFill>
              <a:srgbClr val="118c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826920" y="1413000"/>
          <a:ext cx="7490160" cy="4035240"/>
        </p:xfrm>
        <a:graphic>
          <a:graphicData uri="http://schemas.openxmlformats.org/drawingml/2006/table">
            <a:tbl>
              <a:tblPr/>
              <a:tblGrid>
                <a:gridCol w="2076480"/>
                <a:gridCol w="54136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調查日期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2010</a:t>
                      </a:r>
                      <a:r>
                        <a:rPr b="0" lang="zh-TW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年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6</a:t>
                      </a:r>
                      <a:r>
                        <a:rPr b="0" lang="zh-TW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月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9</a:t>
                      </a:r>
                      <a:r>
                        <a:rPr b="0" lang="zh-TW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日至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14</a:t>
                      </a:r>
                      <a:r>
                        <a:rPr b="0" lang="zh-TW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日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調查方法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由訪問員直接進行電話訪問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調查對象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年齡介乎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15</a:t>
                      </a:r>
                      <a:r>
                        <a:rPr b="0" lang="zh-TW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至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49</a:t>
                      </a:r>
                      <a:r>
                        <a:rPr b="0" lang="zh-TW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歲並操粵語的香港居民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調查機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香港大學民意研究計劃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成功訪問人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508</a:t>
                      </a:r>
                      <a:r>
                        <a:rPr b="0" lang="zh-TW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有效回應比率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71.5% (</a:t>
                      </a:r>
                      <a:r>
                        <a:rPr b="0" lang="zh-TW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以符合資格的目標對象計算</a:t>
                      </a:r>
                      <a:r>
                        <a:rPr b="0" lang="zh-TW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)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抽樣誤差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少於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2.2%</a:t>
                      </a:r>
                      <a:r>
                        <a:rPr b="0" lang="zh-TW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，亦即在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95%</a:t>
                      </a:r>
                      <a:r>
                        <a:rPr b="0" lang="zh-TW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置信水平下，各個百分比的抽樣誤差為少於正負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4.4</a:t>
                      </a:r>
                      <a:r>
                        <a:rPr b="0" lang="zh-TW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個百分比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410920" y="1052640"/>
            <a:ext cx="5830920" cy="20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33cc"/>
                </a:solidFill>
                <a:latin typeface="Times New Roman"/>
                <a:ea typeface="標楷體"/>
              </a:rPr>
              <a:t>調查結果</a:t>
            </a:r>
            <a:endParaRPr b="0" lang="en-US" sz="4400" spc="-1" strike="noStrike">
              <a:solidFill>
                <a:srgbClr val="7cb7f8"/>
              </a:solidFill>
              <a:latin typeface="Arial"/>
            </a:endParaRPr>
          </a:p>
        </p:txBody>
      </p:sp>
      <p:sp>
        <p:nvSpPr>
          <p:cNvPr id="237" name="投影片編號版面配置區 3"/>
          <p:cNvSpPr/>
          <p:nvPr/>
        </p:nvSpPr>
        <p:spPr>
          <a:xfrm>
            <a:off x="13399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5ACB-5770-4832-8027-796AD145B192}" type="slidenum">
              <a:rPr b="1" lang="zh-TW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10920" y="1676520"/>
            <a:ext cx="5830920" cy="20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33cc"/>
                </a:solidFill>
                <a:latin typeface="Times New Roman"/>
                <a:ea typeface="標楷體"/>
              </a:rPr>
              <a:t>市民對環境保護的</a:t>
            </a:r>
            <a:br>
              <a:rPr sz="4400"/>
            </a:br>
            <a:r>
              <a:rPr b="1" lang="zh-TW" sz="4400" spc="-1" strike="noStrike">
                <a:solidFill>
                  <a:srgbClr val="0033cc"/>
                </a:solidFill>
                <a:latin typeface="Times New Roman"/>
                <a:ea typeface="標楷體"/>
              </a:rPr>
              <a:t>關注及態度</a:t>
            </a:r>
            <a:endParaRPr b="0" lang="en-US" sz="4400" spc="-1" strike="noStrike">
              <a:solidFill>
                <a:srgbClr val="7cb7f8"/>
              </a:solidFill>
              <a:latin typeface="Arial"/>
            </a:endParaRPr>
          </a:p>
        </p:txBody>
      </p:sp>
      <p:sp>
        <p:nvSpPr>
          <p:cNvPr id="239" name="投影片編號版面配置區 3"/>
          <p:cNvSpPr/>
          <p:nvPr/>
        </p:nvSpPr>
        <p:spPr>
          <a:xfrm>
            <a:off x="13399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D188-43CE-4BC3-A44E-CFE0A225E3DD}" type="slidenum">
              <a:rPr b="1" lang="zh-TW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63360" y="260280"/>
            <a:ext cx="71802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536b3"/>
                </a:solidFill>
                <a:latin typeface="Times New Roman"/>
                <a:ea typeface="標楷體"/>
              </a:rPr>
              <a:t>近四分三被訪者表示關注環保</a:t>
            </a:r>
            <a:endParaRPr b="0" lang="en-US" sz="3200" spc="-1" strike="noStrike">
              <a:solidFill>
                <a:srgbClr val="0536b3"/>
              </a:solidFill>
              <a:latin typeface="Arial"/>
            </a:endParaRPr>
          </a:p>
        </p:txBody>
      </p:sp>
      <p:pic>
        <p:nvPicPr>
          <p:cNvPr id="241" name="內容版面配置區 4" descr=""/>
          <p:cNvPicPr/>
          <p:nvPr/>
        </p:nvPicPr>
        <p:blipFill>
          <a:blip r:embed="rId1"/>
          <a:stretch/>
        </p:blipFill>
        <p:spPr>
          <a:xfrm>
            <a:off x="895320" y="1623960"/>
            <a:ext cx="7424640" cy="3989520"/>
          </a:xfrm>
          <a:prstGeom prst="rect">
            <a:avLst/>
          </a:prstGeom>
          <a:ln w="0">
            <a:noFill/>
          </a:ln>
        </p:spPr>
      </p:pic>
      <p:sp>
        <p:nvSpPr>
          <p:cNvPr id="242" name="投影片編號版面配置區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6FC4-0A94-4000-A179-F1A5751724DC}" type="slidenum">
              <a:rPr b="1" lang="zh-TW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直線接點 5"/>
          <p:cNvSpPr/>
          <p:nvPr/>
        </p:nvSpPr>
        <p:spPr>
          <a:xfrm>
            <a:off x="826920" y="1052640"/>
            <a:ext cx="7058160" cy="0"/>
          </a:xfrm>
          <a:prstGeom prst="line">
            <a:avLst/>
          </a:prstGeom>
          <a:ln w="44280">
            <a:solidFill>
              <a:srgbClr val="118c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矩形 6"/>
          <p:cNvSpPr/>
          <p:nvPr/>
        </p:nvSpPr>
        <p:spPr>
          <a:xfrm>
            <a:off x="395280" y="6093000"/>
            <a:ext cx="720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8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Q1 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請問你有幾關注環境保護，或簡稱 “環保”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3262-1299-4522-9091-1473F154DE83}" type="slidenum">
              <a:rPr b="1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標題 1"/>
          <p:cNvSpPr/>
          <p:nvPr/>
        </p:nvSpPr>
        <p:spPr>
          <a:xfrm>
            <a:off x="826920" y="333360"/>
            <a:ext cx="7180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536b3"/>
                </a:solidFill>
                <a:latin typeface="Times New Roman"/>
                <a:ea typeface="標楷體"/>
              </a:rPr>
              <a:t>逾九成半同意環保是每一個人的責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直線接點 6"/>
          <p:cNvSpPr/>
          <p:nvPr/>
        </p:nvSpPr>
        <p:spPr>
          <a:xfrm>
            <a:off x="826920" y="1052640"/>
            <a:ext cx="7058160" cy="0"/>
          </a:xfrm>
          <a:prstGeom prst="line">
            <a:avLst/>
          </a:prstGeom>
          <a:ln w="44280">
            <a:solidFill>
              <a:srgbClr val="118c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內容版面配置區 4" descr=""/>
          <p:cNvPicPr/>
          <p:nvPr/>
        </p:nvPicPr>
        <p:blipFill>
          <a:blip r:embed="rId1"/>
          <a:stretch/>
        </p:blipFill>
        <p:spPr>
          <a:xfrm>
            <a:off x="723960" y="1581120"/>
            <a:ext cx="7062840" cy="3889440"/>
          </a:xfrm>
          <a:prstGeom prst="rect">
            <a:avLst/>
          </a:prstGeom>
          <a:ln w="0">
            <a:noFill/>
          </a:ln>
        </p:spPr>
      </p:pic>
      <p:sp>
        <p:nvSpPr>
          <p:cNvPr id="249" name="矩形 7"/>
          <p:cNvSpPr/>
          <p:nvPr/>
        </p:nvSpPr>
        <p:spPr>
          <a:xfrm>
            <a:off x="468360" y="6165720"/>
            <a:ext cx="65516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(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基數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=508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Q2-Q6 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請你話俾我知你有幾同意或者唔同意呢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D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講法？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- -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環保係每一個人嘅責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內容版面配置區 4" descr=""/>
          <p:cNvPicPr/>
          <p:nvPr/>
        </p:nvPicPr>
        <p:blipFill>
          <a:blip r:embed="rId1"/>
          <a:stretch/>
        </p:blipFill>
        <p:spPr>
          <a:xfrm>
            <a:off x="824040" y="1442880"/>
            <a:ext cx="7353000" cy="4187880"/>
          </a:xfrm>
          <a:prstGeom prst="rect">
            <a:avLst/>
          </a:prstGeom>
          <a:ln w="0">
            <a:noFill/>
          </a:ln>
        </p:spPr>
      </p:pic>
      <p:sp>
        <p:nvSpPr>
          <p:cNvPr id="251" name="投影片編號版面配置區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FE4A-745B-4621-A578-A613FB29604B}" type="slidenum">
              <a:rPr b="1" lang="zh-TW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矩形 5"/>
          <p:cNvSpPr/>
          <p:nvPr/>
        </p:nvSpPr>
        <p:spPr>
          <a:xfrm>
            <a:off x="468360" y="6165720"/>
            <a:ext cx="65516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8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Q7 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到目前為止，你認為自己對環境保護所做既野足唔足夠呢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標題 1"/>
          <p:cNvSpPr/>
          <p:nvPr/>
        </p:nvSpPr>
        <p:spPr>
          <a:xfrm>
            <a:off x="609480" y="333360"/>
            <a:ext cx="7543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536b3"/>
                </a:solidFill>
                <a:latin typeface="Times New Roman"/>
                <a:ea typeface="標楷體"/>
              </a:rPr>
              <a:t>然而，僅兩成多認為自己為環保做得足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直線接點 7"/>
          <p:cNvSpPr/>
          <p:nvPr/>
        </p:nvSpPr>
        <p:spPr>
          <a:xfrm>
            <a:off x="826920" y="1052640"/>
            <a:ext cx="7129800" cy="0"/>
          </a:xfrm>
          <a:prstGeom prst="line">
            <a:avLst/>
          </a:prstGeom>
          <a:ln w="44280">
            <a:solidFill>
              <a:srgbClr val="118c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投影片編號版面配置區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95EA-F889-4F52-B4B8-D1F5C1ADDB9E}" type="slidenum">
              <a:rPr b="1" lang="zh-TW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標題 1"/>
          <p:cNvSpPr/>
          <p:nvPr/>
        </p:nvSpPr>
        <p:spPr>
          <a:xfrm>
            <a:off x="826920" y="333360"/>
            <a:ext cx="7180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536b3"/>
                </a:solidFill>
                <a:latin typeface="Times New Roman"/>
                <a:ea typeface="標楷體"/>
              </a:rPr>
              <a:t>受訪者對環保的觀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直線接點 6"/>
          <p:cNvSpPr/>
          <p:nvPr/>
        </p:nvSpPr>
        <p:spPr>
          <a:xfrm>
            <a:off x="826920" y="1052640"/>
            <a:ext cx="7058160" cy="0"/>
          </a:xfrm>
          <a:prstGeom prst="line">
            <a:avLst/>
          </a:prstGeom>
          <a:ln w="44280">
            <a:solidFill>
              <a:srgbClr val="118c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矩形 7"/>
          <p:cNvSpPr/>
          <p:nvPr/>
        </p:nvSpPr>
        <p:spPr>
          <a:xfrm>
            <a:off x="468360" y="6165720"/>
            <a:ext cx="65516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(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基數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=507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至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508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Q2-Q6 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請你話俾我知你有幾同意或者唔同意呢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D</a:t>
            </a: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講法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文字方塊 9"/>
          <p:cNvSpPr/>
          <p:nvPr/>
        </p:nvSpPr>
        <p:spPr>
          <a:xfrm>
            <a:off x="7885080" y="19162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(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基數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=507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文字方塊 10"/>
          <p:cNvSpPr/>
          <p:nvPr/>
        </p:nvSpPr>
        <p:spPr>
          <a:xfrm>
            <a:off x="7885080" y="2637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(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基數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=507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文字方塊 11"/>
          <p:cNvSpPr/>
          <p:nvPr/>
        </p:nvSpPr>
        <p:spPr>
          <a:xfrm>
            <a:off x="7885080" y="342900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(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基數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=508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文字方塊 12"/>
          <p:cNvSpPr/>
          <p:nvPr/>
        </p:nvSpPr>
        <p:spPr>
          <a:xfrm>
            <a:off x="7956720" y="414972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(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基數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=508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內容版面配置區 4" descr=""/>
          <p:cNvPicPr/>
          <p:nvPr/>
        </p:nvPicPr>
        <p:blipFill>
          <a:blip r:embed="rId1"/>
          <a:stretch/>
        </p:blipFill>
        <p:spPr>
          <a:xfrm>
            <a:off x="611280" y="1514520"/>
            <a:ext cx="73882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05:30:22Z</dcterms:created>
  <dc:creator>winnie</dc:creator>
  <dc:description/>
  <dc:language>en-US</dc:language>
  <cp:lastModifiedBy>winnie</cp:lastModifiedBy>
  <dcterms:modified xsi:type="dcterms:W3CDTF">2010-07-07T10:56:47Z</dcterms:modified>
  <cp:revision>144</cp:revision>
  <dc:subject/>
  <dc:title>投影片 1</dc:title>
</cp:coreProperties>
</file>