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8580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933480" y="747720"/>
            <a:ext cx="4991040" cy="37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-36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88584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AA3C2D2-ABCF-4C9A-9452-EA91BCE63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01812E3-ABAB-40A9-95E3-3A0EE6270EFB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1CF205F-3BB0-484D-9921-513580D7A370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0F89D31-B07F-40D5-ADB6-6B047D7657AC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2FD4FC3-B047-4B55-B7EB-4ADBDD9E9CDA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517F16D-E1D8-4396-A77B-5D57FA527B6A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297CA42-6417-42E0-9B52-FE3E81532A50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A3B5788-CEB9-4E11-A708-A765648D271D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DD0B997-410E-4525-943B-D39808E53BFA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16ED7BE-0E13-405B-A47D-89EB88587BAE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AC893D1-4BCE-4AA7-BD68-5C1A3C6C7F8D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2683AB6-0C43-4A6C-A08A-39DB12A897EB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86D44B9-AB21-4070-91A5-754DD3D86328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058CA95-74F0-4361-B7D4-91370A33E116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BCCFE96-DCBD-4E7E-87DF-3F12B96D6EAA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9057DAD-10B5-4D61-8D05-55BA04D3C867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6D21190-6A16-4E20-901D-13DA281FD7FA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43CE4CE-43F5-4713-8EEB-005C6A7F4BD0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4E158B4-25B8-4143-88FD-17499048620F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8898C4D-C59C-440F-908A-F90040D5B475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E7554EE-187C-486D-90A4-E00963A879D1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B83226B-3988-44FA-B1C5-DE9ED4F57060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06043F0-1FB4-42D8-A8B5-2980884C1115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3C24078-1509-471B-A4A5-FD3C2B21FBD7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230C9C7-79C8-4AFD-9A55-430BBEDA4F41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D2B0F76-4327-4FCC-A2FA-0E6CB2586E41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8FE104A-409B-47CA-BCED-5FCCFCF4A9D7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45E3E09-9BA4-4F9B-962F-2758956ED455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B787B64-9161-4F4D-BBA8-86164CB931C9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5227416-53BC-44B9-9D9B-6C41AC9EF590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F1222D7-2061-4C27-9374-21FC866736DF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0EA1139-C2B1-4DFE-AA29-90E117FCC12D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73E1-A757-4D22-81F9-10952661A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9869-21C2-4251-921E-D729AEDB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835E-9AE8-4DFD-8E1B-AAD6A55C7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6743-E7ED-424D-92F1-09F557836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9464-0EE1-4CAB-B8E0-1A6328B1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6244-9C60-4C08-A9C2-DD8D8B89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A95D-F636-4319-B123-09B0617F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2707-7A90-4AC9-BFF3-7337F37A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4319-1F72-4622-8826-03F72790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5E64-E826-4046-9368-34E53DEA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ADD2-3EB6-469D-808F-D523830D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C229-8BAE-446C-A81F-943EF5BA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E527-7BD8-401A-8A63-82167674E317}" type="datetime">
              <a:rPr b="0" lang="zh-TW" sz="1400" spc="-1" strike="noStrike">
                <a:solidFill>
                  <a:srgbClr val="003366"/>
                </a:solidFill>
                <a:latin typeface="Arial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84E4-F8E2-4750-99F3-E50E2ED5B709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" name="Object 2053"/>
          <p:cNvGraphicFramePr/>
          <p:nvPr/>
        </p:nvGraphicFramePr>
        <p:xfrm>
          <a:off x="304920" y="152280"/>
          <a:ext cx="43956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" name="Object 205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52280"/>
                    <a:ext cx="4395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" name="Text Box 15"/>
          <p:cNvSpPr/>
          <p:nvPr/>
        </p:nvSpPr>
        <p:spPr>
          <a:xfrm>
            <a:off x="5562720" y="30492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家長對子女學習及教育開支意見調查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" name="Picture 16" descr="actpo"/>
          <p:cNvPicPr/>
          <p:nvPr/>
        </p:nvPicPr>
        <p:blipFill>
          <a:blip r:embed="rId4"/>
          <a:stretch/>
        </p:blipFill>
        <p:spPr>
          <a:xfrm>
            <a:off x="914400" y="152280"/>
            <a:ext cx="533520" cy="43812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17" descr="HKEPA-logo"/>
          <p:cNvPicPr/>
          <p:nvPr/>
        </p:nvPicPr>
        <p:blipFill>
          <a:blip r:embed="rId5"/>
          <a:stretch/>
        </p:blipFill>
        <p:spPr>
          <a:xfrm>
            <a:off x="1600200" y="152280"/>
            <a:ext cx="43020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052"/>
          <p:cNvSpPr/>
          <p:nvPr/>
        </p:nvSpPr>
        <p:spPr>
          <a:xfrm>
            <a:off x="762120" y="182880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香港大學民意研究計劃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58" name="Object 2053"/>
          <p:cNvGraphicFramePr/>
          <p:nvPr/>
        </p:nvGraphicFramePr>
        <p:xfrm>
          <a:off x="1828800" y="914400"/>
          <a:ext cx="87804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205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914400"/>
                    <a:ext cx="8780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2895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家長對子女學習及教育開支意見調查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Rectangle 2057"/>
          <p:cNvSpPr/>
          <p:nvPr/>
        </p:nvSpPr>
        <p:spPr>
          <a:xfrm>
            <a:off x="762120" y="4643280"/>
            <a:ext cx="7848360" cy="15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鍾庭耀博士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香港大學 民意研究計劃 總監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Line 2058"/>
          <p:cNvSpPr/>
          <p:nvPr/>
        </p:nvSpPr>
        <p:spPr>
          <a:xfrm>
            <a:off x="1143000" y="2781360"/>
            <a:ext cx="70866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Line 2059"/>
          <p:cNvSpPr/>
          <p:nvPr/>
        </p:nvSpPr>
        <p:spPr>
          <a:xfrm>
            <a:off x="1143000" y="4149720"/>
            <a:ext cx="70866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3429000" y="181296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中英文教出版事業協會   香港教育出版商會</a:t>
            </a:r>
            <a:r>
              <a:rPr b="1" lang="zh-TW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65" name="Picture 13" descr="actpo"/>
          <p:cNvPicPr/>
          <p:nvPr/>
        </p:nvPicPr>
        <p:blipFill>
          <a:blip r:embed="rId3"/>
          <a:stretch/>
        </p:blipFill>
        <p:spPr>
          <a:xfrm>
            <a:off x="4191120" y="811080"/>
            <a:ext cx="1295280" cy="1067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HKEPA-logo"/>
          <p:cNvPicPr/>
          <p:nvPr/>
        </p:nvPicPr>
        <p:blipFill>
          <a:blip r:embed="rId4"/>
          <a:stretch/>
        </p:blipFill>
        <p:spPr>
          <a:xfrm>
            <a:off x="6697800" y="685800"/>
            <a:ext cx="1074600" cy="1143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0F92-42CE-40D5-805D-8E496F64A122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71720" y="747360"/>
            <a:ext cx="776736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Q6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（撇除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Q5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答「完全沒有」的被訪者）咁佢參加課外活動／興趣班一年既費用大約係幾多？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6" name="圖表 5" descr=""/>
          <p:cNvPicPr/>
          <p:nvPr/>
        </p:nvPicPr>
        <p:blipFill>
          <a:blip r:embed="rId1"/>
          <a:stretch/>
        </p:blipFill>
        <p:spPr>
          <a:xfrm>
            <a:off x="785880" y="1397160"/>
            <a:ext cx="8072280" cy="517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5572080" y="3643200"/>
          <a:ext cx="3240000" cy="1381320"/>
        </p:xfrm>
        <a:graphic>
          <a:graphicData uri="http://schemas.openxmlformats.org/drawingml/2006/table">
            <a:tbl>
              <a:tblPr/>
              <a:tblGrid>
                <a:gridCol w="809640"/>
                <a:gridCol w="809640"/>
                <a:gridCol w="811080"/>
                <a:gridCol w="8096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小學家長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中學家長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整體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15,5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10,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12,7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93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6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5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中位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10,0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5,0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8,0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3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3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6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62CD-8B7A-4D85-A5B5-2C2DBEA73840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71720" y="747360"/>
            <a:ext cx="75009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6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（包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5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回答「完全沒有」的被訪者的支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=$0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）咁佢參加課外活動／興趣班一年既費用大約係幾多？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圖表 5" descr=""/>
          <p:cNvPicPr/>
          <p:nvPr/>
        </p:nvPicPr>
        <p:blipFill>
          <a:blip r:embed="rId1"/>
          <a:stretch/>
        </p:blipFill>
        <p:spPr>
          <a:xfrm>
            <a:off x="785880" y="1397160"/>
            <a:ext cx="8072280" cy="517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5572080" y="3357720"/>
          <a:ext cx="3240000" cy="1376280"/>
        </p:xfrm>
        <a:graphic>
          <a:graphicData uri="http://schemas.openxmlformats.org/drawingml/2006/table">
            <a:tbl>
              <a:tblPr/>
              <a:tblGrid>
                <a:gridCol w="809640"/>
                <a:gridCol w="809640"/>
                <a:gridCol w="811080"/>
                <a:gridCol w="8096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小學家長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中學家長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整體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14,0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6,7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9,8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8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4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4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中位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10,0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2,0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4,0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3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5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8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3552-B547-442F-A022-B1DF37A0BD0D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71720" y="747360"/>
            <a:ext cx="75009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7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咁佢補習一年既費用又大約係幾多？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圖表 5" descr=""/>
          <p:cNvPicPr/>
          <p:nvPr/>
        </p:nvPicPr>
        <p:blipFill>
          <a:blip r:embed="rId1"/>
          <a:stretch/>
        </p:blipFill>
        <p:spPr>
          <a:xfrm>
            <a:off x="785880" y="1397160"/>
            <a:ext cx="8072280" cy="517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5286240" y="3000240"/>
          <a:ext cx="3240360" cy="1376640"/>
        </p:xfrm>
        <a:graphic>
          <a:graphicData uri="http://schemas.openxmlformats.org/drawingml/2006/table">
            <a:tbl>
              <a:tblPr/>
              <a:tblGrid>
                <a:gridCol w="809640"/>
                <a:gridCol w="809640"/>
                <a:gridCol w="811440"/>
                <a:gridCol w="8096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小學家長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中學家長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整體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8,5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9,2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8,9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5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46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3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中位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5,0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6,0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6,0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5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9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6847-558B-4FA0-AB82-8DB3E4A1B3B1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71720" y="747360"/>
            <a:ext cx="776736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8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咁佢購買補充練習一年嘅費用又大約係幾多？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8" name="圖表 5" descr=""/>
          <p:cNvPicPr/>
          <p:nvPr/>
        </p:nvPicPr>
        <p:blipFill>
          <a:blip r:embed="rId1"/>
          <a:stretch/>
        </p:blipFill>
        <p:spPr>
          <a:xfrm>
            <a:off x="785880" y="1397160"/>
            <a:ext cx="8072280" cy="517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5286240" y="3000240"/>
          <a:ext cx="3240360" cy="1376640"/>
        </p:xfrm>
        <a:graphic>
          <a:graphicData uri="http://schemas.openxmlformats.org/drawingml/2006/table">
            <a:tbl>
              <a:tblPr/>
              <a:tblGrid>
                <a:gridCol w="809640"/>
                <a:gridCol w="809640"/>
                <a:gridCol w="811440"/>
                <a:gridCol w="8096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小學家長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中學家長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整體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96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9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9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中位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5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5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5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3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4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86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4DB0-12D0-4A8D-9EA5-AE7D535D5EE1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1720" y="747360"/>
            <a:ext cx="776736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9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咁你一年又會花幾多錢係佢既開學物資上，如校服、書包、鞋、文具等等？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2" name="圖表 5" descr=""/>
          <p:cNvPicPr/>
          <p:nvPr/>
        </p:nvPicPr>
        <p:blipFill>
          <a:blip r:embed="rId1"/>
          <a:stretch/>
        </p:blipFill>
        <p:spPr>
          <a:xfrm>
            <a:off x="785880" y="1397160"/>
            <a:ext cx="8072280" cy="517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5357880" y="4071960"/>
          <a:ext cx="3240000" cy="1376280"/>
        </p:xfrm>
        <a:graphic>
          <a:graphicData uri="http://schemas.openxmlformats.org/drawingml/2006/table">
            <a:tbl>
              <a:tblPr/>
              <a:tblGrid>
                <a:gridCol w="809640"/>
                <a:gridCol w="809640"/>
                <a:gridCol w="811080"/>
                <a:gridCol w="8096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小學家長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中學家長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整體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1,7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2,0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1,9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中位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1,5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1,8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1,5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3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88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5259-6A2B-4640-84B1-FCF507EAB563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214280" y="1643040"/>
          <a:ext cx="7358400" cy="4429080"/>
        </p:xfrm>
        <a:graphic>
          <a:graphicData uri="http://schemas.openxmlformats.org/drawingml/2006/table">
            <a:tbl>
              <a:tblPr/>
              <a:tblGrid>
                <a:gridCol w="866880"/>
                <a:gridCol w="1511280"/>
                <a:gridCol w="966960"/>
                <a:gridCol w="742680"/>
                <a:gridCol w="887760"/>
                <a:gridCol w="866520"/>
                <a:gridCol w="773280"/>
                <a:gridCol w="743040"/>
              </a:tblGrid>
              <a:tr h="3920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排名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項目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小學家長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中學家長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6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整體樣本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平均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開支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印象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排名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平均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開支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印象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排名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平均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開支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印象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排名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09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課外活動／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興趣班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$14,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$6,7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$9,8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補習費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$8,6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$9,2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$9,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膳食費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$3,3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$6,1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$4,9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交通費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$3,3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$2,8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$3,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教科書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$2,6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$3,1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$2,9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開學物資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$1,7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$2,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$1,9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補充練習費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$1,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$1,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$1,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2a56"/>
                          </a:solidFill>
                          <a:latin typeface="Times New Roman"/>
                          <a:ea typeface="標楷體"/>
                        </a:rPr>
                        <a:t>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Rectangle 2"/>
          <p:cNvSpPr/>
          <p:nvPr/>
        </p:nvSpPr>
        <p:spPr>
          <a:xfrm>
            <a:off x="1071720" y="747720"/>
            <a:ext cx="77673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2a56"/>
                </a:solidFill>
                <a:latin typeface="Times New Roman"/>
                <a:ea typeface="標楷體"/>
              </a:rPr>
              <a:t>綜合排名表 </a:t>
            </a:r>
            <a:r>
              <a:rPr b="1" lang="zh-TW" sz="2400" spc="-1" strike="noStrike">
                <a:solidFill>
                  <a:srgbClr val="002a56"/>
                </a:solidFill>
                <a:latin typeface="Times New Roman"/>
                <a:ea typeface="標楷體"/>
              </a:rPr>
              <a:t>- </a:t>
            </a:r>
            <a:r>
              <a:rPr b="1" lang="zh-TW" sz="2400" spc="-1" strike="noStrike">
                <a:solidFill>
                  <a:srgbClr val="002a56"/>
                </a:solidFill>
                <a:latin typeface="Times New Roman"/>
                <a:ea typeface="標楷體"/>
              </a:rPr>
              <a:t>各項主要教育與學習相關項目的一年開支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696F-C309-46B7-BE74-D25AF0C7E0F4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1720" y="857160"/>
            <a:ext cx="776736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11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有冇留意教科書大約會隔幾耐改版一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9" name="圖表 4" descr=""/>
          <p:cNvPicPr/>
          <p:nvPr/>
        </p:nvPicPr>
        <p:blipFill>
          <a:blip r:embed="rId1"/>
          <a:stretch/>
        </p:blipFill>
        <p:spPr>
          <a:xfrm>
            <a:off x="785880" y="1397160"/>
            <a:ext cx="8072280" cy="517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2760-C1A2-410F-A247-D767C3FE7933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71720" y="857160"/>
            <a:ext cx="776736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a56"/>
                </a:solidFill>
                <a:latin typeface="Times New Roman"/>
                <a:ea typeface="標楷體"/>
              </a:rPr>
              <a:t>Q12  </a:t>
            </a:r>
            <a:r>
              <a:rPr b="1" lang="zh-TW" sz="2400" spc="-1" strike="noStrike">
                <a:solidFill>
                  <a:srgbClr val="002a56"/>
                </a:solidFill>
                <a:latin typeface="Times New Roman"/>
                <a:ea typeface="標楷體"/>
              </a:rPr>
              <a:t>教育局現時規定教科書「至少三年不可改版」政策，你認為呢個政策既時限太長、太短定適中呢</a:t>
            </a:r>
            <a:r>
              <a:rPr b="1" lang="en-US" sz="2400" spc="-1" strike="noStrike">
                <a:solidFill>
                  <a:srgbClr val="002a56"/>
                </a:solidFill>
                <a:latin typeface="Times New Roman"/>
                <a:ea typeface="標楷體"/>
              </a:rPr>
              <a:t>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圖表 4" descr=""/>
          <p:cNvPicPr/>
          <p:nvPr/>
        </p:nvPicPr>
        <p:blipFill>
          <a:blip r:embed="rId1"/>
          <a:stretch/>
        </p:blipFill>
        <p:spPr>
          <a:xfrm>
            <a:off x="785880" y="1397160"/>
            <a:ext cx="8072280" cy="517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41CC-80C1-4411-8BB8-AC59620A6E95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1720" y="857160"/>
            <a:ext cx="776736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13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知唔知道宜家教科書既書價已經包括咗上堂所用既教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圖表 4" descr=""/>
          <p:cNvPicPr/>
          <p:nvPr/>
        </p:nvPicPr>
        <p:blipFill>
          <a:blip r:embed="rId1"/>
          <a:stretch/>
        </p:blipFill>
        <p:spPr>
          <a:xfrm>
            <a:off x="785880" y="1397160"/>
            <a:ext cx="8072280" cy="517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5549-EF37-4034-A370-649D05ED7D33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1720" y="857160"/>
            <a:ext cx="776736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14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既仔／女有冇試過用舊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如有，咁舊書大約佔佢所有教科書既幾多成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8" name="圖表 4" descr=""/>
          <p:cNvPicPr/>
          <p:nvPr/>
        </p:nvPicPr>
        <p:blipFill>
          <a:blip r:embed="rId1"/>
          <a:stretch/>
        </p:blipFill>
        <p:spPr>
          <a:xfrm>
            <a:off x="785880" y="1397160"/>
            <a:ext cx="8072280" cy="517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5357880" y="2357280"/>
          <a:ext cx="3240000" cy="1101960"/>
        </p:xfrm>
        <a:graphic>
          <a:graphicData uri="http://schemas.openxmlformats.org/drawingml/2006/table">
            <a:tbl>
              <a:tblPr/>
              <a:tblGrid>
                <a:gridCol w="809640"/>
                <a:gridCol w="809640"/>
                <a:gridCol w="811080"/>
                <a:gridCol w="8096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小學家長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中學家長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整體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3.7%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16%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11.1%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0.58%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1.0%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0.65%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4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5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9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43FE-165D-4DB4-8236-0776FDDB2643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4280" y="1214280"/>
            <a:ext cx="77011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研究背景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57200" y="2286000"/>
            <a:ext cx="70725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37476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調查目的：探討家長用於其子女學習及教育上的各項開支，以及對購買教科書的意見等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74760" indent="-37476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調查問卷由港大民研計劃諮詢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兩會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後獨立設計，所有操作、數據收集及分析由民研計劃獨立進行，結果亦由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民研計劃全面負責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74760" indent="-37476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調查方法和結果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全面公開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2A33-874C-4BF3-9BB6-E7F562A0D42C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857160"/>
            <a:ext cx="776736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Q15  </a:t>
            </a: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政府現時一般會係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</a:t>
            </a: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向學生發放書簿津貼，以支付必須嘅書簿費及雜項等開支。有意見認為當局應提早係每年七、八月發放津貼，你傾向支持定係反對呢個意見？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2" name="圖表 4" descr=""/>
          <p:cNvPicPr/>
          <p:nvPr/>
        </p:nvPicPr>
        <p:blipFill>
          <a:blip r:embed="rId1"/>
          <a:stretch/>
        </p:blipFill>
        <p:spPr>
          <a:xfrm>
            <a:off x="714240" y="1428840"/>
            <a:ext cx="8201160" cy="51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A824-B24B-45C9-BC8A-CCF05149252A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1360" y="1000080"/>
            <a:ext cx="7467480" cy="4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總結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Rectangle 1"/>
          <p:cNvSpPr/>
          <p:nvPr/>
        </p:nvSpPr>
        <p:spPr>
          <a:xfrm>
            <a:off x="1071720" y="3034440"/>
            <a:ext cx="762444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 algn="just"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2060"/>
                </a:solidFill>
                <a:latin typeface="Times New Roman"/>
                <a:ea typeface="標楷體"/>
              </a:rPr>
              <a:t>在家長的印象中，「教科書」是最昂貴的開支，然後是「補習」、「課外活動／興趣班」、「膳食費」和「交通費」。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182520" indent="-182520" algn="just"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2060"/>
                </a:solidFill>
                <a:latin typeface="Times New Roman"/>
                <a:ea typeface="標楷體"/>
              </a:rPr>
              <a:t>在逐項測試後中，家長實際用於子女「課外活動／興趣班」及「補習」上的費用則遠比其他項目為高，兩者每年的平均費用都接近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標楷體"/>
              </a:rPr>
              <a:t>$10,000</a:t>
            </a:r>
            <a:r>
              <a:rPr b="1" lang="zh-TW" sz="1800" spc="-1" strike="noStrike">
                <a:solidFill>
                  <a:srgbClr val="002060"/>
                </a:solidFill>
                <a:latin typeface="Times New Roman"/>
                <a:ea typeface="標楷體"/>
              </a:rPr>
              <a:t>，然後是「膳食費」和「交通費」，「教科書」排名第五，每年花費約為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標楷體"/>
              </a:rPr>
              <a:t>$3,000</a:t>
            </a:r>
            <a:r>
              <a:rPr b="1" lang="zh-TW" sz="1800" spc="-1" strike="noStrike">
                <a:solidFill>
                  <a:srgbClr val="002060"/>
                </a:solidFill>
                <a:latin typeface="Times New Roman"/>
                <a:ea typeface="標楷體"/>
              </a:rPr>
              <a:t>。顯示被訪家長的印象與實際情況有明顯落差。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182520" indent="-182520" algn="just"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2060"/>
                </a:solidFill>
                <a:latin typeface="Times New Roman"/>
                <a:ea typeface="標楷體"/>
              </a:rPr>
              <a:t>分拆樣本發現，小學生家長的實際開支以「課外活動／興趣班」最大，平均費用每年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標楷體"/>
              </a:rPr>
              <a:t>$14,000</a:t>
            </a:r>
            <a:r>
              <a:rPr b="1" lang="zh-TW" sz="1800" spc="-1" strike="noStrike">
                <a:solidFill>
                  <a:srgbClr val="002060"/>
                </a:solidFill>
                <a:latin typeface="Times New Roman"/>
                <a:ea typeface="標楷體"/>
              </a:rPr>
              <a:t>；其後依次為「補習費」、「膳食費」、「交通費」、「教科書」、「開學物資」和「補充練習費」。中學生家長的實際開支則以「補習費」最多全年支出平均為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標楷體"/>
              </a:rPr>
              <a:t>$9,000</a:t>
            </a:r>
            <a:r>
              <a:rPr b="1" lang="zh-TW" sz="1800" spc="-1" strike="noStrike">
                <a:solidFill>
                  <a:srgbClr val="002060"/>
                </a:solidFill>
                <a:latin typeface="Times New Roman"/>
                <a:ea typeface="標楷體"/>
              </a:rPr>
              <a:t>以上，其後依次為「課外活動／興趣班」、「膳食費」、「教科書」、「交通費」、「開學物資」及「補充練習費」。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182520" indent="-182520" algn="just"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2060"/>
                </a:solidFill>
                <a:latin typeface="Times New Roman"/>
                <a:ea typeface="標楷體"/>
              </a:rPr>
              <a:t>逾半家長「有留意」教科書改版的頻率。對於教育局規定教科書「三年不可以改版」的政策，六成認為「適中」。</a:t>
            </a:r>
            <a:r>
              <a:rPr b="0" lang="en-US" sz="1800" spc="-1" strike="noStrike">
                <a:solidFill>
                  <a:srgbClr val="002060"/>
                </a:solidFill>
                <a:latin typeface="Times New Roman"/>
                <a:ea typeface="標楷體"/>
              </a:rPr>
              <a:t> 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46EE-4BC0-4747-AF6F-454528DB762F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143000" y="1928880"/>
            <a:ext cx="736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03240" indent="0" algn="ctr">
              <a:lnSpc>
                <a:spcPct val="150000"/>
              </a:lnSpc>
              <a:spcBef>
                <a:spcPts val="7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803240" indent="0" algn="ctr">
              <a:lnSpc>
                <a:spcPct val="150000"/>
              </a:lnSpc>
              <a:spcBef>
                <a:spcPts val="7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被訪家長個人資料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D7EE-76BB-44D7-BF25-5277F85B9FD3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99760" y="857160"/>
            <a:ext cx="24289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性別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0" name="圖表 4" descr=""/>
          <p:cNvPicPr/>
          <p:nvPr/>
        </p:nvPicPr>
        <p:blipFill>
          <a:blip r:embed="rId1"/>
          <a:stretch/>
        </p:blipFill>
        <p:spPr>
          <a:xfrm>
            <a:off x="571680" y="1285920"/>
            <a:ext cx="8215200" cy="50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A757-54EB-4CCE-B02C-A46CE2ECD9FE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57160" y="785880"/>
            <a:ext cx="80726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2a56"/>
                </a:solidFill>
                <a:latin typeface="標楷體"/>
                <a:ea typeface="標楷體"/>
              </a:rPr>
              <a:t>年齡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3" name="圖表 4" descr=""/>
          <p:cNvPicPr/>
          <p:nvPr/>
        </p:nvPicPr>
        <p:blipFill>
          <a:blip r:embed="rId1"/>
          <a:stretch/>
        </p:blipFill>
        <p:spPr>
          <a:xfrm>
            <a:off x="714240" y="1500120"/>
            <a:ext cx="8429760" cy="52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BCF2-2076-44EC-8D1F-B4CAE5DB6AF3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785520"/>
            <a:ext cx="75009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2a56"/>
                </a:solidFill>
                <a:latin typeface="標楷體"/>
                <a:ea typeface="標楷體"/>
              </a:rPr>
              <a:t>請問你有幾多個仔女係讀緊中小學</a:t>
            </a:r>
            <a:r>
              <a:rPr b="1" lang="en-US" sz="2400" spc="-1" strike="noStrike">
                <a:solidFill>
                  <a:srgbClr val="002a56"/>
                </a:solidFill>
                <a:latin typeface="標楷體"/>
                <a:ea typeface="標楷體"/>
              </a:rPr>
              <a:t>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圖表 4" descr=""/>
          <p:cNvPicPr/>
          <p:nvPr/>
        </p:nvPicPr>
        <p:blipFill>
          <a:blip r:embed="rId1"/>
          <a:stretch/>
        </p:blipFill>
        <p:spPr>
          <a:xfrm>
            <a:off x="1500120" y="1571760"/>
            <a:ext cx="6691320" cy="4746600"/>
          </a:xfrm>
          <a:prstGeom prst="rect">
            <a:avLst/>
          </a:prstGeom>
          <a:ln w="0">
            <a:noFill/>
          </a:ln>
        </p:spPr>
      </p:pic>
      <p:sp>
        <p:nvSpPr>
          <p:cNvPr id="147" name="文字方塊 5"/>
          <p:cNvSpPr/>
          <p:nvPr/>
        </p:nvSpPr>
        <p:spPr>
          <a:xfrm>
            <a:off x="6643800" y="564372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,00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447D-A819-4992-AB24-E267755E2012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9" name="圖表 4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6691320" cy="4746600"/>
          </a:xfrm>
          <a:prstGeom prst="rect">
            <a:avLst/>
          </a:prstGeom>
          <a:ln w="0">
            <a:noFill/>
          </a:ln>
        </p:spPr>
      </p:pic>
      <p:sp>
        <p:nvSpPr>
          <p:cNvPr id="150" name="文字方塊 5"/>
          <p:cNvSpPr/>
          <p:nvPr/>
        </p:nvSpPr>
        <p:spPr>
          <a:xfrm>
            <a:off x="6643800" y="564372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,00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1143000" y="857160"/>
            <a:ext cx="75009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2a56"/>
                </a:solidFill>
                <a:latin typeface="標楷體"/>
                <a:ea typeface="標楷體"/>
              </a:rPr>
              <a:t>被訪者中籤子女就讀中小學分佈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EBC1-24ED-4223-A807-0154CCB6829C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1720" y="761760"/>
            <a:ext cx="750096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被訪者中籤子女就讀年級分佈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圖表 5" descr=""/>
          <p:cNvPicPr/>
          <p:nvPr/>
        </p:nvPicPr>
        <p:blipFill>
          <a:blip r:embed="rId1"/>
          <a:stretch/>
        </p:blipFill>
        <p:spPr>
          <a:xfrm>
            <a:off x="785880" y="1397160"/>
            <a:ext cx="8072280" cy="517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0844-F498-4D6C-B76B-4525A09E8D51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57160" y="857160"/>
            <a:ext cx="80726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2a56"/>
                </a:solidFill>
                <a:latin typeface="Times New Roman"/>
                <a:ea typeface="標楷體"/>
              </a:rPr>
              <a:t>（只問有中學子女中籤者）你呢位仔／女就讀既學校係屬於：</a:t>
            </a: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7" name="圖表 4" descr=""/>
          <p:cNvPicPr/>
          <p:nvPr/>
        </p:nvPicPr>
        <p:blipFill>
          <a:blip r:embed="rId1"/>
          <a:stretch/>
        </p:blipFill>
        <p:spPr>
          <a:xfrm>
            <a:off x="1357200" y="1643040"/>
            <a:ext cx="7143840" cy="4500720"/>
          </a:xfrm>
          <a:prstGeom prst="rect">
            <a:avLst/>
          </a:prstGeom>
          <a:ln w="0">
            <a:noFill/>
          </a:ln>
        </p:spPr>
      </p:pic>
      <p:sp>
        <p:nvSpPr>
          <p:cNvPr id="158" name="文字方塊 5"/>
          <p:cNvSpPr/>
          <p:nvPr/>
        </p:nvSpPr>
        <p:spPr>
          <a:xfrm>
            <a:off x="7000920" y="614376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59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1359-9692-4873-9B0A-380BD61008CF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57160" y="714240"/>
            <a:ext cx="80726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2a56"/>
                </a:solidFill>
                <a:latin typeface="標楷體"/>
                <a:ea typeface="標楷體"/>
              </a:rPr>
              <a:t>你呢位仔／女現正就讀邊種類別既學校？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1" name="圖表 4" descr=""/>
          <p:cNvPicPr/>
          <p:nvPr/>
        </p:nvPicPr>
        <p:blipFill>
          <a:blip r:embed="rId1"/>
          <a:stretch/>
        </p:blipFill>
        <p:spPr>
          <a:xfrm>
            <a:off x="714240" y="1500120"/>
            <a:ext cx="8429760" cy="52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12A2-EF43-4D83-B356-83FFD3D0C8C7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0080" y="1071720"/>
            <a:ext cx="78580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標楷體"/>
                <a:ea typeface="標楷體"/>
              </a:rPr>
              <a:t>樣本資料</a:t>
            </a:r>
            <a:endParaRPr b="1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1928880"/>
            <a:ext cx="736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03240" indent="0">
              <a:lnSpc>
                <a:spcPct val="150000"/>
              </a:lnSpc>
              <a:spcBef>
                <a:spcPts val="7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訪問日期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10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至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1803240" indent="0">
              <a:lnSpc>
                <a:spcPct val="100000"/>
              </a:lnSpc>
              <a:spcBef>
                <a:spcPts val="7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訪問對象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育有至少一名就讀本地小學或中學的子女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的家長（只限操粵語人士）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1803240" indent="0">
              <a:lnSpc>
                <a:spcPct val="100000"/>
              </a:lnSpc>
              <a:spcBef>
                <a:spcPts val="7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調查方法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由訪問員直接進行電話訪問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1803240" indent="0">
              <a:lnSpc>
                <a:spcPct val="100000"/>
              </a:lnSpc>
              <a:spcBef>
                <a:spcPts val="7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樣本數目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1,003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成功個案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1803240" indent="0">
              <a:lnSpc>
                <a:spcPct val="100000"/>
              </a:lnSpc>
              <a:spcBef>
                <a:spcPts val="7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有效回應比率  ：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64.0% (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以符合資格的目標對象計算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1803240" indent="0">
              <a:lnSpc>
                <a:spcPct val="100000"/>
              </a:lnSpc>
              <a:spcBef>
                <a:spcPts val="7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抽樣誤差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6%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亦即在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95%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置信水平下，各個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比的抽樣誤差為少於正負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3.1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百分比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1B1C-3EB0-4F36-8FA2-27AAC636A1BB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57160" y="714240"/>
            <a:ext cx="80726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2a56"/>
                </a:solidFill>
                <a:latin typeface="標楷體"/>
                <a:ea typeface="標楷體"/>
              </a:rPr>
              <a:t>每月家庭收入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4" name="圖表 4" descr=""/>
          <p:cNvPicPr/>
          <p:nvPr/>
        </p:nvPicPr>
        <p:blipFill>
          <a:blip r:embed="rId1"/>
          <a:stretch/>
        </p:blipFill>
        <p:spPr>
          <a:xfrm>
            <a:off x="714240" y="1500120"/>
            <a:ext cx="8429760" cy="52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FAED-4BFA-4C33-92EF-D0B52C9D6F37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685800" y="152388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報 告 完 畢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0" y="38098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詳細報告結果，請瀏覽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http://hkupop.hku.hk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Line 5"/>
          <p:cNvSpPr/>
          <p:nvPr/>
        </p:nvSpPr>
        <p:spPr>
          <a:xfrm>
            <a:off x="990720" y="327672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703B-5797-4B81-B399-AFC466BB4A0D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143000" y="1928880"/>
            <a:ext cx="736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03240" indent="0" algn="ctr">
              <a:lnSpc>
                <a:spcPct val="150000"/>
              </a:lnSpc>
              <a:spcBef>
                <a:spcPts val="7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803240" indent="0" algn="ctr">
              <a:lnSpc>
                <a:spcPct val="150000"/>
              </a:lnSpc>
              <a:spcBef>
                <a:spcPts val="7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調查結果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05F0-93F7-447A-BE65-2C7C1106D848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57160" y="714240"/>
            <a:ext cx="80726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Q1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請問係學習或者同返學有關既開支上，以全年總支出計，你既仔／女現時花費最大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項目係乜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(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不讀答案，</a:t>
            </a:r>
            <a:r>
              <a:rPr b="1" lang="zh-TW" sz="20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最多可選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5 </a:t>
            </a:r>
            <a:r>
              <a:rPr b="1" lang="zh-TW" sz="20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項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77" name="圖表 4" descr=""/>
          <p:cNvPicPr/>
          <p:nvPr/>
        </p:nvPicPr>
        <p:blipFill>
          <a:blip r:embed="rId1"/>
          <a:stretch/>
        </p:blipFill>
        <p:spPr>
          <a:xfrm>
            <a:off x="714240" y="1500120"/>
            <a:ext cx="8429760" cy="52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073E-9BE9-4388-B1A8-8588F2C6070F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7858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Q2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請問你一年大約會花幾多錢幫你既仔／女買教科書？教科書既費用係不包括書單以外既參考書及其他補充練習既費用。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80" name="圖表 4" descr=""/>
          <p:cNvPicPr/>
          <p:nvPr/>
        </p:nvPicPr>
        <p:blipFill>
          <a:blip r:embed="rId1"/>
          <a:stretch/>
        </p:blipFill>
        <p:spPr>
          <a:xfrm>
            <a:off x="785880" y="1400040"/>
            <a:ext cx="8115120" cy="520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5000760" y="3857760"/>
          <a:ext cx="3635280" cy="1371600"/>
        </p:xfrm>
        <a:graphic>
          <a:graphicData uri="http://schemas.openxmlformats.org/drawingml/2006/table">
            <a:tbl>
              <a:tblPr/>
              <a:tblGrid>
                <a:gridCol w="909360"/>
                <a:gridCol w="908280"/>
                <a:gridCol w="909720"/>
                <a:gridCol w="9079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小學家長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中學家長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整體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2,5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3,1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2,9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中位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2,5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3,0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3,0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37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5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8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0413-A166-4D4E-A6C5-611F68B8D6BC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71360" y="747360"/>
            <a:ext cx="77864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3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請問你個仔／女既交通費一年大概係幾多？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84" name="圖表 5" descr=""/>
          <p:cNvPicPr/>
          <p:nvPr/>
        </p:nvPicPr>
        <p:blipFill>
          <a:blip r:embed="rId1"/>
          <a:stretch/>
        </p:blipFill>
        <p:spPr>
          <a:xfrm>
            <a:off x="709560" y="1398600"/>
            <a:ext cx="8077320" cy="517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5500800" y="3000240"/>
          <a:ext cx="3240000" cy="1381320"/>
        </p:xfrm>
        <a:graphic>
          <a:graphicData uri="http://schemas.openxmlformats.org/drawingml/2006/table">
            <a:tbl>
              <a:tblPr/>
              <a:tblGrid>
                <a:gridCol w="809640"/>
                <a:gridCol w="809640"/>
                <a:gridCol w="811080"/>
                <a:gridCol w="8096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小學家長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中學家長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整體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3,2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2,78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2,9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16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11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中位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3,0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2,4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2,5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3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5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91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EEBA-C9B0-41A9-8FAF-C82771AC9319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71720" y="747360"/>
            <a:ext cx="75009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4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咁膳食費一年大概又係幾多呢？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88" name="圖表 5" descr=""/>
          <p:cNvPicPr/>
          <p:nvPr/>
        </p:nvPicPr>
        <p:blipFill>
          <a:blip r:embed="rId1"/>
          <a:stretch/>
        </p:blipFill>
        <p:spPr>
          <a:xfrm>
            <a:off x="571680" y="1397160"/>
            <a:ext cx="8072280" cy="517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5643720" y="4071960"/>
          <a:ext cx="3240000" cy="1380960"/>
        </p:xfrm>
        <a:graphic>
          <a:graphicData uri="http://schemas.openxmlformats.org/drawingml/2006/table">
            <a:tbl>
              <a:tblPr/>
              <a:tblGrid>
                <a:gridCol w="809640"/>
                <a:gridCol w="809280"/>
                <a:gridCol w="811440"/>
                <a:gridCol w="8096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小學家長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中學家長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整體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3,28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6,1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4,9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1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1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1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中位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3,0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6,0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$4,0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37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5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8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8CD1-310B-4F03-BBDA-A819FD486188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71720" y="785520"/>
            <a:ext cx="75009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5 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請問你既子／女現時參加咗幾多個課外活動／興趣班？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2" name="圖表 5" descr=""/>
          <p:cNvPicPr/>
          <p:nvPr/>
        </p:nvPicPr>
        <p:blipFill>
          <a:blip r:embed="rId1"/>
          <a:stretch/>
        </p:blipFill>
        <p:spPr>
          <a:xfrm>
            <a:off x="285840" y="1357200"/>
            <a:ext cx="8072280" cy="517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5572080" y="3286080"/>
          <a:ext cx="3240000" cy="1381320"/>
        </p:xfrm>
        <a:graphic>
          <a:graphicData uri="http://schemas.openxmlformats.org/drawingml/2006/table">
            <a:tbl>
              <a:tblPr/>
              <a:tblGrid>
                <a:gridCol w="809640"/>
                <a:gridCol w="809640"/>
                <a:gridCol w="811080"/>
                <a:gridCol w="8096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小學家長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中學家長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整體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平均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2.9</a:t>
                      </a: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1.7</a:t>
                      </a: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2.2</a:t>
                      </a:r>
                      <a:r>
                        <a:rPr b="1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標準誤差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0.09</a:t>
                      </a: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0.07</a:t>
                      </a: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0.06</a:t>
                      </a:r>
                      <a:r>
                        <a:rPr b="1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中位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3.0</a:t>
                      </a: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2.0</a:t>
                      </a: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2.0</a:t>
                      </a:r>
                      <a:r>
                        <a:rPr b="1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基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4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5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標楷體"/>
                        </a:rPr>
                        <a:t>9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joseph</cp:lastModifiedBy>
  <cp:lastPrinted>2001-04-04T10:00:24Z</cp:lastPrinted>
  <dcterms:modified xsi:type="dcterms:W3CDTF">2010-04-21T04:10:12Z</dcterms:modified>
  <cp:revision>1762</cp:revision>
  <dc:subject/>
  <dc:title>無投影片標題</dc:title>
</cp:coreProperties>
</file>