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.jpeg" ContentType="image/jpeg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D99-4BAF-4875-8285-82ACDE9FF3E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A22EFC7A-3F2A-4F29-AC67-C26D55372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1CF7BB96-2F44-4A46-9E46-758D87FE902E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B547DDF8-D562-4BFA-BF41-C68007CBA72C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ACB0-F2FF-4714-B7C4-03427FD2756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94B-A7A1-4030-8D72-BAE00EE17B2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0C14924F-2558-4FBB-8C1D-4C2C773BB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22CA7AD5-CC4E-4D98-B346-E43FAE667BDB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DA6EDD69-1D97-4497-AA63-009137A0EEB6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84BED5F-A2C5-4FC5-9534-26A0A3613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2D77F98D-162E-41AB-9384-A24869082BFF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5AF827D0-FAF3-49E0-A734-9DC2D287B1BB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65AD06E9-B905-43B8-AADF-B987189FC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13608B38-55AB-43CD-9929-6F668D01DAB6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B050A365-0B92-4E75-9348-496C959C18E4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15CD733B-563C-4DAA-8FE0-77FA2E461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30415469-342F-495C-9C76-AD0FDED18C6F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98734910-FCCB-4702-80DC-FABE3B886836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0CCB3D41-B7AD-4EB5-A5B6-83D925A7E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A8E481CF-EEA0-4023-8DA5-9A1B271D62D4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E47B9025-A0B4-4136-BBD3-E3BA59FAB1D6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5C1C4097-265F-409F-AC49-AB76992A4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BD041BB6-DE65-43C0-9BA1-9EB67492C07E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365FBAB0-8C67-4171-A263-BB44BBE979BA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6B6BEFE8-79F7-4BA8-87F4-E0C9C0BE6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96C3C1F2-0B90-4B8D-BFCF-B6A84962B12A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72F44742-972D-4865-BA70-3BC64DF1065B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848E3D95-C4D5-473D-9ED0-FA453B70DF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28FBC682-3570-4D0E-9F02-4439D490376B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D8B1A53C-961D-4358-998C-43101E760D29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8543DD7D-4657-48FD-9A59-3932E44DE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4191748A-609F-42E5-A441-01C21E464EF8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83462C47-108A-4CF3-9AF4-A9651C4AB540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973AB4E4-5092-4A1B-A5F3-0429CACCE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2A287BF7-0006-4EF9-BFCC-123BEAA6E85C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D757E3B1-0CEB-424B-8E23-AF5437E1BCDD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EA88A6D1-9232-4364-8BCD-B43A1E5CD8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24A3FCCE-C47C-4237-8176-6FD35A45B135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054161C3-083D-4F8E-9EB8-942370CCE646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0ADE2936-307E-4C99-B7F4-BEC6CECBF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6236EFFB-7913-4CB8-9BDC-91F116E7906D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07F2B389-9C8F-4069-B16D-CDFCE1C46E65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5AFD76EF-D75C-4DFC-B8CF-9B41FE19A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378F16B2-2978-4B7D-B91E-71A9F77EBA2B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2FAA4DE7-475D-465F-882D-951218645859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BBC967C6-C6D3-41BD-BB56-BFB2906222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7B90F9BC-0DD5-4A6E-9B5D-734E2F24D68B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66369CD7-8C39-41F5-A61A-ABAD1FE33262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D757165C-7377-4D03-A328-67626C53B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A8FE8A3C-79C5-4B0A-960C-E86571CC989B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5D3A55B3-6CF1-4C5C-8770-1A3D301FA47F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318B9BA5-82E7-49AC-A23D-7B6CE0F28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D7561C74-16E8-4CF1-9ABF-256D4C676AC7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073CFDE2-3C05-4755-8AA6-AF767E94F00A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0C0AE9C-0F0E-4B11-ADEA-C05CC7206C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DCE08C01-CF0F-4B6A-A0D1-7F5E62F02453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8E827E00-9EE5-44AB-B2E5-FD4126CB475F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1B1F5BA2-BFEC-40AC-92B8-8261CC6F2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0E7C4C58-9B86-4501-9B25-ABD16B9D3B39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DA5074EF-4E7A-49E0-B121-9976CF17BDAA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694-283F-4604-9DC8-FE9C4522007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A3DD946F-4CAF-4C3E-8A6F-677C785AF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5CAD5F86-6FD7-4359-A707-6E8AC70CEE49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4E8513A1-A21F-45A6-B2D3-1B2337131024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A6071671-051D-4F7B-B111-4C6C26BE7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6FAA152C-FC57-48BC-BF3E-7D55537A10BD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67DECD8D-E9AC-4442-80E5-C69066DC6D8A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0E414309-45F7-4CDF-894B-3AFAC52DD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3D2BE07C-C478-4CA2-957A-3B309A8D39E4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1BB06E8A-CA40-4292-BA0B-7F867FF230D6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8266-0C62-4784-B2E4-E53BADCE30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62C-CB6A-4944-B7C1-F778C20ED06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4877-BA02-4E0A-A73A-918CD39CA1E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EE38B872-CB4F-4A34-A9E2-9A9E6B81E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02566A1B-5FDB-4A32-88D1-F6D4FFE89134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8A89EE95-9A98-439B-9BEE-4E31BD3058F9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6DAEF500-3C61-414D-AE91-BD26997B2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81987451-9426-4FE5-80EC-F69BC3482180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73363A5C-9AF0-4122-8528-C3FFAE1E2930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2A5B0D0-F54A-458A-AC37-F7B652933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3D346C3F-AC58-4DFB-9425-38CDC54C3551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6D6937D1-72F2-42D6-99FE-947A11FC5563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756E8C7F-6EB8-4F3B-B193-2AFF53CE1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CB7CA3C8-AD3F-4B3F-AA62-62210950C495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BB82B6B6-D73D-446D-93AF-FF40FB0247EF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829A4DD0-0309-4453-A273-5581981FB6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C1775FDC-63CE-4A07-B803-38300B8C0F61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051D5491-D6E4-4F73-BFF8-FD6EB1078BC1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4:15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24E-569B-4DB3-8810-C9F73B29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A7B-1E93-4B17-8C21-CC00BA6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3A8-88AE-40A8-ACB1-86821D35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4AB-3A4A-40C0-8465-6A6B8FCA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693-A949-4476-88E5-B73DBC93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A93-D13B-4A11-8C23-C653BAC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C94-5F22-4832-A2AA-52ADD20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0DD-20B9-4D1E-AC98-44767238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CA9-F45E-4DF2-8624-9CCBB1EF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B34-3599-450A-9FE6-F66FE37B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95E-9E9C-4DD8-A445-5F3393A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F84-DBF5-4E84-AE1A-BCF887F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92F-B21B-489A-8791-11AC29D67E1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ngb\Desktop\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1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8000"/>
                </a:solidFill>
                <a:latin typeface="Gill Sans MT"/>
                <a:ea typeface="DFKai-SB"/>
              </a:rPr>
              <a:t>香港在職人士頭痛指數</a:t>
            </a:r>
            <a:br>
              <a:rPr sz="4400"/>
            </a:br>
            <a:r>
              <a:rPr b="1" lang="zh-TW" sz="4400" spc="-1" strike="noStrike">
                <a:solidFill>
                  <a:srgbClr val="008000"/>
                </a:solidFill>
                <a:latin typeface="Gill Sans MT"/>
                <a:ea typeface="DFKai-SB"/>
              </a:rPr>
              <a:t>調查結果發布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9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2009</a:t>
            </a:r>
            <a:r>
              <a:rPr b="1" lang="zh-TW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年</a:t>
            </a:r>
            <a:r>
              <a:rPr b="1" lang="en-US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月</a:t>
            </a:r>
            <a:r>
              <a:rPr b="1" lang="en-US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20</a:t>
            </a:r>
            <a:r>
              <a:rPr b="1" lang="zh-TW" sz="3600" spc="-1" strike="noStrike">
                <a:solidFill>
                  <a:srgbClr val="008000"/>
                </a:solidFill>
                <a:latin typeface="Gill Sans MT"/>
                <a:ea typeface="DFKai-SB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圖片 6" descr="DERC logo.jpg"/>
          <p:cNvPicPr/>
          <p:nvPr/>
        </p:nvPicPr>
        <p:blipFill>
          <a:blip r:embed="rId1"/>
          <a:stretch/>
        </p:blipFill>
        <p:spPr>
          <a:xfrm>
            <a:off x="228600" y="304920"/>
            <a:ext cx="4950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內容版面配置區 14"/>
          <p:cNvGraphicFramePr/>
          <p:nvPr/>
        </p:nvGraphicFramePr>
        <p:xfrm>
          <a:off x="868320" y="1630440"/>
          <a:ext cx="65692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內容版面配置區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630440"/>
                    <a:ext cx="65692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"/>
          <p:cNvSpPr/>
          <p:nvPr/>
        </p:nvSpPr>
        <p:spPr>
          <a:xfrm>
            <a:off x="914400" y="380880"/>
            <a:ext cx="716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香港在職女性較男性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患頭痛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0"/>
          <p:cNvSpPr/>
          <p:nvPr/>
        </p:nvSpPr>
        <p:spPr>
          <a:xfrm>
            <a:off x="947880" y="13716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019920" y="4572000"/>
            <a:ext cx="14810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（男）＝</a:t>
            </a:r>
            <a:r>
              <a:rPr b="0" lang="zh-HK" sz="12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FKai-SB"/>
              </a:rPr>
              <a:t>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（女）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FKai-SB"/>
              </a:rPr>
              <a:t>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2"/>
          <p:cNvSpPr/>
          <p:nvPr/>
        </p:nvSpPr>
        <p:spPr>
          <a:xfrm>
            <a:off x="0" y="5929200"/>
            <a:ext cx="364320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與工作有關的憂慮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過去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6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月令你憂慮，並可能引致頭痛的原因</a:t>
            </a:r>
            <a:br>
              <a:rPr sz="2800"/>
            </a:b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選出三項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558840" y="6357960"/>
            <a:ext cx="21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1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最多可選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3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762120" y="144792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7"/>
          <p:cNvSpPr/>
          <p:nvPr/>
        </p:nvSpPr>
        <p:spPr>
          <a:xfrm>
            <a:off x="1295280" y="2133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8"/>
          <p:cNvSpPr/>
          <p:nvPr/>
        </p:nvSpPr>
        <p:spPr>
          <a:xfrm>
            <a:off x="1752480" y="251460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ight Arrow 9"/>
          <p:cNvSpPr/>
          <p:nvPr/>
        </p:nvSpPr>
        <p:spPr>
          <a:xfrm>
            <a:off x="457200" y="36720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10"/>
          <p:cNvSpPr/>
          <p:nvPr/>
        </p:nvSpPr>
        <p:spPr>
          <a:xfrm>
            <a:off x="1714680" y="40006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11"/>
          <p:cNvSpPr/>
          <p:nvPr/>
        </p:nvSpPr>
        <p:spPr>
          <a:xfrm>
            <a:off x="214200" y="628668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172200" y="41911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785880" y="1357200"/>
          <a:ext cx="8064360" cy="50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357200"/>
                    <a:ext cx="806436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762120" y="990720"/>
          <a:ext cx="838188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3818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"/>
          <p:cNvSpPr/>
          <p:nvPr/>
        </p:nvSpPr>
        <p:spPr>
          <a:xfrm>
            <a:off x="642960" y="444600"/>
            <a:ext cx="7791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頭痛惡化人士行業分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0"/>
          <p:cNvSpPr/>
          <p:nvPr/>
        </p:nvSpPr>
        <p:spPr>
          <a:xfrm>
            <a:off x="947880" y="13716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4572000"/>
          <a:ext cx="5643720" cy="2286000"/>
        </p:xfrm>
        <a:graphic>
          <a:graphicData uri="http://schemas.openxmlformats.org/drawingml/2006/table">
            <a:tbl>
              <a:tblPr/>
              <a:tblGrid>
                <a:gridCol w="2610000"/>
                <a:gridCol w="846000"/>
                <a:gridCol w="689040"/>
                <a:gridCol w="793800"/>
                <a:gridCol w="704880"/>
              </a:tblGrid>
              <a:tr h="2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金融海嘯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金融海嘯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indent="-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indent="-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次數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每半年</a:t>
                      </a: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2.2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6.5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持續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57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226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痛楚程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4.4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6.5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"/>
          <p:cNvSpPr/>
          <p:nvPr/>
        </p:nvSpPr>
        <p:spPr>
          <a:xfrm flipV="1" rot="10800000">
            <a:off x="5714640" y="614268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註：頭痛惡化人士總基數 </a:t>
            </a:r>
            <a:r>
              <a:rPr b="0" lang="en-US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= 71 </a:t>
            </a:r>
            <a:r>
              <a:rPr b="0" lang="en-US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，</a:t>
            </a:r>
            <a:r>
              <a:rPr b="0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別項目基數略有不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1676520" y="1500120"/>
          <a:ext cx="7213320" cy="35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00120"/>
                    <a:ext cx="721332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"/>
          <p:cNvSpPr/>
          <p:nvPr/>
        </p:nvSpPr>
        <p:spPr>
          <a:xfrm>
            <a:off x="642960" y="444600"/>
            <a:ext cx="7791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頭痛惡化人士工作地區分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0"/>
          <p:cNvSpPr/>
          <p:nvPr/>
        </p:nvSpPr>
        <p:spPr>
          <a:xfrm>
            <a:off x="947880" y="13716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4572000"/>
          <a:ext cx="4572000" cy="2284560"/>
        </p:xfrm>
        <a:graphic>
          <a:graphicData uri="http://schemas.openxmlformats.org/drawingml/2006/table">
            <a:tbl>
              <a:tblPr/>
              <a:tblGrid>
                <a:gridCol w="2114640"/>
                <a:gridCol w="685800"/>
                <a:gridCol w="557280"/>
                <a:gridCol w="642960"/>
                <a:gridCol w="571320"/>
              </a:tblGrid>
              <a:tr h="2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金融海嘯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金融海嘯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indent="-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indent="-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次數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每半年</a:t>
                      </a: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2.2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6.5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持續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57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226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頭痛惡化人士頭痛</a:t>
                      </a:r>
                      <a:r>
                        <a:rPr b="0" lang="zh-TW" sz="10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痛楚程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4.4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6.5</a:t>
                      </a:r>
                      <a:r>
                        <a:rPr b="0" lang="zh-TW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+/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"/>
          <p:cNvSpPr/>
          <p:nvPr/>
        </p:nvSpPr>
        <p:spPr>
          <a:xfrm>
            <a:off x="5286240" y="6072120"/>
            <a:ext cx="3857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註：頭痛惡化人士總基數 </a:t>
            </a:r>
            <a:r>
              <a:rPr b="0" lang="en-US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= 71 </a:t>
            </a:r>
            <a:r>
              <a:rPr b="0" lang="en-US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，</a:t>
            </a:r>
            <a:r>
              <a:rPr b="0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別項目基數略有不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-152280" y="500040"/>
          <a:ext cx="9296280" cy="66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500040"/>
                    <a:ext cx="929628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</a:t>
            </a:r>
            <a:r>
              <a:rPr b="1" lang="zh-TW" sz="2800" spc="-1" strike="noStrike">
                <a:solidFill>
                  <a:srgbClr val="1f497d"/>
                </a:solidFill>
                <a:latin typeface="Gill Sans MT"/>
                <a:ea typeface="DFKai-SB"/>
              </a:rPr>
              <a:t>頭痛出現的影響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919560" y="609588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3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可選多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762120" y="1295280"/>
            <a:ext cx="769608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2"/>
          <p:cNvGraphicFramePr/>
          <p:nvPr/>
        </p:nvGraphicFramePr>
        <p:xfrm>
          <a:off x="704880" y="1536840"/>
          <a:ext cx="7886520" cy="44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36840"/>
                    <a:ext cx="78865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Gill Sans MT"/>
                <a:ea typeface="DFKai-SB"/>
              </a:rPr>
              <a:t>香港在職人士即時處理頭痛的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6919560" y="617220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5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可選多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31"/>
          <p:cNvSpPr/>
          <p:nvPr/>
        </p:nvSpPr>
        <p:spPr>
          <a:xfrm>
            <a:off x="914400" y="1219320"/>
            <a:ext cx="716292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Gill Sans MT"/>
                <a:ea typeface="DFKai-SB"/>
              </a:rPr>
              <a:t>香港在職人士頭痛出現多久才吃止痛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763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703440" y="1617840"/>
          <a:ext cx="825804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617840"/>
                    <a:ext cx="82580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58920" y="5445000"/>
          <a:ext cx="2808360" cy="963720"/>
        </p:xfrm>
        <a:graphic>
          <a:graphicData uri="http://schemas.openxmlformats.org/drawingml/2006/table">
            <a:tbl>
              <a:tblPr/>
              <a:tblGrid>
                <a:gridCol w="1368360"/>
                <a:gridCol w="14400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29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6.8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基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Line 48"/>
          <p:cNvSpPr/>
          <p:nvPr/>
        </p:nvSpPr>
        <p:spPr>
          <a:xfrm>
            <a:off x="838080" y="1219320"/>
            <a:ext cx="7543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Gill Sans MT"/>
                <a:ea typeface="DFKai-SB"/>
              </a:rPr>
              <a:t>香港在職人士頭痛劇烈程度達至甚麼級別才吃止痛藥</a:t>
            </a:r>
            <a:br>
              <a:rPr sz="2700"/>
            </a:br>
            <a:r>
              <a:rPr b="1" lang="en-US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(1</a:t>
            </a:r>
            <a:r>
              <a:rPr b="1" lang="zh-TW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分代表最輕度，</a:t>
            </a:r>
            <a:r>
              <a:rPr b="1" lang="en-US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5</a:t>
            </a:r>
            <a:r>
              <a:rPr b="1" lang="zh-TW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分為一半半，</a:t>
            </a:r>
            <a:r>
              <a:rPr b="1" lang="en-US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10</a:t>
            </a:r>
            <a:r>
              <a:rPr b="1" lang="zh-TW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為最強烈</a:t>
            </a:r>
            <a:r>
              <a:rPr b="1" lang="en-US" sz="1800" spc="-1" strike="noStrike">
                <a:solidFill>
                  <a:srgbClr val="1f497d"/>
                </a:solidFill>
                <a:latin typeface="Gill Sans MT"/>
                <a:ea typeface="DFKai-S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763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5591160"/>
          <a:ext cx="2808360" cy="963720"/>
        </p:xfrm>
        <a:graphic>
          <a:graphicData uri="http://schemas.openxmlformats.org/drawingml/2006/table">
            <a:tbl>
              <a:tblPr/>
              <a:tblGrid>
                <a:gridCol w="1368360"/>
                <a:gridCol w="14400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6.4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0.10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基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4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Object 2"/>
          <p:cNvGraphicFramePr/>
          <p:nvPr/>
        </p:nvGraphicFramePr>
        <p:xfrm>
          <a:off x="304920" y="1600200"/>
          <a:ext cx="834372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34372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20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香港在職人士選擇止痛藥的考慮因素之重要性</a:t>
            </a:r>
            <a:br>
              <a:rPr sz="2800"/>
            </a:br>
            <a:r>
              <a:rPr b="1" lang="en-US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(0</a:t>
            </a:r>
            <a:r>
              <a:rPr b="1" lang="zh-TW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分代表完全不重要，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5</a:t>
            </a:r>
            <a:r>
              <a:rPr b="1" lang="zh-TW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分為一半半，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10</a:t>
            </a:r>
            <a:r>
              <a:rPr b="1" lang="zh-TW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分代表非常重要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228600" y="1828800"/>
            <a:ext cx="8524800" cy="4038480"/>
            <a:chOff x="228600" y="1828800"/>
            <a:chExt cx="8524800" cy="4038480"/>
          </a:xfrm>
        </p:grpSpPr>
        <p:graphicFrame>
          <p:nvGraphicFramePr>
            <p:cNvPr id="140" name="Object 2"/>
            <p:cNvGraphicFramePr/>
            <p:nvPr/>
          </p:nvGraphicFramePr>
          <p:xfrm>
            <a:off x="228600" y="1828800"/>
            <a:ext cx="8524800" cy="4038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52480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21"/>
            <p:cNvSpPr/>
            <p:nvPr/>
          </p:nvSpPr>
          <p:spPr>
            <a:xfrm>
              <a:off x="914400" y="243828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914400" y="320040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914400" y="388620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4"/>
            <p:cNvSpPr/>
            <p:nvPr/>
          </p:nvSpPr>
          <p:spPr>
            <a:xfrm>
              <a:off x="914400" y="457200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25"/>
          <p:cNvSpPr/>
          <p:nvPr/>
        </p:nvSpPr>
        <p:spPr>
          <a:xfrm>
            <a:off x="838080" y="144792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調查總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714240" y="13572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642960" y="1785960"/>
            <a:ext cx="7858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頭痛屬香港在職人士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常見問題</a:t>
            </a: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，而女性患頭痛的情況較男性略為嚴重。在金融海嘯影晌下，不少在職人士認為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工作層面的憂慮</a:t>
            </a: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會引致頭痛，包括工作量增加、失業、與同事關係和減薪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約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七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分一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在職人士在金融海嘯期間頭痛惡化</a:t>
            </a: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頭痛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次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增加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三成，每次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痛楚時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增加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四成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痛楚程度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增加大約五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該等人士主要從事三種行業，即「保險、金融、投資、財經、房地產、商用服務」、「批發、零售、飲食業、旅遊業」和「進出口貿易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一般在職人士寧願忍痛也不會即時尋求方法治理頭痛。有關人士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可以忍痛超過兩小時，和痛楚程度達到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DFKai-SB"/>
              </a:rPr>
              <a:t>6.5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，才服食止痛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頭痛會導致睡眠質素下降、脾氣暴躁和影晌工作表現。在金融海嘯期間，工作層面的憂慮又可能引致頭痛，成為惡性循環，嚴重影響巿民的生活質素，和整體人力資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1471680" y="609480"/>
          <a:ext cx="1535040" cy="15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609480"/>
                    <a:ext cx="15350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7"/>
          <p:cNvSpPr/>
          <p:nvPr/>
        </p:nvSpPr>
        <p:spPr>
          <a:xfrm>
            <a:off x="3529080" y="8380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DFKai-SB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DFKai-SB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DFKai-SB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090440" y="259092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23960" y="2705040"/>
            <a:ext cx="637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1f497d"/>
                </a:solidFill>
                <a:latin typeface="Gill Sans MT"/>
                <a:ea typeface="DFKai-SB"/>
              </a:rPr>
              <a:t>香港在職人士頭痛指數調查</a:t>
            </a:r>
            <a:r>
              <a:rPr b="1" lang="zh-TW" sz="3400" spc="-1" strike="noStrike">
                <a:solidFill>
                  <a:srgbClr val="000000"/>
                </a:solidFill>
                <a:latin typeface="Gill Sans MT"/>
                <a:ea typeface="DFKai-SB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1090440" y="38862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785880" y="3809880"/>
            <a:ext cx="784836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DFKai-SB"/>
                <a:ea typeface="DFKai-SB"/>
              </a:rPr>
              <a:t>港大民意研究計劃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1f497d"/>
                </a:solidFill>
                <a:latin typeface="DFKai-SB"/>
                <a:ea typeface="DFKai-SB"/>
              </a:rPr>
              <a:t>鍾庭耀博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1f497d"/>
                </a:solidFill>
                <a:latin typeface="DFKai-SB"/>
                <a:ea typeface="DFKai-SB"/>
              </a:rPr>
              <a:t>本報告內一切內容與香港大學立場無關，內容由民意研究計劃總監鍾庭耀博士負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857160" y="2857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f497d"/>
                </a:solidFill>
                <a:latin typeface="Times New Roman"/>
                <a:ea typeface="DFKai-SB"/>
              </a:rPr>
              <a:t>被訪者個人背景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性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781200" y="1123920"/>
          <a:ext cx="834372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123920"/>
                    <a:ext cx="8343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Line 13"/>
          <p:cNvSpPr/>
          <p:nvPr/>
        </p:nvSpPr>
        <p:spPr>
          <a:xfrm>
            <a:off x="121932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552600" y="1276200"/>
          <a:ext cx="834372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276200"/>
                    <a:ext cx="8343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Line 8"/>
          <p:cNvSpPr/>
          <p:nvPr/>
        </p:nvSpPr>
        <p:spPr>
          <a:xfrm>
            <a:off x="114300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教育程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376200" y="1630440"/>
          <a:ext cx="834408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630440"/>
                    <a:ext cx="834408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ine 8"/>
          <p:cNvSpPr/>
          <p:nvPr/>
        </p:nvSpPr>
        <p:spPr>
          <a:xfrm>
            <a:off x="129528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職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701640" y="1428840"/>
          <a:ext cx="82393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428840"/>
                    <a:ext cx="82393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7"/>
          <p:cNvSpPr/>
          <p:nvPr/>
        </p:nvSpPr>
        <p:spPr>
          <a:xfrm>
            <a:off x="121932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從事行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169920" y="1504800"/>
          <a:ext cx="8524800" cy="43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504800"/>
                    <a:ext cx="85248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7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工作地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566480" y="632448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90720" y="1219320"/>
          <a:ext cx="7162560" cy="4830480"/>
        </p:xfrm>
        <a:graphic>
          <a:graphicData uri="http://schemas.openxmlformats.org/drawingml/2006/table">
            <a:tbl>
              <a:tblPr/>
              <a:tblGrid>
                <a:gridCol w="1218960"/>
                <a:gridCol w="914400"/>
                <a:gridCol w="228600"/>
                <a:gridCol w="1143000"/>
                <a:gridCol w="1067040"/>
                <a:gridCol w="228600"/>
                <a:gridCol w="1143000"/>
                <a:gridCol w="121896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灣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九龍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離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2.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東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7.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旺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3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荃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3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中西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10.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深水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葵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南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2.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油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7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屯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香港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26.0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九龍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21.7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元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3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新界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9.4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工作地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百分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觀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10.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西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2.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無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2.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黃大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2.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沙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5.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內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1.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九龍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2.9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北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4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²Ó©úÅé"/>
                          <a:ea typeface="DFKai-SB"/>
                        </a:rPr>
                        <a:t>大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3.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Gill Sans MT"/>
                          <a:ea typeface="DFKai-SB"/>
                        </a:rPr>
                        <a:t>新界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5.3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微軟正黑體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Line 512"/>
          <p:cNvSpPr/>
          <p:nvPr/>
        </p:nvSpPr>
        <p:spPr>
          <a:xfrm>
            <a:off x="914400" y="990720"/>
            <a:ext cx="73152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婚姻狀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-58680" y="1581120"/>
          <a:ext cx="85248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680" y="1581120"/>
                    <a:ext cx="8524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Line 7"/>
          <p:cNvSpPr/>
          <p:nvPr/>
        </p:nvSpPr>
        <p:spPr>
          <a:xfrm>
            <a:off x="121932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子女數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98520" y="1733400"/>
          <a:ext cx="85248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733400"/>
                    <a:ext cx="8524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Line 7"/>
          <p:cNvSpPr/>
          <p:nvPr/>
        </p:nvSpPr>
        <p:spPr>
          <a:xfrm>
            <a:off x="129528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每月個人收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7547400" y="6021360"/>
            <a:ext cx="10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69920" y="1733400"/>
          <a:ext cx="85248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733400"/>
                    <a:ext cx="8524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7"/>
          <p:cNvSpPr/>
          <p:nvPr/>
        </p:nvSpPr>
        <p:spPr>
          <a:xfrm>
            <a:off x="129528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497d"/>
                </a:solidFill>
                <a:latin typeface="DFKai-SB"/>
                <a:ea typeface="DFKai-SB"/>
              </a:rPr>
              <a:t>簡報大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600200" y="14479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002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DFKai-SB"/>
                <a:ea typeface="DFKai-SB"/>
              </a:rPr>
              <a:t>研究背景及調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DFKai-SB"/>
                <a:ea typeface="DFKai-SB"/>
              </a:rPr>
              <a:t>調查結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DFKai-SB"/>
                <a:ea typeface="DFKai-SB"/>
              </a:rPr>
              <a:t>受訪者</a:t>
            </a:r>
            <a:r>
              <a:rPr b="1" lang="zh-TW" sz="3000" spc="-1" strike="noStrike">
                <a:solidFill>
                  <a:srgbClr val="1f497d"/>
                </a:solidFill>
                <a:latin typeface="PMingLiU"/>
                <a:ea typeface="DFKai-SB"/>
              </a:rPr>
              <a:t>頭痛的情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PMingLiU"/>
                <a:ea typeface="DFKai-SB"/>
              </a:rPr>
              <a:t>頭痛對</a:t>
            </a:r>
            <a:r>
              <a:rPr b="1" lang="zh-TW" sz="3000" spc="-1" strike="noStrike">
                <a:solidFill>
                  <a:srgbClr val="1f497d"/>
                </a:solidFill>
                <a:latin typeface="DFKai-SB"/>
                <a:ea typeface="DFKai-SB"/>
              </a:rPr>
              <a:t>受訪者</a:t>
            </a:r>
            <a:r>
              <a:rPr b="1" lang="zh-TW" sz="3000" spc="-1" strike="noStrike">
                <a:solidFill>
                  <a:srgbClr val="1f497d"/>
                </a:solidFill>
                <a:latin typeface="PMingLiU"/>
                <a:ea typeface="DFKai-SB"/>
              </a:rPr>
              <a:t>帶來的影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DFKai-SB"/>
                <a:ea typeface="DFKai-SB"/>
              </a:rPr>
              <a:t>受訪</a:t>
            </a:r>
            <a:r>
              <a:rPr b="1" lang="zh-TW" sz="3000" spc="-1" strike="noStrike">
                <a:solidFill>
                  <a:srgbClr val="1f497d"/>
                </a:solidFill>
                <a:latin typeface="PMingLiU"/>
                <a:ea typeface="DFKai-SB"/>
              </a:rPr>
              <a:t>者的處理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DFKai-SB"/>
                <a:ea typeface="DFKai-SB"/>
              </a:rPr>
              <a:t>簡單總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2071800" y="25002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Times New Roman"/>
                <a:ea typeface="DFKai-SB"/>
              </a:rPr>
              <a:t>詳細報告結果，請瀏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DFKai-SB"/>
              </a:rPr>
              <a:t>http://hkupop.hku.h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171440" y="259092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57400" y="271476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1f497d"/>
                </a:solidFill>
                <a:latin typeface="Gill Sans MT"/>
                <a:ea typeface="DFKai-SB"/>
              </a:rPr>
              <a:t>頭痛知多少</a:t>
            </a:r>
            <a:r>
              <a:rPr b="1" lang="en-US" sz="3400" spc="-1" strike="noStrike">
                <a:solidFill>
                  <a:srgbClr val="1f497d"/>
                </a:solidFill>
                <a:latin typeface="Gill Sans MT"/>
                <a:ea typeface="DFKai-SB"/>
              </a:rPr>
              <a:t>?</a:t>
            </a:r>
            <a:r>
              <a:rPr b="1" lang="zh-TW" sz="3400" spc="-1" strike="noStrike">
                <a:solidFill>
                  <a:srgbClr val="000000"/>
                </a:solidFill>
                <a:latin typeface="Gill Sans MT"/>
                <a:ea typeface="DFKai-SB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1171440" y="38862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866880" y="3809880"/>
            <a:ext cx="7848360" cy="23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DFKai-SB"/>
                <a:ea typeface="DFKai-SB"/>
              </a:rPr>
              <a:t>家庭醫學專科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DFKai-SB"/>
                <a:ea typeface="DFKai-SB"/>
              </a:rPr>
              <a:t>李宏逸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  <a:ea typeface="DFKai-SB"/>
              </a:rPr>
              <a:t>MBChB (CUHK), FHKCFP, FRACGP, FHKAM (Family Medicine), DFM (HKCFP), Grad Dip (Derm), NUS, PGDipMSM (Ot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壓力性頭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因肌肉過分繃緊所而引起的隱隱作痛或壓力性的痛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頭痛的位置為整個頭部，延至頭皮、太陽穴或頸背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病源與緊張、抑鬱及焦慮有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DFKai-SB"/>
                <a:ea typeface="DFKai-SB"/>
              </a:rPr>
              <a:t>可能為個別事件，或經常甚至每日出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4400" y="274320"/>
            <a:ext cx="915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最常見的頭痛種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1128600" y="1219320"/>
            <a:ext cx="763272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可能導致頭痛的憂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5"/>
          <p:cNvSpPr/>
          <p:nvPr/>
        </p:nvSpPr>
        <p:spPr>
          <a:xfrm>
            <a:off x="914400" y="11430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4"/>
          <p:cNvSpPr/>
          <p:nvPr/>
        </p:nvSpPr>
        <p:spPr>
          <a:xfrm>
            <a:off x="285840" y="6143760"/>
            <a:ext cx="83581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憂慮是頭痛的主因，在金融海嘯影晌下，</a:t>
            </a:r>
            <a:r>
              <a:rPr b="0" lang="en-US" sz="1800" spc="-1" strike="noStrike">
                <a:solidFill>
                  <a:srgbClr val="000000"/>
                </a:solidFill>
                <a:latin typeface="DFKai-SB"/>
                <a:ea typeface="DFKai-SB"/>
              </a:rPr>
              <a:t>62%</a:t>
            </a: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香港上班族與工作有關的憂慮（包括：工作量增加、失業、與同事或上司有衝突、減薪）都為主要誘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357120" y="1071720"/>
          <a:ext cx="8064720" cy="50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071720"/>
                    <a:ext cx="806472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4"/>
          <p:cNvSpPr/>
          <p:nvPr/>
        </p:nvSpPr>
        <p:spPr>
          <a:xfrm>
            <a:off x="6416280" y="5072040"/>
            <a:ext cx="21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501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最多可選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3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ight Arrow 11"/>
          <p:cNvSpPr/>
          <p:nvPr/>
        </p:nvSpPr>
        <p:spPr>
          <a:xfrm>
            <a:off x="928800" y="200016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11"/>
          <p:cNvSpPr/>
          <p:nvPr/>
        </p:nvSpPr>
        <p:spPr>
          <a:xfrm>
            <a:off x="1285920" y="235728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ight Arrow 11"/>
          <p:cNvSpPr/>
          <p:nvPr/>
        </p:nvSpPr>
        <p:spPr>
          <a:xfrm>
            <a:off x="214200" y="3357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11"/>
          <p:cNvSpPr/>
          <p:nvPr/>
        </p:nvSpPr>
        <p:spPr>
          <a:xfrm>
            <a:off x="1357200" y="371484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12"/>
          <p:cNvSpPr/>
          <p:nvPr/>
        </p:nvSpPr>
        <p:spPr>
          <a:xfrm>
            <a:off x="0" y="5357880"/>
            <a:ext cx="15717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FKai-SB"/>
                <a:ea typeface="DFKai-SB"/>
              </a:rPr>
              <a:t>      </a:t>
            </a:r>
            <a:r>
              <a:rPr b="0" lang="zh-TW" sz="1200" spc="-1" strike="noStrike">
                <a:solidFill>
                  <a:srgbClr val="000000"/>
                </a:solidFill>
                <a:latin typeface="DFKai-SB"/>
                <a:ea typeface="DFKai-SB"/>
              </a:rPr>
              <a:t>與工作有關   的憂慮因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ight Arrow 11"/>
          <p:cNvSpPr/>
          <p:nvPr/>
        </p:nvSpPr>
        <p:spPr>
          <a:xfrm>
            <a:off x="214200" y="557208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心理因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焦慮及緊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抑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生理因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荷爾蒙的轉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睡眠習慣（熟睡 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睡眠過長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過度疲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社會因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壓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頭痛的誘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ject 2" descr=""/>
          <p:cNvPicPr/>
          <p:nvPr/>
        </p:nvPicPr>
        <p:blipFill>
          <a:blip r:embed="rId1"/>
          <a:stretch/>
        </p:blipFill>
        <p:spPr>
          <a:xfrm>
            <a:off x="152280" y="714240"/>
            <a:ext cx="8293320" cy="5991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頭痛的影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762120" y="11430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285840" y="5929200"/>
            <a:ext cx="83581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DFKai-SB"/>
                <a:ea typeface="DFKai-SB"/>
              </a:rPr>
              <a:t>五大頭痛的影響包括生理方面（失眠或睡眠質素下降）、心理方面（脾氣變壞、情緒低落）及社會性影響（無法專心工作令效率下降、思路紊亂令工作容易出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DFKai-SB"/>
                <a:ea typeface="DFKai-SB"/>
              </a:rPr>
              <a:t>生理和心理的影響同時會增加整體工作表現的負面影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DFKai-SB"/>
                <a:ea typeface="DFKai-SB"/>
              </a:rPr>
              <a:t>社會性影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DFKai-SB"/>
                <a:ea typeface="DFKai-SB"/>
              </a:rPr>
              <a:t>影響工作表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DFKai-SB"/>
                <a:ea typeface="DFKai-SB"/>
              </a:rPr>
              <a:t>需要請病假及工作效率下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DFKai-SB"/>
              </a:rPr>
              <a:t>陣發性壓力性頭痛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DFKai-SB"/>
              </a:rPr>
              <a:t>[1]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患者平均每年請病假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8.9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患者平均每年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5.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天工作效率下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DFKai-SB"/>
              </a:rPr>
              <a:t>慢性壓力性頭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患者平均每年請病假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27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患者平均每年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20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DFKai-SB"/>
              </a:rPr>
              <a:t>天工作效率下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DFKai-SB"/>
                <a:ea typeface="DFKai-SB"/>
              </a:rPr>
              <a:t>影響社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沒有適當治理頭痛的後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生理影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影響睡眠質素或導致失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心理影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抑鬱、情緒低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沒有適當治理頭痛的後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8"/>
          <p:cNvSpPr/>
          <p:nvPr/>
        </p:nvSpPr>
        <p:spPr>
          <a:xfrm>
            <a:off x="804960" y="259092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790560" y="271476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1f497d"/>
                </a:solidFill>
                <a:latin typeface="Gill Sans MT"/>
                <a:ea typeface="DFKai-SB"/>
              </a:rPr>
              <a:t>頭痛治理的迷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804960" y="38862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500040" y="3809880"/>
            <a:ext cx="78487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DFKai-SB"/>
                <a:ea typeface="DFKai-SB"/>
              </a:rPr>
              <a:t>香港醫院藥劑師學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DFKai-SB"/>
                <a:ea typeface="DFKai-SB"/>
              </a:rPr>
              <a:t>藥物教育資源中心教育總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DFKai-SB"/>
                <a:ea typeface="DFKai-SB"/>
              </a:rPr>
              <a:t>崔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  <a:ea typeface="DFKai-SB"/>
              </a:rPr>
              <a:t>B. Pharm (Hons), MSc, MRPS, Fellow (HKCH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圖片 6" descr="DERC logo.jpg"/>
          <p:cNvPicPr/>
          <p:nvPr/>
        </p:nvPicPr>
        <p:blipFill>
          <a:blip r:embed="rId1"/>
          <a:stretch/>
        </p:blipFill>
        <p:spPr>
          <a:xfrm>
            <a:off x="357120" y="357120"/>
            <a:ext cx="4950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忍痛能耐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303120" y="2133720"/>
          <a:ext cx="4591080" cy="199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2133720"/>
                    <a:ext cx="45910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ounded Rectangle 4"/>
          <p:cNvSpPr/>
          <p:nvPr/>
        </p:nvSpPr>
        <p:spPr>
          <a:xfrm>
            <a:off x="4786200" y="1714680"/>
            <a:ext cx="35719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9%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會最少忍痛</a:t>
            </a:r>
            <a:r>
              <a:rPr b="0" lang="en-US" sz="1400" spc="-1" strike="noStrike">
                <a:solidFill>
                  <a:srgbClr val="000000"/>
                </a:solidFill>
                <a:latin typeface="DFKai-SB"/>
                <a:ea typeface="DFKai-SB"/>
              </a:rPr>
              <a:t>1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小時以上才治理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3%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更會忍受頭痛長達</a:t>
            </a:r>
            <a:r>
              <a:rPr b="0" lang="en-US" sz="1400" spc="-1" strike="noStrike">
                <a:solidFill>
                  <a:srgbClr val="000000"/>
                </a:solidFill>
                <a:latin typeface="DFKai-SB"/>
                <a:ea typeface="DFKai-SB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小時以上才治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%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完全不會尋求治理頭痛的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2"/>
          <p:cNvGraphicFramePr/>
          <p:nvPr/>
        </p:nvGraphicFramePr>
        <p:xfrm>
          <a:off x="4214880" y="4148280"/>
          <a:ext cx="4714920" cy="246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4880" y="4148280"/>
                    <a:ext cx="471492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Box 6"/>
          <p:cNvSpPr/>
          <p:nvPr/>
        </p:nvSpPr>
        <p:spPr>
          <a:xfrm>
            <a:off x="1214280" y="1571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忍痛多久才吃止痛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5214960" y="3714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痛楚程度達多高才吃止痛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8"/>
          <p:cNvSpPr/>
          <p:nvPr/>
        </p:nvSpPr>
        <p:spPr>
          <a:xfrm>
            <a:off x="357120" y="4786200"/>
            <a:ext cx="39769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近八成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78%)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會忍痛達</a:t>
            </a:r>
            <a:r>
              <a:rPr b="0" lang="en-US" sz="14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級或以上才治理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近三成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9%)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更會忍痛達</a:t>
            </a:r>
            <a:r>
              <a:rPr b="0" lang="en-US" sz="1400" spc="-1" strike="noStrike">
                <a:solidFill>
                  <a:srgbClr val="000000"/>
                </a:solidFill>
                <a:latin typeface="DFKai-SB"/>
                <a:ea typeface="DFKai-SB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級或以上</a:t>
            </a:r>
            <a:r>
              <a:rPr b="0" lang="zh-TW" sz="1400" spc="-1" strike="noStrike">
                <a:solidFill>
                  <a:srgbClr val="000000"/>
                </a:solidFill>
                <a:latin typeface="DFKai-SB"/>
                <a:ea typeface="DFKai-SB"/>
              </a:rPr>
              <a:t>才治理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0" y="6000840"/>
            <a:ext cx="157176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2060"/>
                </a:solidFill>
                <a:uFillTx/>
                <a:latin typeface="DFKai-SB"/>
                <a:ea typeface="DFKai-SB"/>
              </a:rPr>
              <a:t>加拿大平均數據比較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DFKai-SB"/>
                <a:ea typeface="DFKai-SB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忍痛時間：約</a:t>
            </a:r>
            <a:r>
              <a:rPr b="0" lang="en-US" sz="1200" spc="-1" strike="noStrike">
                <a:solidFill>
                  <a:srgbClr val="002060"/>
                </a:solidFill>
                <a:latin typeface="DFKai-SB"/>
                <a:ea typeface="DFKai-SB"/>
              </a:rPr>
              <a:t>1</a:t>
            </a: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小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忍痛級數：</a:t>
            </a:r>
            <a:r>
              <a:rPr b="0" lang="en-US" sz="1200" spc="-1" strike="noStrike">
                <a:solidFill>
                  <a:srgbClr val="002060"/>
                </a:solidFill>
                <a:latin typeface="DFKai-SB"/>
                <a:ea typeface="DFKai-SB"/>
              </a:rPr>
              <a:t>5.2</a:t>
            </a: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1571760" y="6000840"/>
            <a:ext cx="157140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060"/>
                </a:solidFill>
                <a:uFillTx/>
                <a:latin typeface="DFKai-SB"/>
                <a:ea typeface="DFKai-SB"/>
              </a:rPr>
              <a:t>香港</a:t>
            </a:r>
            <a:r>
              <a:rPr b="0" lang="zh-TW" sz="1200" spc="-1" strike="noStrike" u="sng">
                <a:solidFill>
                  <a:srgbClr val="002060"/>
                </a:solidFill>
                <a:uFillTx/>
                <a:latin typeface="DFKai-SB"/>
                <a:ea typeface="DFKai-SB"/>
              </a:rPr>
              <a:t>平均數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忍痛時間：</a:t>
            </a:r>
            <a:r>
              <a:rPr b="0" lang="zh-CN" sz="1200" spc="-1" strike="noStrike">
                <a:solidFill>
                  <a:srgbClr val="002060"/>
                </a:solidFill>
                <a:latin typeface="DFKai-SB"/>
                <a:ea typeface="DFKai-SB"/>
              </a:rPr>
              <a:t>逾</a:t>
            </a:r>
            <a:r>
              <a:rPr b="0" lang="en-US" sz="1200" spc="-1" strike="noStrike">
                <a:solidFill>
                  <a:srgbClr val="002060"/>
                </a:solidFill>
                <a:latin typeface="DFKai-SB"/>
                <a:ea typeface="DFKai-SB"/>
              </a:rPr>
              <a:t>2</a:t>
            </a: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小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忍痛級數：</a:t>
            </a:r>
            <a:r>
              <a:rPr b="0" lang="en-US" sz="1200" spc="-1" strike="noStrike">
                <a:solidFill>
                  <a:srgbClr val="002060"/>
                </a:solidFill>
                <a:latin typeface="DFKai-SB"/>
                <a:ea typeface="DFKai-SB"/>
              </a:rPr>
              <a:t>6.5</a:t>
            </a:r>
            <a:r>
              <a:rPr b="0" lang="zh-TW" sz="1200" spc="-1" strike="noStrike">
                <a:solidFill>
                  <a:srgbClr val="002060"/>
                </a:solidFill>
                <a:latin typeface="DFKai-SB"/>
                <a:ea typeface="DFKai-SB"/>
              </a:rPr>
              <a:t>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1f497d"/>
                </a:solidFill>
                <a:latin typeface="DFKai-SB"/>
                <a:ea typeface="DFKai-SB"/>
              </a:rPr>
              <a:t>樣本資料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051"/>
          <p:cNvSpPr/>
          <p:nvPr/>
        </p:nvSpPr>
        <p:spPr>
          <a:xfrm>
            <a:off x="928800" y="1643040"/>
            <a:ext cx="7543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53"/>
          <p:cNvSpPr/>
          <p:nvPr/>
        </p:nvSpPr>
        <p:spPr>
          <a:xfrm>
            <a:off x="928800" y="2000160"/>
            <a:ext cx="75294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訪問日期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2009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3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至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11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訪問對象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 年齡介乎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3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至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49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歲，操粵語的本港在職人士，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及經歷頭痛人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調查方法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 由訪問員直接進行電話訪問，訪問員在成功接       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觸目標住戶後，再從住戶內找出符合條件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接受訪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樣本數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505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成功個案（另有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66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沒有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經歷頭痛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在職人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有效回應比率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73.0% </a:t>
            </a:r>
            <a:r>
              <a:rPr b="1" lang="zh-TW" sz="2000" spc="-1" strike="noStrike">
                <a:solidFill>
                  <a:srgbClr val="1f497d"/>
                </a:solidFill>
                <a:latin typeface="DFKai-SB"/>
                <a:ea typeface="DFKai-SB"/>
              </a:rPr>
              <a:t>(</a:t>
            </a:r>
            <a:r>
              <a:rPr b="1" lang="zh-TW" sz="2000" spc="-1" strike="noStrike">
                <a:solidFill>
                  <a:srgbClr val="1f497d"/>
                </a:solidFill>
                <a:latin typeface="DFKai-SB"/>
                <a:ea typeface="DFKai-SB"/>
              </a:rPr>
              <a:t>以符合資格的目標對象計算</a:t>
            </a:r>
            <a:r>
              <a:rPr b="1" lang="zh-TW" sz="2000" spc="-1" strike="noStrike">
                <a:solidFill>
                  <a:srgbClr val="1f497d"/>
                </a:solidFill>
                <a:latin typeface="DFKai-SB"/>
                <a:ea typeface="DFKai-SB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抽樣誤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： 少於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+/- 2.2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，亦即在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95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置信水平下，各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百分比的抽樣誤差為少於正負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4.4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個百分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DFKai-SB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DFKai-SB"/>
                <a:ea typeface="DFKai-SB"/>
              </a:rPr>
              <a:t>非藥物治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休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運動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改變生活模式（減壓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學習放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按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DFKai-SB"/>
                <a:ea typeface="DFKai-SB"/>
              </a:rPr>
              <a:t>藥物治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服用市面上流行的非處方止痛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Paracetamol 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DFKai-SB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如何治理頭痛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Gill Sans MT"/>
                <a:ea typeface="DFKai-SB"/>
              </a:rPr>
              <a:t>即時治理頭痛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031"/>
          <p:cNvSpPr/>
          <p:nvPr/>
        </p:nvSpPr>
        <p:spPr>
          <a:xfrm>
            <a:off x="1143000" y="121932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4"/>
          <p:cNvSpPr/>
          <p:nvPr/>
        </p:nvSpPr>
        <p:spPr>
          <a:xfrm>
            <a:off x="1714680" y="5929200"/>
            <a:ext cx="64292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8%</a:t>
            </a: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會自行服食止痛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8%</a:t>
            </a: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會以休息或睡覺試圖治理頭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如何選擇止痛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10"/>
          <p:cNvGrpSpPr/>
          <p:nvPr/>
        </p:nvGrpSpPr>
        <p:grpSpPr>
          <a:xfrm>
            <a:off x="357120" y="1600200"/>
            <a:ext cx="8559720" cy="4152960"/>
            <a:chOff x="357120" y="1600200"/>
            <a:chExt cx="8559720" cy="4152960"/>
          </a:xfrm>
        </p:grpSpPr>
        <p:pic>
          <p:nvPicPr>
            <p:cNvPr id="254" name="Object 2" descr=""/>
            <p:cNvPicPr/>
            <p:nvPr/>
          </p:nvPicPr>
          <p:blipFill>
            <a:blip r:embed="rId1"/>
            <a:stretch/>
          </p:blipFill>
          <p:spPr>
            <a:xfrm>
              <a:off x="357120" y="1600200"/>
              <a:ext cx="85597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21"/>
            <p:cNvSpPr/>
            <p:nvPr/>
          </p:nvSpPr>
          <p:spPr>
            <a:xfrm>
              <a:off x="571680" y="228600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571680" y="307188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571680" y="385776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571680" y="4572000"/>
              <a:ext cx="12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基數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: 48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>
            <a:off x="800280" y="144792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8"/>
          <p:cNvSpPr/>
          <p:nvPr/>
        </p:nvSpPr>
        <p:spPr>
          <a:xfrm>
            <a:off x="1714680" y="5929200"/>
            <a:ext cx="650052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DFKai-SB"/>
                <a:ea typeface="DFKai-SB"/>
              </a:rPr>
              <a:t>安全性及治療效果為選擇止痛藥的主要考慮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迷思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止痛藥會殘留體內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事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以市面上最常用的止痛藥主要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Paracetamol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）為例，它發揮藥效後， 會經尿液自然排出體外，並不會積聚於體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大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97%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100%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Paracetamol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）會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小時內自然排出體外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所有成分最終會全部自然排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止痛藥之迷思與真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迷思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止痛藥會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食純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事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一般止痛藥成藥屬非鴉片類止痛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以市面上最常用的止痛藥主要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FKai-SB"/>
              </a:rPr>
              <a:t>Paracetamol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為例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即使長期使用，止痛效果也不會減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在沒有加藥的情況下，止痛藥依然能發揮持久的止痛效果 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止痛藥之迷思與真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迷思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止痛藥會傷腸胃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事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市面上最常用的止痛藥主要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 Paracetamol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），安全性甚高，不會傷害腸胃，而且可以空肚服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但其他非類固醇消炎止痛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NSAIDs﹞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，例如阿士匹靈，容易傷害胃部，最好餐後才服食，如本身有胃部不適，更不宜服用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止痛藥之迷思與真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迷思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止痛藥對肝腎有影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事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以市面上最常用的止痛藥主要成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Acetaminophen / Paracetam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（撲熱息痛）為例，如果本身沒有肝病或者腎病，一般人只要按照指示劑量服用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etaminop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 / Paracetam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（撲熱息痛）是不會對肝或腎造成影響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急性腎衰竭與服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etaminop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 / Paracetam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（撲熱息痛）沒有連帶關係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沒有證據顯示每天服用建議劑量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etaminop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 / Paracetam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（撲熱息痛）對肝臟有影響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DFKai-SB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FKai-SB"/>
              </a:rPr>
              <a:t>[6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止痛藥之迷思與真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若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按照指示劑量服用，市面上常用的止痛藥是安全和有效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taminop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/ Paracetamol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撲熱息痛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）成分過敏的人士，應諮詢醫生或藥劑師意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切忌服藥過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安全使用</a:t>
            </a:r>
            <a:r>
              <a:rPr b="1" lang="zh-CN" sz="3600" spc="-1" strike="noStrike">
                <a:solidFill>
                  <a:srgbClr val="1f497d"/>
                </a:solidFill>
                <a:latin typeface="Times New Roman"/>
                <a:ea typeface="DFKai-SB"/>
              </a:rPr>
              <a:t>止痛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f497d"/>
                </a:solidFill>
                <a:latin typeface="DFKai-SB"/>
                <a:ea typeface="DFKai-SB"/>
              </a:rPr>
              <a:t>結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頭痛屬香港在職人士常見問題</a:t>
            </a: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而頭痛對工作</a:t>
            </a: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生理及心理都會造成不良影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港人忍痛情況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嚴重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而忍痛的後果在工作層面與誘因造成惡性循環，因此必須適時治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市民可以非藥物或藥物治理頭痛</a:t>
            </a: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及應加深對市面上不同止痛藥的了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2428920" y="2214720"/>
            <a:ext cx="4495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800" spc="-1" strike="noStrike">
                <a:solidFill>
                  <a:srgbClr val="1f497d"/>
                </a:solidFill>
                <a:latin typeface="DFKai-SB"/>
                <a:ea typeface="DFKai-SB"/>
              </a:rPr>
              <a:t>報 告 完 畢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857160" y="2857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1f497d"/>
                </a:solidFill>
                <a:latin typeface="DFKai-SB"/>
                <a:ea typeface="DFKai-SB"/>
              </a:rPr>
              <a:t>調查結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Calibri"/>
              </a:rPr>
              <a:t>參考資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1] Schwartz BS, Stewart WF, Simon D, Lipton RB. Epidemiology of Tension-Type Headache. JAMA. 1998; 279(5): 381-38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2] SP Forward, PJ McGrath, D Mackinnon, TL Brown, J Swann, EL Currie, Departments of Psychology and Occupational Therapy, Dalhousie University, Halifax, Nova Scotia, Canada; McNeil Consumer Products, Guelph, Ontario, Canada, Medication patterns of recurrent headache sufferers: a community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3] Parfitt K, editor, Martindale. The Complete Drug Reference – Monographs. The pharmaceutical Press,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4] Temple A.R., Benson G.D., Zinsenheim J.R., Schweiniw J.E. Multicenter, randomized, double-blind, active-controlled, parallel-group trial of the long term (6-12 months) safety of acetaminophen in adult patients with osteoarthritis. Clin Ther. 2006 Feb, 28(2):222-3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5] Graham G.G., Scott K.F. and Day R.O. Tolerability of Paracetamol. Drug Safety 2005; 28 (3): 227-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6] Kuffner EK, Dart RC, Bogdan GM, Hill RE, Casper E and Darton L. Effect of Maximal Daily Doses of Acetaminophen on the Liver of Alcoholic Patients: A  Randomized, Double-blind, Placebo-Controlled Trial. Arch Intern Med. 2001(161):2247-225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14400" y="2438280"/>
          <a:ext cx="7015320" cy="2514600"/>
        </p:xfrm>
        <a:graphic>
          <a:graphicData uri="http://schemas.openxmlformats.org/drawingml/2006/table">
            <a:tbl>
              <a:tblPr/>
              <a:tblGrid>
                <a:gridCol w="3646440"/>
                <a:gridCol w="3368880"/>
              </a:tblGrid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一般人士頭痛</a:t>
                      </a:r>
                      <a:r>
                        <a:rPr b="0" lang="zh-TW" sz="18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次數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6.9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半年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每半年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至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8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一般人士頭痛</a:t>
                      </a:r>
                      <a:r>
                        <a:rPr b="0" lang="zh-TW" sz="18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持續時間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61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每次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50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至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170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一般人士頭痛</a:t>
                      </a:r>
                      <a:r>
                        <a:rPr b="0" lang="zh-TW" sz="1800" spc="-1" strike="noStrike" u="sng">
                          <a:solidFill>
                            <a:srgbClr val="1f497d"/>
                          </a:solidFill>
                          <a:uFillTx/>
                          <a:latin typeface="Times New Roman"/>
                          <a:ea typeface="DFKai-SB"/>
                        </a:rPr>
                        <a:t>痛楚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4.3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4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至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4</a:t>
                      </a:r>
                      <a:r>
                        <a:rPr b="0" lang="zh-TW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分半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2"/>
          <p:cNvSpPr/>
          <p:nvPr/>
        </p:nvSpPr>
        <p:spPr>
          <a:xfrm>
            <a:off x="642960" y="444600"/>
            <a:ext cx="7791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下，香港在職人士三大頭痛指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0"/>
          <p:cNvSpPr/>
          <p:nvPr/>
        </p:nvSpPr>
        <p:spPr>
          <a:xfrm>
            <a:off x="762120" y="1371600"/>
            <a:ext cx="7543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頭痛次數</a:t>
            </a:r>
            <a:br>
              <a:rPr sz="2800"/>
            </a:b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477120" y="5873760"/>
            <a:ext cx="24382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只問曾經試過頭痛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792000" y="1428840"/>
          <a:ext cx="7496280" cy="40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428840"/>
                    <a:ext cx="74962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5357880"/>
          <a:ext cx="4572000" cy="1025280"/>
        </p:xfrm>
        <a:graphic>
          <a:graphicData uri="http://schemas.openxmlformats.org/drawingml/2006/table">
            <a:tbl>
              <a:tblPr/>
              <a:tblGrid>
                <a:gridCol w="3714840"/>
                <a:gridCol w="85716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數  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海嘯後無試過頭痛者 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= “0”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6.9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0.82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基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4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Line 35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</a:t>
            </a:r>
            <a:r>
              <a:rPr b="1" lang="zh-TW" sz="2300" spc="-1" strike="noStrike">
                <a:solidFill>
                  <a:srgbClr val="002060"/>
                </a:solidFill>
                <a:latin typeface="Times New Roman"/>
                <a:ea typeface="DFKai-SB"/>
              </a:rPr>
              <a:t>響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下頭痛痛楚程度評分</a:t>
            </a:r>
            <a:br>
              <a:rPr sz="2300"/>
            </a:br>
            <a:r>
              <a:rPr b="1" lang="en-US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r>
              <a:rPr b="1" lang="zh-TW" sz="2300" spc="-1" strike="noStrike">
                <a:solidFill>
                  <a:srgbClr val="1f497d"/>
                </a:solidFill>
                <a:latin typeface="Times New Roman"/>
                <a:ea typeface="DFKai-SB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1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分代表最輕度，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5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分為一半半，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10</a:t>
            </a:r>
            <a:r>
              <a:rPr b="1" lang="zh-TW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為最強烈</a:t>
            </a:r>
            <a:r>
              <a:rPr b="1" lang="en-US" sz="13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34120" y="6095880"/>
            <a:ext cx="35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11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只問金融海嘯後有頭痛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5410080"/>
          <a:ext cx="2808360" cy="979560"/>
        </p:xfrm>
        <a:graphic>
          <a:graphicData uri="http://schemas.openxmlformats.org/drawingml/2006/table">
            <a:tbl>
              <a:tblPr/>
              <a:tblGrid>
                <a:gridCol w="1368360"/>
                <a:gridCol w="14400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4.3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0.11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基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4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Object 2"/>
          <p:cNvGraphicFramePr/>
          <p:nvPr/>
        </p:nvGraphicFramePr>
        <p:xfrm>
          <a:off x="1305000" y="1557360"/>
          <a:ext cx="6972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1557360"/>
                    <a:ext cx="6972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20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金融海嘯影響下頭痛平均持續時間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(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8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至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09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年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2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月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334120" y="6095880"/>
            <a:ext cx="35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= 412 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只問金融海嘯後有頭痛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00080" y="5643720"/>
          <a:ext cx="2808360" cy="963360"/>
        </p:xfrm>
        <a:graphic>
          <a:graphicData uri="http://schemas.openxmlformats.org/drawingml/2006/table">
            <a:tbl>
              <a:tblPr/>
              <a:tblGrid>
                <a:gridCol w="1368360"/>
                <a:gridCol w="14400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61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誤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8.6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分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基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4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Object 2"/>
          <p:cNvGraphicFramePr/>
          <p:nvPr/>
        </p:nvGraphicFramePr>
        <p:xfrm>
          <a:off x="1143000" y="1676520"/>
          <a:ext cx="749628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4962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Line 20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59:53Z</dcterms:created>
  <dc:creator>ngb</dc:creator>
  <dc:description/>
  <dc:language>en-US</dc:language>
  <cp:lastModifiedBy>joseph</cp:lastModifiedBy>
  <dcterms:modified xsi:type="dcterms:W3CDTF">2009-04-20T03:29:52Z</dcterms:modified>
  <cp:revision>238</cp:revision>
  <dc:subject/>
  <dc:title>香港在職人士頭痛指數 調查結果發布會</dc:title>
</cp:coreProperties>
</file>