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6080" y="780840"/>
            <a:ext cx="4896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Click to move the slide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5720" y="4765320"/>
            <a:ext cx="4971960" cy="445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66A94F-AC0D-40B4-AE36-811C6DA88F71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6AB1F4-A4A6-40A9-B8B3-E2268564AA43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85A69B-6264-42AC-B191-6E3BC65E04E5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2D5E54-8032-40EF-88D9-572002DB262F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858B9F-3E84-4E21-B1CA-46C7907486A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C6AECD-5A72-4306-92C2-452416B9045F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3DD9F6-237E-4D16-A8C1-FFC905DFC31A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91E5B9-C255-45DF-B166-33C048364936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DCBAEB-2734-43EA-B901-837764D63C97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A84BDF-2E2E-4477-8532-3FABFA81FA19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2A602C-85C5-41A5-8866-98F1CEFCEADB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DB181E-1F31-4C7A-AAF6-9A625378377A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8C2233-BA21-417F-91B0-628572BDB74E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471D50-803B-4769-B5C6-DFA3C4E64A86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3A6618-264C-49B7-BF36-0DAF0631EE78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arly 80% respondents are female, which is a clear indication that the mothers are probably the caretakers of children in Hong Ko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ACC0F8-C87F-402B-A5F4-4E496982C0B5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9223E5-AABC-4744-A9D3-B544A5B12F52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7D6A85-5404-42AE-B2B8-D5579AB6A90D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873E66-924B-413B-8C1D-94D3FF7594C0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6568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294DFA-2EC3-44A2-9938-8C9DD8B33F2F}" type="slidenum"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51440"/>
            <a:ext cx="2998800" cy="546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65680" y="-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672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39760"/>
            <a:ext cx="548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2746-008C-4441-BE77-5267CBABC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0530-66CB-4D1C-B9DC-345A4857D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9351-A722-49A4-9C52-198B21346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55A4-75D0-42F0-9CC8-5B30D58F7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C9F9-D921-42E3-AC6B-4413BC9AC2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2A88-AB4D-42C1-8723-A086D86C67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1D8A-8119-4405-A445-03D1896B3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D9A8-22CB-4A1E-8BE1-45B80302CD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0434-1C93-4240-A20E-54FC93CF94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2D83-34FF-44F5-A198-A02A5E5F86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4807-829F-4F40-9990-7BA80B737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1A02-1828-40CC-AA1C-1BA778821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2EA7-79A3-40BE-9C3B-9E4D483AD0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0C79-EE64-4674-B8FA-1EBC34C516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B6E0-8938-4CC1-BB08-D8EC29B74C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3620-C465-4727-8E0D-C405AC366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6D32-8890-4E56-BA7B-24C555444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CC54-0CC6-4269-B61E-CCCD1CD8E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0EFB-3FEB-4110-8F69-9AF53F643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54D2-1E5B-42CB-9C21-4E7AA6E19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449A-A12A-49C8-84A6-E4238A333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1E67-F4EF-4D32-A41F-852390049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0B90-A761-4DEE-BFB5-A7215950A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E2E5-0B22-47C4-AD50-3C4D8DC6F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" name=""/>
          <p:cNvSpPr/>
          <p:nvPr/>
        </p:nvSpPr>
        <p:spPr>
          <a:xfrm>
            <a:off x="28440" y="304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BF4F-1728-427B-8669-B762F9022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新細明體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9364-DDFD-40BA-90D5-CA42CEA7F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新細明體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新細明體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新細明體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.umn.edu/umnnews/img/assets/11502/pain.jpg&amp;imgrefurl=http://www1.umn.edu/umnnews/Feature_Stories/Selfinjury_how_and_if_pain_is_perceived.html&amp;h=165&amp;w=165&amp;sz=9&amp;hl=en&amp;start=862&amp;tbnid=7QFpFL0RO4cBgM:&amp;tbnh=99&amp;tbnw=99&amp;prev=/images%3Fq%3Dpain%26start%3D860%26ndsp%3D20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5029200"/>
            <a:ext cx="2438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07 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月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762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solidFill>
            <a:srgbClr val="ffebeb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00"/>
                </a:solidFill>
                <a:latin typeface="Tempus Sans ITC"/>
                <a:ea typeface="新細明體"/>
              </a:rPr>
              <a:t>「香港頑固痛症患者意見行爲調查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5562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鍾庭耀博士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香港大學</a:t>
            </a:r>
            <a:r>
              <a:rPr b="0" lang="zh-CN" sz="2400" spc="-1" strike="noStrike">
                <a:solidFill>
                  <a:srgbClr val="000000"/>
                </a:solidFill>
                <a:latin typeface="新細明體"/>
              </a:rPr>
              <a:t>民意研究計劃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主任 </a:t>
            </a:r>
            <a:endParaRPr b="0" lang="en-US" sz="2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6078-AF77-4AA9-B430-85961CDB28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新細明體"/>
              </a:rPr>
              <a:t>調查結果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FEDD-7873-4B83-BFD1-AEF0881B00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新細明體"/>
              </a:rPr>
              <a:t>. 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香港頑固痛症患者情况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9AB3-8C82-4B3E-830D-0478C13CED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五成三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的頑痛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超過兩年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2286000"/>
          <a:ext cx="7772400" cy="37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77240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371600" y="1828800"/>
            <a:ext cx="6781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嘅頑固痛症痛咗幾耐呢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40320" y="60991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D725-A264-497E-810D-B10276A93B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四成七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主要疼痛部位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在腰部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1880" y="2057400"/>
          <a:ext cx="82962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057400"/>
                    <a:ext cx="82962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71600" y="1676520"/>
            <a:ext cx="6781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身上邊個部位曾經出現疼痛或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者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痺痛呢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99200" y="6400800"/>
            <a:ext cx="2728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1,064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E40D-DDFC-4FF3-8154-C185F9255D0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四成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九</a:t>
            </a: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受訪者認爲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頑痛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和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工作勞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有關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4120" y="2286000"/>
          <a:ext cx="80834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286000"/>
                    <a:ext cx="80834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71600" y="1905120"/>
            <a:ext cx="6781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認為患上頑固痛症嘅原因係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4560" y="6491160"/>
            <a:ext cx="25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1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678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2F28-58BF-4FD1-AC6A-25FC072D91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三成七受訪者認爲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頑痛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令他們不敢做運動及活動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太多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2209680"/>
          <a:ext cx="7772400" cy="42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77240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371600" y="1828800"/>
            <a:ext cx="67816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你覺得頑固痛症對你日常活動最大影響係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86680" y="6324480"/>
            <a:ext cx="25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643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E5E3-1A07-4E95-B337-FB860DD9FC1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四成八受訪者認爲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頑痛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令工作效率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降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低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781280"/>
          <a:ext cx="77724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81280"/>
                    <a:ext cx="77724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143000" y="1828800"/>
            <a:ext cx="71629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覺得頑固痛症對你喺工作上最大嘅影響係？（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只問在職人士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14160" y="6415200"/>
            <a:ext cx="288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283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在職人士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416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34A7-486F-4ED0-AE27-B6D0880E587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三成八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同意</a:t>
            </a:r>
            <a:br>
              <a:rPr sz="4000"/>
            </a:b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頑痛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令他們好痛苦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2438280"/>
          <a:ext cx="777240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38080" y="1828800"/>
            <a:ext cx="8001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您有幾同意定唔同意頑固痛症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令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</a:t>
            </a: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覺得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1080" y="60958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/504/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56DB-96F4-49AA-91B5-87D4C91753A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新細明體"/>
              </a:rPr>
              <a:t>.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香港頑固痛症患者的治療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5D00-41F1-48F4-8A2F-54998E055BE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五成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四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受訪者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試過食止痛藥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來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處理自己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的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頑固痛症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590920"/>
          <a:ext cx="777240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777240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371600" y="1752480"/>
            <a:ext cx="70866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有冇試過食止痛藥嚟處理自己嘅頑固痛症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9260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1400-085E-4C4A-9065-A60530D0057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調查概況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752480"/>
          <a:ext cx="7772400" cy="4145040"/>
        </p:xfrm>
        <a:graphic>
          <a:graphicData uri="http://schemas.openxmlformats.org/drawingml/2006/table">
            <a:tbl>
              <a:tblPr/>
              <a:tblGrid>
                <a:gridCol w="1752840"/>
                <a:gridCol w="601956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暸解「頑固痛症」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對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患者生活質素的影響，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從而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作出切合公衆需要的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健康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教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200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由訪問員直接進行電話訪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對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年齡介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2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65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歲曾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患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有「頑固痛症」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的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人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調查機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香港大學民意研究計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成功訪問人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5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有效回應比率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80.2% 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以符合資格的目標對象計算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抽樣誤差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少於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2.2%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，亦即在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95%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置信水平下，各個百分比的抽樣誤差為少於正負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4.4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新細明體"/>
                          <a:ea typeface="Arial Unicode MS"/>
                        </a:rPr>
                        <a:t>個百分比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D829-7AC6-4DEF-B7FC-B069780AB6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大多數受訪者認為食得太多止痛藥的副作用包括：</a:t>
            </a:r>
            <a:br>
              <a:rPr sz="3200"/>
            </a:br>
            <a:r>
              <a:rPr b="1" lang="en-US" sz="4000" spc="-1" strike="noStrike">
                <a:solidFill>
                  <a:srgbClr val="cc0000"/>
                </a:solidFill>
                <a:latin typeface="新細明體"/>
              </a:rPr>
              <a:t> </a:t>
            </a:r>
            <a:r>
              <a:rPr b="1" lang="zh-TW" sz="3200" spc="-1" strike="noStrike">
                <a:solidFill>
                  <a:srgbClr val="cc0000"/>
                </a:solidFill>
                <a:latin typeface="新細明體"/>
              </a:rPr>
              <a:t>會傷胃、會傷肝臟、會愈食愈多先有效</a:t>
            </a:r>
            <a:endParaRPr b="1" lang="en-US" sz="32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2590920"/>
          <a:ext cx="777240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77724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295280" y="1981080"/>
            <a:ext cx="71629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題：你認為食得多止痛藥有啲乜副作用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86680" y="6324480"/>
            <a:ext cx="263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5 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921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37D4-7036-41BB-9905-ADE0B5AFDC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三成一受訪者選擇看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西醫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或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做</a:t>
            </a:r>
            <a:br>
              <a:rPr sz="4000"/>
            </a:b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物理治療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去處理頑固痛症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2133720"/>
          <a:ext cx="7772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295280" y="1752480"/>
            <a:ext cx="70106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試過用啲乜嘢其他方法去處理自己嘅頑固痛症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86680" y="6400800"/>
            <a:ext cx="25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4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，可選多項，共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868</a:t>
            </a:r>
            <a:r>
              <a:rPr b="0" lang="zh-TW" sz="13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答案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9006-DC4D-4094-9F96-C4FB85A6B3E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兩</a:t>
            </a: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成一受訪者對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正在使用的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止痛方法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感到不滿意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2209680"/>
          <a:ext cx="777240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7724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219320" y="1905120"/>
            <a:ext cx="7315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對宜家用緊嘅止痛方法滿唔滿意 ，包括食止痛藥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668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2B84-6133-4B23-B5C6-3D1F661D0A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三</a:t>
            </a:r>
            <a:r>
              <a:rPr b="1" lang="en-US" sz="4000" spc="-1" strike="noStrike">
                <a:solidFill>
                  <a:srgbClr val="ffffff"/>
                </a:solidFill>
                <a:latin typeface="新細明體"/>
              </a:rPr>
              <a:t>.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患者對血液循環與頑固痛症</a:t>
            </a:r>
            <a:br>
              <a:rPr sz="4000"/>
            </a:br>
            <a:r>
              <a:rPr b="1" lang="zh-TW" sz="4000" spc="-1" strike="noStrike">
                <a:solidFill>
                  <a:srgbClr val="ffffff"/>
                </a:solidFill>
                <a:latin typeface="新細明體"/>
              </a:rPr>
              <a:t>關係的認識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 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4773-58E1-4AAE-A85E-DE95A070054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六成九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聽過</a:t>
            </a:r>
            <a:br>
              <a:rPr sz="4000"/>
            </a:b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頑固痛症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和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氣血運行</a:t>
            </a: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不良</a:t>
            </a:r>
            <a:r>
              <a:rPr b="1" lang="zh-TW" sz="4000" spc="-1" strike="noStrike">
                <a:solidFill>
                  <a:srgbClr val="cc0000"/>
                </a:solidFill>
                <a:latin typeface="新細明體"/>
              </a:rPr>
              <a:t>有關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2133720"/>
          <a:ext cx="777240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7724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371600" y="1752480"/>
            <a:ext cx="7315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有冇聽過頑固痛症係同氣血運行得唔好有關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668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71F6-7D81-4329-A5E9-426E007B2CC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半數</a:t>
            </a:r>
            <a:r>
              <a:rPr b="1" lang="zh-CN" sz="4000" spc="-1" strike="noStrike">
                <a:solidFill>
                  <a:srgbClr val="000000"/>
                </a:solidFill>
                <a:latin typeface="新細明體"/>
              </a:rPr>
              <a:t>受訪者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</a:rPr>
              <a:t>相信</a:t>
            </a:r>
            <a:br>
              <a:rPr sz="4000"/>
            </a:b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中藥</a:t>
            </a:r>
            <a:r>
              <a:rPr b="1" lang="zh-CN" sz="3600" spc="-1" strike="noStrike">
                <a:solidFill>
                  <a:srgbClr val="cc0000"/>
                </a:solidFill>
                <a:latin typeface="新細明體"/>
              </a:rPr>
              <a:t>可透過</a:t>
            </a:r>
            <a:r>
              <a:rPr b="1" lang="zh-TW" sz="3600" spc="-1" strike="noStrike">
                <a:solidFill>
                  <a:srgbClr val="cc0000"/>
                </a:solidFill>
                <a:latin typeface="新細明體"/>
              </a:rPr>
              <a:t>暢通氣血改善頑固痛症</a:t>
            </a:r>
            <a:endParaRPr b="1" lang="en-US" sz="36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2438280"/>
          <a:ext cx="777240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77724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143000" y="1905120"/>
            <a:ext cx="73152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1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問：</a:t>
            </a: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如果有人話中藥以暢通氣血來改善頑固痛症，你有幾相信定唔相信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40320" y="60991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E1ED-ED89-41AC-9C39-EDD2EC1EC20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調查分析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CC80-ED80-45EC-AC3D-F26D5B3F8CE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調查分析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香港頑固痛症患者情况嚴重，五成三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的頑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超過兩年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主要疼痛部位在腰部、肩部及頸部，成因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與工作勞損、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年紀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大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及姿勢不正確有關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近半數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在職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表示頑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其最大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影響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工作效率降低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，亦有兩成多患者表示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不想上班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，甚至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憂慮失業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近四成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表示頑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其日常活動最大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影響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是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不敢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做運動及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進行太多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活動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A1A7-9D68-4B6C-A983-E08D1FF48B6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調查分析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部分受訪者同意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頑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令他們感到痛苦、沮喪、及無用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長遠來說，容易造成情緒抑鬱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五成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受訪者曾經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食止痛藥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來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處理頑固痛症，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但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大部分受訪者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亦知道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止痛藥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有不少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副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作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用：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如傷胃 、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傷肝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及需要逐漸增加服量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三成一受訪者選擇看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西醫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或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做物理治療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去處理頑固痛症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；其次為按摩，有兩成八曾使用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對正在使用的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止痛方法，四成八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受訪者感到滿意、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兩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成一感到不滿意、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兩成七則表示一半半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896D-90AE-4DD7-A9F3-1CDA1948D87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調查分析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六成九受訪者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曾聽過頑固痛症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和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氣血運行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不良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有關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四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成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九表示相信中藥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可透過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暢通氣血改善頑固痛症。</a:t>
            </a:r>
            <a:endParaRPr b="0" lang="en-US" sz="28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81FA-E500-4878-A21D-5BC69EBA9DF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細明體"/>
              </a:rPr>
              <a:t>受訪者背景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D355-0B16-4775-8937-67A88DCC48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性別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75248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34032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729E-7D98-4166-B5E4-04F26FA419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年齡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90720" y="1600200"/>
          <a:ext cx="7307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0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416640" y="60958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CF2A-AD86-4518-B74F-BC53466F2B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教育程度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90720" y="1600200"/>
          <a:ext cx="7307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0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664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2439-5933-44CD-B47B-D68C45BC3C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新細明體"/>
              </a:rPr>
              <a:t>工作狀況</a:t>
            </a:r>
            <a:endParaRPr b="1" lang="en-US" sz="44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1600200"/>
          <a:ext cx="7307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0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41664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8F40-33BC-4E18-9FDF-A4FD38E3CB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職業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295280"/>
          <a:ext cx="7459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459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1664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7071-6AC2-4B5F-B1E2-162864678A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新細明體"/>
              </a:rPr>
              <a:t>個人月入</a:t>
            </a:r>
            <a:endParaRPr b="1" lang="en-US" sz="4000" spc="-1" strike="noStrike">
              <a:solidFill>
                <a:srgbClr val="cc0000"/>
              </a:solidFill>
              <a:latin typeface="新細明體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1905120"/>
          <a:ext cx="73072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3072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416640" y="60228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2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3760" y="152388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只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在職</a:t>
            </a:r>
            <a:r>
              <a:rPr b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人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ECBB-59AC-4708-A49E-5F90065C5C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10:47:23Z</dcterms:created>
  <dc:creator>Grey Worldwide</dc:creator>
  <dc:description/>
  <dc:language>en-US</dc:language>
  <cp:lastModifiedBy>HKUPOP</cp:lastModifiedBy>
  <dcterms:modified xsi:type="dcterms:W3CDTF">2007-02-12T09:02:38Z</dcterms:modified>
  <cp:revision>1500</cp:revision>
  <dc:subject/>
  <dc:title>HONG KONG PEOPLE’S CONCERN ABOUT HEART HEALTH AND CHOLESTE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6429259</vt:r8>
  </property>
  <property fmtid="{D5CDD505-2E9C-101B-9397-08002B2CF9AE}" pid="3" name="_AuthorEmail">
    <vt:lpwstr>lokman@hepfree.org</vt:lpwstr>
  </property>
  <property fmtid="{D5CDD505-2E9C-101B-9397-08002B2CF9AE}" pid="4" name="_AuthorEmailDisplayName">
    <vt:lpwstr>Lokman Wong</vt:lpwstr>
  </property>
  <property fmtid="{D5CDD505-2E9C-101B-9397-08002B2CF9AE}" pid="5" name="_EmailSubject">
    <vt:lpwstr>QoL PC - Status</vt:lpwstr>
  </property>
  <property fmtid="{D5CDD505-2E9C-101B-9397-08002B2CF9AE}" pid="6" name="_ReviewingToolsShownOnce">
    <vt:lpwstr/>
  </property>
</Properties>
</file>