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ED3243-1FCA-47B0-86C1-41202793A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E6120F-26E5-4C5C-9888-9DEFA309CE9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75CC58-D7EC-4520-9230-DEEA5BCEC96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A4E6F7-E260-4CF4-BFCA-A2CF5A5BA69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351D39-F567-4823-B1CC-EA9B40BE8CF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CB709A-794A-411A-9E7A-7234DD16177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49558D-B42A-4C7E-B948-2125013058C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F6762C-FC2D-41B8-BB2A-34E6524EBC9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E02A90-DADE-4368-8750-474C0031464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084C64-0E59-4CF0-A421-CAC723E1CFC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53A2F0-7993-4C39-9F8F-925732E1D72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709E0E-B374-4843-ADC0-823E5142013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62E177-9A70-4184-8E0C-F9B4338F921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4CCD6F-DBD4-4A1B-A315-B096980CC88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5A4EBB-2C8C-459B-8AA0-625BD41B8DF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6DF9DE-FBCB-4F55-A387-C22FB172F3D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D76D01-EE84-4096-A705-C9B5DD5E266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A16AF2-4B8A-4EFC-A74F-54A6B01E2CB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809037-7463-4348-8CB1-65D6E076097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8871C6-E1E7-4D5D-9DAE-C12CE5BC7C2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4EF5-6BB4-41AB-8D93-7943FCE1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26B6-ADD9-489D-AB96-D583E5C2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21D-B0D4-4292-8BF6-81D6E973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1B58-EAEC-4682-B6FB-4CEB787B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582-2EB8-4432-A9CD-ADD59908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4777-6598-4FDC-B648-CEB0EC08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772-2F48-47A1-973B-AF13C3C0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F2D-544C-41D4-8319-79FC41E5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68C-71C3-4451-862C-8D3E3544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EEEE-9961-4A18-97AB-E208DA57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9726-BF65-4FD6-8E0C-1298C84F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2F83-6926-4529-9519-1C3B7ED7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0133-D49D-437E-AE82-3D689ACD18AE}" type="datetime">
              <a:rPr b="0" lang="zh-TW" sz="1400" spc="-1" strike="noStrike">
                <a:solidFill>
                  <a:srgbClr val="003366"/>
                </a:solidFill>
                <a:latin typeface="Arial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F0BD-EF33-48C6-AC54-270537C636F9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5"/>
          <p:cNvSpPr/>
          <p:nvPr/>
        </p:nvSpPr>
        <p:spPr>
          <a:xfrm>
            <a:off x="5562720" y="3049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最低工資及標準工時意見調查</a:t>
            </a:r>
            <a:r>
              <a:rPr b="1" i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" name="Picture 13" descr="O:\share\Oxfam\Oxfam_Children_Internet_2009\presentation\OHK_logo_small.jpg"/>
          <p:cNvPicPr/>
          <p:nvPr/>
        </p:nvPicPr>
        <p:blipFill>
          <a:blip r:embed="rId2"/>
          <a:stretch/>
        </p:blipFill>
        <p:spPr>
          <a:xfrm>
            <a:off x="7924680" y="6386400"/>
            <a:ext cx="1003320" cy="40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052"/>
          <p:cNvSpPr/>
          <p:nvPr/>
        </p:nvSpPr>
        <p:spPr>
          <a:xfrm>
            <a:off x="1295280" y="18288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民意研究計劃</a:t>
            </a:r>
            <a:r>
              <a:rPr b="1" lang="zh-TW" sz="1600" spc="-1" strike="noStrike">
                <a:solidFill>
                  <a:srgbClr val="000066"/>
                </a:solidFill>
                <a:latin typeface="Times New Roman"/>
                <a:ea typeface="標楷體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5" name="Object 2053"/>
          <p:cNvGraphicFramePr/>
          <p:nvPr/>
        </p:nvGraphicFramePr>
        <p:xfrm>
          <a:off x="1828800" y="609480"/>
          <a:ext cx="117144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0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609480"/>
                    <a:ext cx="11714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2057"/>
          <p:cNvSpPr/>
          <p:nvPr/>
        </p:nvSpPr>
        <p:spPr>
          <a:xfrm>
            <a:off x="714240" y="4572000"/>
            <a:ext cx="78487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鍾庭耀博士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民意研究計劃總監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9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Line 2058"/>
          <p:cNvSpPr/>
          <p:nvPr/>
        </p:nvSpPr>
        <p:spPr>
          <a:xfrm>
            <a:off x="1143000" y="2590920"/>
            <a:ext cx="70866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Line 2059"/>
          <p:cNvSpPr/>
          <p:nvPr/>
        </p:nvSpPr>
        <p:spPr>
          <a:xfrm>
            <a:off x="1143000" y="4038480"/>
            <a:ext cx="70866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0" name="WordArt 13" descr=""/>
          <p:cNvPicPr/>
          <p:nvPr/>
        </p:nvPicPr>
        <p:blipFill>
          <a:blip r:embed="rId3"/>
          <a:stretch/>
        </p:blipFill>
        <p:spPr>
          <a:xfrm>
            <a:off x="1347840" y="3114720"/>
            <a:ext cx="6448320" cy="476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O:\share\Oxfam\Oxfam_Children_Internet_2009\presentation\OHK_logo_small.jpg"/>
          <p:cNvPicPr/>
          <p:nvPr/>
        </p:nvPicPr>
        <p:blipFill>
          <a:blip r:embed="rId4"/>
          <a:stretch/>
        </p:blipFill>
        <p:spPr>
          <a:xfrm>
            <a:off x="4863960" y="838080"/>
            <a:ext cx="2756160" cy="111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9C1C-1540-4701-985D-9B3633B28905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57160" y="90000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以下是不是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考慮制定最低工資水平的因素？</a:t>
            </a:r>
            <a:r>
              <a:rPr b="1" lang="en-US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855720" y="1521000"/>
          <a:ext cx="8197920" cy="482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1521000"/>
                    <a:ext cx="8197920" cy="48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2"/>
          <p:cNvSpPr/>
          <p:nvPr/>
        </p:nvSpPr>
        <p:spPr>
          <a:xfrm>
            <a:off x="838080" y="6386400"/>
            <a:ext cx="70106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5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認為制定最低工資水平應該考慮以下邊個因素？【讀出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答案，次序由電腦隨機排列，可選多項】 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【 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2010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年新增題目】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7238880" y="2286000"/>
            <a:ext cx="10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=50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1CC3-ECBA-407E-9887-762A0D415141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785520"/>
            <a:ext cx="754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最低工資立法要以「收窄貧富差距，保障所有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職人士及其家庭的基本生活」為目標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838080" y="1600200"/>
          <a:ext cx="8145720" cy="484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814572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1042920" y="6095880"/>
            <a:ext cx="10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=50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066680" y="6400800"/>
            <a:ext cx="6629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6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意見認為最低工資立法應以「收窄貧富差距，保障所有在職人士及其家庭的基本生活」為目標，你傾向贊成定反對呢個理念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【 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2010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年新增題目】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Object 4"/>
          <p:cNvGraphicFramePr/>
          <p:nvPr/>
        </p:nvGraphicFramePr>
        <p:xfrm>
          <a:off x="671400" y="1359000"/>
          <a:ext cx="8428320" cy="506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359000"/>
                    <a:ext cx="842832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E0DC-CFD8-47C5-ADE1-098AA98E78A9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500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認為合理的最低月薪</a:t>
            </a:r>
            <a:br>
              <a:rPr sz="16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以每天工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，每月工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6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天計 ）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838080" y="5943600"/>
            <a:ext cx="10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=506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804960" y="6400800"/>
            <a:ext cx="69674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7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根據統計處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9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第四季既數字，全港勞動人口既入息中位數為一萬零五百蚊（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$10,500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。假設一個僱員每日工作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，每周工作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天，即每月平均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6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天，不論行業，你認為佢既月薪起碼有幾多蚊先為之合理？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800600" y="1866960"/>
          <a:ext cx="1828800" cy="125712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08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32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8,4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樣本誤差：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2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8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781680" y="1828800"/>
          <a:ext cx="1828800" cy="129528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10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 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31)</a:t>
                      </a:r>
                      <a:br>
                        <a:rPr sz="1400"/>
                      </a:b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8,85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樣本誤差：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23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8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600200" y="1866960"/>
          <a:ext cx="1828800" cy="125712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05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7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8,04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樣本誤差：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26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8,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4"/>
          <p:cNvGraphicFramePr/>
          <p:nvPr/>
        </p:nvGraphicFramePr>
        <p:xfrm>
          <a:off x="798480" y="1828800"/>
          <a:ext cx="8345520" cy="48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1828800"/>
                    <a:ext cx="8345520" cy="48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C8D7-5290-4F8B-BC88-46B9967BCA60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1066680"/>
            <a:ext cx="7500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心目中的最低時薪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838080" y="6172200"/>
            <a:ext cx="10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=508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04960" y="6400800"/>
            <a:ext cx="69674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8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論行業，你認為最低工資應該定係邊個時薪水平？ 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【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2010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年新增題目】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81080" y="2057400"/>
          <a:ext cx="1828800" cy="122544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3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樣本誤差：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0.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$30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6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7" name="Group 8"/>
          <p:cNvGrpSpPr/>
          <p:nvPr/>
        </p:nvGrpSpPr>
        <p:grpSpPr>
          <a:xfrm>
            <a:off x="1828800" y="4038120"/>
            <a:ext cx="1820520" cy="380880"/>
            <a:chOff x="1828800" y="4038120"/>
            <a:chExt cx="1820520" cy="380880"/>
          </a:xfrm>
        </p:grpSpPr>
        <p:sp>
          <p:nvSpPr>
            <p:cNvPr id="138" name="Line 9"/>
            <p:cNvSpPr/>
            <p:nvPr/>
          </p:nvSpPr>
          <p:spPr>
            <a:xfrm flipV="1">
              <a:off x="1828800" y="419040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Line 10"/>
            <p:cNvSpPr/>
            <p:nvPr/>
          </p:nvSpPr>
          <p:spPr>
            <a:xfrm>
              <a:off x="1828800" y="4190760"/>
              <a:ext cx="18205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Line 11"/>
            <p:cNvSpPr/>
            <p:nvPr/>
          </p:nvSpPr>
          <p:spPr>
            <a:xfrm flipV="1">
              <a:off x="2691360" y="4038120"/>
              <a:ext cx="0" cy="1522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Line 12"/>
            <p:cNvSpPr/>
            <p:nvPr/>
          </p:nvSpPr>
          <p:spPr>
            <a:xfrm flipV="1">
              <a:off x="3649320" y="419040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2" name="Rectangle 13"/>
          <p:cNvSpPr/>
          <p:nvPr/>
        </p:nvSpPr>
        <p:spPr>
          <a:xfrm>
            <a:off x="2057400" y="38098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$20-29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: 31%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3" name="Group 8"/>
          <p:cNvGrpSpPr/>
          <p:nvPr/>
        </p:nvGrpSpPr>
        <p:grpSpPr>
          <a:xfrm>
            <a:off x="4800600" y="2590560"/>
            <a:ext cx="2742840" cy="380880"/>
            <a:chOff x="4800600" y="2590560"/>
            <a:chExt cx="2742840" cy="380880"/>
          </a:xfrm>
        </p:grpSpPr>
        <p:sp>
          <p:nvSpPr>
            <p:cNvPr id="144" name="Line 9"/>
            <p:cNvSpPr/>
            <p:nvPr/>
          </p:nvSpPr>
          <p:spPr>
            <a:xfrm flipV="1">
              <a:off x="4800600" y="274284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" name="Line 10"/>
            <p:cNvSpPr/>
            <p:nvPr/>
          </p:nvSpPr>
          <p:spPr>
            <a:xfrm>
              <a:off x="4800600" y="2743200"/>
              <a:ext cx="27428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 flipV="1">
              <a:off x="6099840" y="2590560"/>
              <a:ext cx="0" cy="1522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 flipV="1">
              <a:off x="7543440" y="274284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8" name="Rectangle 13"/>
          <p:cNvSpPr/>
          <p:nvPr/>
        </p:nvSpPr>
        <p:spPr>
          <a:xfrm>
            <a:off x="541008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$30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或以上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: 61%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72D9-FF38-4F18-99E7-03BBFC993BB4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09520" y="785520"/>
            <a:ext cx="7653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每年檢討一次最低工資水平？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838080" y="1600200"/>
          <a:ext cx="8145720" cy="484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814572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1042920" y="6095880"/>
            <a:ext cx="10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=50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1066680" y="6400800"/>
            <a:ext cx="6248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9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當最低工資立法之後，你傾向贊成定反對當局就最低工資既水平每年檢討一次？ 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【 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2010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年新增題目】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對立法訂定</a:t>
            </a:r>
            <a:br>
              <a:rPr sz="3600"/>
            </a:b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最高工時的意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55CE-D969-4DF3-A65D-F88965AF9772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91404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香港人超時工作問題是否嚴重？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066680" y="64771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0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整體黎講，你認為香港人超時工作既問題嚴唔嚴重？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609480" y="1547640"/>
          <a:ext cx="832644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47640"/>
                    <a:ext cx="832644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Object 4"/>
          <p:cNvGraphicFramePr/>
          <p:nvPr/>
        </p:nvGraphicFramePr>
        <p:xfrm>
          <a:off x="533520" y="1473120"/>
          <a:ext cx="8142120" cy="50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73120"/>
                    <a:ext cx="814212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631F-F1E9-430F-89D4-EC27CA1254B4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500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認為合理的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每週最高工時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838080" y="6095880"/>
            <a:ext cx="10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=50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04960" y="6400800"/>
            <a:ext cx="69674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1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你認為每周最高工時應該係幾多小時先為之合理？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257800" y="1866960"/>
          <a:ext cx="1752480" cy="125712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08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92)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樣本誤差：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7086600" y="1866960"/>
          <a:ext cx="1752480" cy="125712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10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 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樣本誤差：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752480" y="1905120"/>
          <a:ext cx="1752840" cy="1257120"/>
        </p:xfrm>
        <a:graphic>
          <a:graphicData uri="http://schemas.openxmlformats.org/drawingml/2006/table">
            <a:tbl>
              <a:tblPr/>
              <a:tblGrid>
                <a:gridCol w="175284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05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64)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樣本誤差：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30A7-2A11-4667-9DAA-0D36AEDD3271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83772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對立法訂定最高工時的取態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066680" y="64771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2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無論你對最低工資既睇法係點，請問你傾向贊成定反對立法訂定最高工時？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611280" y="1724040"/>
          <a:ext cx="8450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24040"/>
                    <a:ext cx="8450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4"/>
          <p:cNvGraphicFramePr/>
          <p:nvPr/>
        </p:nvGraphicFramePr>
        <p:xfrm>
          <a:off x="544680" y="1387440"/>
          <a:ext cx="8142120" cy="50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1387440"/>
                    <a:ext cx="814212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EE8C-5E10-47BE-A61C-DD6C7615E741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500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如果要立法，每週最高工時應該是多少？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838080" y="6095880"/>
            <a:ext cx="10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=50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804960" y="6400800"/>
            <a:ext cx="69674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3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真係要立法，不論行業，你認為</a:t>
            </a:r>
            <a:r>
              <a:rPr b="1" lang="zh-TW" sz="1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每周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最高工時應該定係邊個水平？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257800" y="1905120"/>
          <a:ext cx="1752480" cy="121896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122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08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6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樣本誤差：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7086600" y="1866960"/>
          <a:ext cx="1752480" cy="125712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10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 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6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樣本誤差：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676520" y="1905120"/>
          <a:ext cx="1828800" cy="125712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05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基數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40)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平均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樣本誤差：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+/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位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B99C-5AC4-4860-A5C2-A801DC87CF6F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007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 algn="just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樂施會繼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5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8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之後，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再度委託港大民意研究計進行《最低工資及標準工時意見調查》，以探討本港市民對立法訂定最低工資及最高工時的意見，並跟之前兩次調查結果作比較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 algn="just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問卷由港大民研計劃諮詢樂施會後獨立設計，所有操作、數據收集及分析由民研計劃獨立進行，結果亦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民研計劃全面負責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 algn="just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和結果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全面公開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1EC9-2976-4D9D-A0E7-DDBC04FF225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106632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貧富懸殊問題是否嚴重？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066680" y="64771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4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最後，你認為現時香港貧富懸殊問題嚴唔嚴重？ 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【 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2010</a:t>
            </a:r>
            <a:r>
              <a:rPr b="1" lang="zh-TW" sz="1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年新增題目】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838080" y="1600200"/>
          <a:ext cx="8145720" cy="484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814572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Rectangle 8"/>
          <p:cNvSpPr/>
          <p:nvPr/>
        </p:nvSpPr>
        <p:spPr>
          <a:xfrm>
            <a:off x="1143000" y="617220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基數</a:t>
            </a:r>
            <a:r>
              <a:rPr b="1" lang="zh-TW" sz="1400" spc="-1" strike="noStrike">
                <a:solidFill>
                  <a:srgbClr val="003366"/>
                </a:solidFill>
                <a:latin typeface="Times New Roman"/>
                <a:ea typeface="標楷體"/>
              </a:rPr>
              <a:t>=50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4C7C-E51E-48C4-A03A-429D8D2BE2B2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99072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74760" algn="just">
              <a:lnSpc>
                <a:spcPct val="110000"/>
              </a:lnSpc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隨著政府展開立法程序，市民對最低工資問題的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關注程度大幅上升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支持程度方面，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70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贊成立法，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8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反對，與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8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相若。工資水平方面，平均答案為時薪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$30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左右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 algn="just">
              <a:lnSpc>
                <a:spcPct val="110000"/>
              </a:lnSpc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72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同意立法應以「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收窄貧富差距，保障所有在職人士及其家庭的基本生活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為目標，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79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認為應每年檢討最低工資的水平一次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 algn="just">
              <a:lnSpc>
                <a:spcPct val="110000"/>
              </a:lnSpc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72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認為立法好處是「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保障工人的最基本生活水平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，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3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認為壞處是「增加成本／削弱本港競爭力」。考慮最低工資水平的因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優先次序為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家庭的基本生活需要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、「通脹及生活物價指數」、「整體經濟狀況」、「勞工市場情況」、「貧富收入差距」及「企業競爭力」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 algn="just">
              <a:lnSpc>
                <a:spcPct val="110000"/>
              </a:lnSpc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至於工時方面，大部份巿民認為港人超時工作的問題「嚴重」，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6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0%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支持立法訂定最高工時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平均答案為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每週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最多工作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50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小時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與兩年前的調查結果相若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樂施會的回應及建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  <a:ea typeface="標楷體"/>
              </a:rPr>
              <a:t>建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  <a:ea typeface="標楷體"/>
              </a:rPr>
              <a:t>樂施會認為生活保障是每個人應有的權利，工人付出勞力理應得到合理回報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  <a:ea typeface="標楷體"/>
              </a:rPr>
              <a:t>鼓勵人們自力更生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  <a:ea typeface="標楷體"/>
              </a:rPr>
              <a:t>分享經濟發展的成果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  <a:ea typeface="標楷體"/>
              </a:rPr>
              <a:t>這才稱得上公平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  <a:ea typeface="標楷體"/>
              </a:rPr>
              <a:t>更是社會可持續發展的基石</a:t>
            </a:r>
            <a:r>
              <a:rPr b="0" lang="es-ES" sz="3200" spc="-1" strike="noStrike">
                <a:solidFill>
                  <a:srgbClr val="003366"/>
                </a:solidFill>
                <a:latin typeface="Arial"/>
                <a:ea typeface="標楷體"/>
              </a:rPr>
              <a:t>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  <a:ea typeface="標楷體"/>
              </a:rPr>
              <a:t>建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989000"/>
            <a:ext cx="80010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一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最低工資立法應以「收窄貧富差距，保障所有在職人士及其家庭的基本生活」為目標，研究結果顯示港人普遍認同最低工資應讓工人養活自己之餘，更可供養家庭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根據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2009</a:t>
            </a:r>
            <a:r>
              <a:rPr b="0" lang="zh-TW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年的統計數據，香港住戶的平均人數是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2.9</a:t>
            </a:r>
            <a:r>
              <a:rPr b="0" lang="zh-TW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人，每戶平均有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1.5</a:t>
            </a:r>
            <a:r>
              <a:rPr b="0" lang="zh-TW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個勞動力，即一名在職人士一般需要供養連自已在內合共兩人，故此</a:t>
            </a:r>
            <a:r>
              <a:rPr b="1" lang="zh-TW" sz="2800" spc="-1" strike="noStrike" u="sng">
                <a:solidFill>
                  <a:srgbClr val="003366"/>
                </a:solidFill>
                <a:uFillTx/>
                <a:latin typeface="Times New Roman"/>
                <a:ea typeface="標楷體"/>
              </a:rPr>
              <a:t>樂施會認為最低工資水平，必須能應付僱員及其供養家屬最基本的生活費</a:t>
            </a:r>
            <a:r>
              <a:rPr b="0" lang="zh-TW" sz="2800" spc="-1" strike="noStrike" u="sng">
                <a:solidFill>
                  <a:srgbClr val="003366"/>
                </a:solidFill>
                <a:uFillTx/>
                <a:latin typeface="Times New Roman"/>
                <a:ea typeface="標楷體"/>
              </a:rPr>
              <a:t>。</a:t>
            </a:r>
            <a:r>
              <a:rPr b="0" lang="zh-TW" sz="2800" spc="-1" strike="noStrike" u="sng">
                <a:solidFill>
                  <a:srgbClr val="003366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  <a:ea typeface="標楷體"/>
              </a:rPr>
              <a:t>建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916280"/>
            <a:ext cx="80010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二</a:t>
            </a:r>
            <a:r>
              <a:rPr b="1" lang="es-ES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)  </a:t>
            </a:r>
            <a:r>
              <a:rPr b="1" lang="zh-TW" sz="2800" spc="-1" strike="noStrike" u="sng">
                <a:solidFill>
                  <a:srgbClr val="003366"/>
                </a:solidFill>
                <a:uFillTx/>
                <a:latin typeface="標楷體"/>
                <a:ea typeface="標楷體"/>
              </a:rPr>
              <a:t>政府應每年檢討最低工資的水平，以準確反映物價及經濟環境的變化</a:t>
            </a:r>
            <a:r>
              <a:rPr b="0" lang="zh-TW" sz="2800" spc="-1" strike="noStrike" u="sng">
                <a:solidFill>
                  <a:srgbClr val="003366"/>
                </a:solidFill>
                <a:uFillTx/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而除了政府建議的「通脹及生活物價指數」、「整體經濟狀況」、「企業競爭力」及「勞工市場情況」外，</a:t>
            </a:r>
            <a:r>
              <a:rPr b="1" lang="zh-TW" sz="2800" spc="-1" strike="noStrike" u="sng">
                <a:solidFill>
                  <a:srgbClr val="003366"/>
                </a:solidFill>
                <a:uFillTx/>
                <a:latin typeface="標楷體"/>
                <a:ea typeface="標楷體"/>
              </a:rPr>
              <a:t>釐定最低工資水平更應考慮「家庭的基本生活需要」及「貧富收入差距」的因素</a:t>
            </a: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，以貫徹勞動有價，工作應可養家的理念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  <a:ea typeface="標楷體"/>
              </a:rPr>
              <a:t>建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916280"/>
            <a:ext cx="80010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三</a:t>
            </a:r>
            <a:r>
              <a:rPr b="1" lang="es-ES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) </a:t>
            </a:r>
            <a:r>
              <a:rPr b="1" lang="zh-TW" sz="2800" spc="-1" strike="noStrike" u="sng">
                <a:solidFill>
                  <a:srgbClr val="003366"/>
                </a:solidFill>
                <a:uFillTx/>
                <a:latin typeface="標楷體"/>
                <a:ea typeface="標楷體"/>
              </a:rPr>
              <a:t>政府應同時考慮立法訂立「最高工時」</a:t>
            </a: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，以保障工人可享有較平衡健康的生活模式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四</a:t>
            </a:r>
            <a:r>
              <a:rPr b="0" lang="es-ES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) </a:t>
            </a:r>
            <a:r>
              <a:rPr b="1" lang="zh-TW" sz="2800" spc="-1" strike="noStrike" u="sng">
                <a:solidFill>
                  <a:srgbClr val="003366"/>
                </a:solidFill>
                <a:uFillTx/>
                <a:latin typeface="標楷體"/>
                <a:ea typeface="標楷體"/>
              </a:rPr>
              <a:t>政府應積極以宏觀經濟發展計劃，處理在職貧窮的問題</a:t>
            </a: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，亦應同時配合有效的培訓、就業政策</a:t>
            </a:r>
            <a:r>
              <a:rPr b="0" lang="es-ES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如創造地區就業的社區經濟計劃援助</a:t>
            </a:r>
            <a:r>
              <a:rPr b="0" lang="es-ES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、及財務政策</a:t>
            </a:r>
            <a:r>
              <a:rPr b="0" lang="es-ES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如賦稅制度及稅務優惠</a:t>
            </a:r>
            <a:r>
              <a:rPr b="0" lang="es-ES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等層次，作結構性的介入和改變，以扭轉不平等的負面趨勢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20D8-37A5-42C3-AD24-ACC2F344CA6D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838080" y="16765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報 告 完 畢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152280" y="3809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詳細報告結果，請瀏覽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http://hkupop.hku.h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ACF9-BBEE-469B-8A80-1506E2431BCD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0080" y="1071720"/>
            <a:ext cx="7858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樣本資料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214280" y="1905120"/>
            <a:ext cx="7358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16040" indent="-1616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日期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616040" indent="-1616040" algn="just">
              <a:spcBef>
                <a:spcPts val="601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對象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8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或以上操粵語的香港居民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616040" indent="-1616040" algn="just">
              <a:spcBef>
                <a:spcPts val="601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訪員直接進行電話訪問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訪員在成功接觸目標住戶後，再從住戶內找出符合條件的人士接受訪問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616040" indent="-161604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數目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50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成功個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616040" indent="-161604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效回應比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7.0%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616040" indent="-161604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抽樣誤差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5%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置信水平下，少於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+/- 4.4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百分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結果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對立法訂定</a:t>
            </a:r>
            <a:br>
              <a:rPr sz="3600"/>
            </a:b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最低工資的意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921F-9E29-4EEE-BFA7-421F494723E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83772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標楷體"/>
              </a:rPr>
              <a:t>對本地最低工資消息的關心程度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066680" y="64771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有冇留意有關本地最低工資既消息或者討論？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73" name="Object 20"/>
          <p:cNvGraphicFramePr/>
          <p:nvPr/>
        </p:nvGraphicFramePr>
        <p:xfrm>
          <a:off x="612720" y="1523880"/>
          <a:ext cx="8326440" cy="500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1523880"/>
                    <a:ext cx="832644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6730-942B-4979-8538-DED66C34A117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99036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對立法訂定最低工資的取態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66680" y="64771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2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無論你有冇留意，請問你傾向贊成定反對立法訂定最低工資？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78" name="Object 5"/>
          <p:cNvGraphicFramePr/>
          <p:nvPr/>
        </p:nvGraphicFramePr>
        <p:xfrm>
          <a:off x="612720" y="1701720"/>
          <a:ext cx="8326440" cy="477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1701720"/>
                    <a:ext cx="8326440" cy="47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BB9F-2F53-4AF7-A09E-69721EBCFF6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78552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立法訂定最低工資的好處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1066680" y="64771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3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無論你贊成定反對，就你所知，你認為立法訂定最低工資有乜野好處呢？請你包括僱員、僱主、同社會三方面去諗。【不讀答案，可選多項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】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1547280" y="620244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6%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84" name="Object 21"/>
          <p:cNvGraphicFramePr/>
          <p:nvPr/>
        </p:nvGraphicFramePr>
        <p:xfrm>
          <a:off x="620640" y="1295280"/>
          <a:ext cx="8440920" cy="48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295280"/>
                    <a:ext cx="844092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7"/>
          <p:cNvSpPr/>
          <p:nvPr/>
        </p:nvSpPr>
        <p:spPr>
          <a:xfrm>
            <a:off x="7848720" y="56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沒有好處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676520" y="5562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保障工人的最基本生活水平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666880" y="5562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促進和諧社會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505320" y="556272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減少僱主剝削的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機會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4495680" y="56386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減輕貧富懸殊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5334120" y="5608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提高員工士氣，增加生產力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095880" y="56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促進公平社會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7010280" y="56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減少綜援支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4232-36B3-4D39-944F-6DB5B19F421F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785520"/>
            <a:ext cx="7500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立法訂定最低工資的壞處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066680" y="64771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4]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你認為立法訂定最低工資有乜野壞處呢？請你同樣包括僱員、僱主、同社會三方面去諗。【不讀答案，可選多項】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547280" y="6095880"/>
            <a:ext cx="200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因篇幅所限，只列出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6%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98" name="Object 6"/>
          <p:cNvGraphicFramePr/>
          <p:nvPr/>
        </p:nvGraphicFramePr>
        <p:xfrm>
          <a:off x="646200" y="1389240"/>
          <a:ext cx="8467560" cy="457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1389240"/>
                    <a:ext cx="846756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7"/>
          <p:cNvSpPr/>
          <p:nvPr/>
        </p:nvSpPr>
        <p:spPr>
          <a:xfrm>
            <a:off x="1676520" y="5410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增加成本／削弱本港競爭力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590920" y="54864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失業率上升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8153280" y="5486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唔知／難講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7238880" y="5516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沒有壞處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6477120" y="5486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破壞自由市場調節的原則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5638680" y="54864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最低工資最終會變成最高工資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4876920" y="5486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增加的成本轉嫁消費者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3962520" y="54259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僱主會藉故增加工作量／削減其他福利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3200400" y="545616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歷／經驗低僱員被裁減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frank</cp:lastModifiedBy>
  <cp:lastPrinted>2001-04-04T10:00:24Z</cp:lastPrinted>
  <dcterms:modified xsi:type="dcterms:W3CDTF">2010-05-19T01:53:47Z</dcterms:modified>
  <cp:revision>1798</cp:revision>
  <dc:subject/>
  <dc:title>無投影片標題</dc:title>
</cp:coreProperties>
</file>