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9BD-9E89-453D-99AD-10AF19F9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480-CE7F-454B-ADEB-7E7EE26B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EF6-2B86-4195-88EA-F868BC42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B8A-087E-4866-85C9-C2425C18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0C3-141C-430B-966F-648EDCD3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0ED-AD96-4960-8C6E-D0C356CA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577-E5A5-430F-A79B-A5A23270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CA5-54AD-4BFB-94E1-B2D8055E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EC4-C17F-4C43-9A28-9CC3B8EF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EA1-7E14-4B58-B6F2-C5531FDA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BF3-CB84-4102-AC9B-33FF8294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257-5045-47D9-ACFA-1DCB0972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3641-4881-4A85-8B39-7E06BF47067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3300"/>
                </a:solidFill>
                <a:latin typeface="標楷體"/>
                <a:ea typeface="標楷體"/>
              </a:rPr>
              <a:t>樂施會</a:t>
            </a:r>
            <a:br>
              <a:rPr sz="3200"/>
            </a:br>
            <a:r>
              <a:rPr b="1" lang="zh-TW" sz="3200" spc="-1" strike="noStrike">
                <a:solidFill>
                  <a:srgbClr val="993300"/>
                </a:solidFill>
                <a:latin typeface="標楷體"/>
                <a:ea typeface="標楷體"/>
              </a:rPr>
              <a:t>《最低工資及標準工時意見調查</a:t>
            </a:r>
            <a:r>
              <a:rPr b="1" lang="zh-TW" sz="3200" spc="-1" strike="noStrike">
                <a:solidFill>
                  <a:srgbClr val="993300"/>
                </a:solidFill>
                <a:latin typeface="標楷體"/>
                <a:ea typeface="標楷體"/>
              </a:rPr>
              <a:t>2008</a:t>
            </a:r>
            <a:r>
              <a:rPr b="1" lang="zh-TW" sz="3200" spc="-1" strike="noStrike">
                <a:solidFill>
                  <a:srgbClr val="993300"/>
                </a:solidFill>
                <a:latin typeface="標楷體"/>
                <a:ea typeface="標楷體"/>
              </a:rPr>
              <a:t>》</a:t>
            </a:r>
            <a:br>
              <a:rPr sz="3200"/>
            </a:br>
            <a:r>
              <a:rPr b="1" lang="zh-TW" sz="3200" spc="-1" strike="noStrike">
                <a:solidFill>
                  <a:srgbClr val="993300"/>
                </a:solidFill>
                <a:latin typeface="標楷體"/>
                <a:ea typeface="標楷體"/>
              </a:rPr>
              <a:t>發表研究報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40000" y="3284640"/>
            <a:ext cx="4640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記者招待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3640" y="549360"/>
            <a:ext cx="2457360" cy="86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00720" y="4005360"/>
            <a:ext cx="2843280" cy="2852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843280" y="4005360"/>
            <a:ext cx="3457440" cy="2852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2843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樂施會對於調查結果的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對比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005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年中，市民對最低工資問題的關注程度明顯上升，亦更加支持立法訂定最低工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市民普遍認為若立法最低工資，應以保障「保障全港低薪打工仔免於貧窮」為最终目標，那反映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市民期望未來立法最低工資不單可保障清潔保安兩個行業，更應同時保障其他同屬低薪工種的工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市民也再次肯定超時工作問題嚴重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除了最低工資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設立最高工時也是民情所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76640" y="274680"/>
            <a:ext cx="2790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樂施會的三大建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為保障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所有低薪工人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及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其家庭能有合理的生活水平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，我們認為政府最低工資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立法應以「保障全港低薪打工仔免於貧窮」為目標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，盡快立法最低工資，而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立法更應「全面」涵蓋所有行業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，使所有低薪工人都能得最基本的生活水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76640" y="274680"/>
            <a:ext cx="2790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同時，政府應積極考慮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立法訂立「最高工時」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，以保障工人可享有較平衡健康的生活模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政府應積極於宏觀的經濟發展計劃去處理在職貧窮的問題。除了最低工資外，政府亦應同時配合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有效的培訓、就業政策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( 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如創造地區就業的社區經濟計劃援助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及財務政策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( 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如負稅制及稅務優惠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等層次，作結構性的介入和改變，以扭轉不平等的負面趨勢，促進經濟公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76640" y="274680"/>
            <a:ext cx="2790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8:57:18Z</dcterms:created>
  <dc:creator>hk_intern</dc:creator>
  <dc:description/>
  <dc:language>en-US</dc:language>
  <cp:lastModifiedBy>shwong</cp:lastModifiedBy>
  <dcterms:modified xsi:type="dcterms:W3CDTF">2008-07-11T08:11:02Z</dcterms:modified>
  <cp:revision>6</cp:revision>
  <dc:subject/>
  <dc:title>樂施會 《最低工資及標準工時意見調查2008》 發表研究報告</dc:title>
</cp:coreProperties>
</file>