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788CCCE-5A74-4AE3-856F-DDF8C110B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100A60-AE45-43FF-9827-1F08E746F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1DC595A-3465-4B7A-ADE5-E83A8B43B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9F2C968-002C-4449-9094-FE865D8F4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F4F0680-D2FA-46B4-84A2-00E992EC9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1F501E-E237-43A7-8395-1C7C230C8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4101DC-63A0-4E59-B750-3AB71B028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15E91D-6D64-4F22-83A8-D25EB5802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D7CF63B-5C50-470A-8981-FDCDF6595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FE371AE-D50F-4B2B-A01D-7665D14F9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94CB208-1833-4467-A51B-DE5BFE1EB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E604CE8-B05C-4F2A-B16B-DC326864B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FF9-7008-4327-BA51-DCC9110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6E5-7BF8-4E3B-993D-B7535A49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2DC-77B4-4AEC-A270-45617D9A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AE8-4689-4458-B1BB-6E52C251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9B5-F23E-45B1-AD71-15F47A1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944-2A32-4914-8E1A-98368C7C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788-79EF-4A72-86B5-6923C38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510-12F2-4CAE-B34D-47275C0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C56-C6AA-48D8-8C4A-6CD87C2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3E3-7F62-4CA4-8138-47C190A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987-7C1A-4F95-AE0E-7B9E7E5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502-859B-4645-8558-BD0C988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57B-10E1-4454-A0CD-37CC35608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最低工資及標準工時意見調查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8</a:t>
            </a:r>
            <a:br>
              <a:rPr sz="4000"/>
            </a:br>
            <a:br>
              <a:rPr sz="24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結果簡報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29000" y="8380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219320" y="685800"/>
          <a:ext cx="1609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1609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6"/>
          <p:cNvSpPr/>
          <p:nvPr/>
        </p:nvSpPr>
        <p:spPr>
          <a:xfrm>
            <a:off x="500040" y="457200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民意研究計劃主任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14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本報告內一切內容與香港大學立場無關，內容由民意研究計劃主任鍾庭耀博士負責。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714240" y="25002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714240" y="414324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8487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如果要立法，最低工資應該是多少？ </a:t>
            </a: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每天工作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小時，每月工作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85960" y="1285920"/>
          <a:ext cx="2214720" cy="171432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6,608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$97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5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06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Line 14"/>
          <p:cNvSpPr/>
          <p:nvPr/>
        </p:nvSpPr>
        <p:spPr>
          <a:xfrm>
            <a:off x="357120" y="857160"/>
            <a:ext cx="83822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57880" y="1285920"/>
          <a:ext cx="2214360" cy="1714320"/>
        </p:xfrm>
        <a:graphic>
          <a:graphicData uri="http://schemas.openxmlformats.org/drawingml/2006/table">
            <a:tbl>
              <a:tblPr/>
              <a:tblGrid>
                <a:gridCol w="2214360"/>
              </a:tblGrid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7,192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$127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7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8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32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圖表 15" descr=""/>
          <p:cNvPicPr/>
          <p:nvPr/>
        </p:nvPicPr>
        <p:blipFill>
          <a:blip r:embed="rId1"/>
          <a:stretch/>
        </p:blipFill>
        <p:spPr>
          <a:xfrm>
            <a:off x="208080" y="3206880"/>
            <a:ext cx="8654760" cy="3157560"/>
          </a:xfrm>
          <a:prstGeom prst="rect">
            <a:avLst/>
          </a:prstGeom>
          <a:ln w="0">
            <a:noFill/>
          </a:ln>
        </p:spPr>
      </p:pic>
      <p:sp>
        <p:nvSpPr>
          <p:cNvPr id="104" name="矩形 6"/>
          <p:cNvSpPr/>
          <p:nvPr/>
        </p:nvSpPr>
        <p:spPr>
          <a:xfrm>
            <a:off x="500040" y="6215040"/>
            <a:ext cx="43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D5F-79D6-40F4-9B2E-678F5E8DE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最低工資應否與入息中位數掛勾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785880" y="15001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9" name="圖表 7" descr=""/>
          <p:cNvPicPr/>
          <p:nvPr/>
        </p:nvPicPr>
        <p:blipFill>
          <a:blip r:embed="rId1"/>
          <a:stretch/>
        </p:blipFill>
        <p:spPr>
          <a:xfrm>
            <a:off x="353880" y="2066760"/>
            <a:ext cx="4724640" cy="3937320"/>
          </a:xfrm>
          <a:prstGeom prst="rect">
            <a:avLst/>
          </a:prstGeom>
          <a:ln w="0">
            <a:noFill/>
          </a:ln>
        </p:spPr>
      </p:pic>
      <p:sp>
        <p:nvSpPr>
          <p:cNvPr id="110" name="矩形 11"/>
          <p:cNvSpPr/>
          <p:nvPr/>
        </p:nvSpPr>
        <p:spPr>
          <a:xfrm>
            <a:off x="571680" y="5572080"/>
            <a:ext cx="43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投影片編號版面配置區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7CE3-91C9-45A7-8D20-87C1B192D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2" name="圖表 8" descr=""/>
          <p:cNvPicPr/>
          <p:nvPr/>
        </p:nvPicPr>
        <p:blipFill>
          <a:blip r:embed="rId2"/>
          <a:stretch/>
        </p:blipFill>
        <p:spPr>
          <a:xfrm>
            <a:off x="4992840" y="2066760"/>
            <a:ext cx="4730760" cy="39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3059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傾向贊成定反對「最低工資立法應以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『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保障全港低薪打工仔免於貧窮</a:t>
            </a:r>
            <a:r>
              <a:rPr b="1" lang="en-US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』</a:t>
            </a: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為目標」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714240" y="164304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6" name="圖表 8" descr=""/>
          <p:cNvPicPr/>
          <p:nvPr/>
        </p:nvPicPr>
        <p:blipFill>
          <a:blip r:embed="rId1"/>
          <a:stretch/>
        </p:blipFill>
        <p:spPr>
          <a:xfrm>
            <a:off x="706320" y="2054160"/>
            <a:ext cx="7731360" cy="3737160"/>
          </a:xfrm>
          <a:prstGeom prst="rect">
            <a:avLst/>
          </a:prstGeom>
          <a:ln w="0">
            <a:noFill/>
          </a:ln>
        </p:spPr>
      </p:pic>
      <p:sp>
        <p:nvSpPr>
          <p:cNvPr id="117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E77-6A81-4AF2-81A7-988FC2945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7848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如果政府只為清潔及保安兩個行業訂定最低工資，你認為達到</a:t>
            </a:r>
            <a:r>
              <a:rPr b="1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『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保障全港低薪打工仔免於貧窮</a:t>
            </a:r>
            <a:r>
              <a:rPr b="1" lang="en-US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』 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既機會有幾大？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57120" y="171468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0" name="圖表 8" descr=""/>
          <p:cNvPicPr/>
          <p:nvPr/>
        </p:nvPicPr>
        <p:blipFill>
          <a:blip r:embed="rId1"/>
          <a:stretch/>
        </p:blipFill>
        <p:spPr>
          <a:xfrm>
            <a:off x="633240" y="1706400"/>
            <a:ext cx="7729560" cy="4445280"/>
          </a:xfrm>
          <a:prstGeom prst="rect">
            <a:avLst/>
          </a:prstGeom>
          <a:ln w="0">
            <a:noFill/>
          </a:ln>
        </p:spPr>
      </p:pic>
      <p:sp>
        <p:nvSpPr>
          <p:cNvPr id="121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FE5-AFBD-4A8A-ACCB-9B48B4221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最高工時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18E-1D98-473B-84F8-C633BF581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71320" y="857160"/>
            <a:ext cx="814356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香港人超時工作問題是否嚴重？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圖表 7" descr=""/>
          <p:cNvPicPr/>
          <p:nvPr/>
        </p:nvPicPr>
        <p:blipFill>
          <a:blip r:embed="rId1"/>
          <a:stretch/>
        </p:blipFill>
        <p:spPr>
          <a:xfrm>
            <a:off x="353880" y="1920960"/>
            <a:ext cx="4583160" cy="4303800"/>
          </a:xfrm>
          <a:prstGeom prst="rect">
            <a:avLst/>
          </a:prstGeom>
          <a:ln w="0">
            <a:noFill/>
          </a:ln>
        </p:spPr>
      </p:pic>
      <p:pic>
        <p:nvPicPr>
          <p:cNvPr id="130" name="圖表 8" descr=""/>
          <p:cNvPicPr/>
          <p:nvPr/>
        </p:nvPicPr>
        <p:blipFill>
          <a:blip r:embed="rId2"/>
          <a:stretch/>
        </p:blipFill>
        <p:spPr>
          <a:xfrm>
            <a:off x="4565520" y="1920960"/>
            <a:ext cx="4297320" cy="437040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785880" y="5500800"/>
            <a:ext cx="43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投影片編號版面配置區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8D4-9E10-431A-9EBD-E7F06B4C6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1439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對立法訂定最高工時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785880" y="178596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6" name="圖表 7" descr=""/>
          <p:cNvPicPr/>
          <p:nvPr/>
        </p:nvPicPr>
        <p:blipFill>
          <a:blip r:embed="rId1"/>
          <a:stretch/>
        </p:blipFill>
        <p:spPr>
          <a:xfrm>
            <a:off x="420840" y="1920960"/>
            <a:ext cx="4584600" cy="4303800"/>
          </a:xfrm>
          <a:prstGeom prst="rect">
            <a:avLst/>
          </a:prstGeom>
          <a:ln w="0">
            <a:noFill/>
          </a:ln>
        </p:spPr>
      </p:pic>
      <p:pic>
        <p:nvPicPr>
          <p:cNvPr id="137" name="圖表 9" descr=""/>
          <p:cNvPicPr/>
          <p:nvPr/>
        </p:nvPicPr>
        <p:blipFill>
          <a:blip r:embed="rId2"/>
          <a:stretch/>
        </p:blipFill>
        <p:spPr>
          <a:xfrm>
            <a:off x="4352760" y="1920960"/>
            <a:ext cx="4583160" cy="4370400"/>
          </a:xfrm>
          <a:prstGeom prst="rect">
            <a:avLst/>
          </a:prstGeom>
          <a:ln w="0">
            <a:noFill/>
          </a:ln>
        </p:spPr>
      </p:pic>
      <p:sp>
        <p:nvSpPr>
          <p:cNvPr id="138" name="矩形 6"/>
          <p:cNvSpPr/>
          <p:nvPr/>
        </p:nvSpPr>
        <p:spPr>
          <a:xfrm>
            <a:off x="571680" y="5715000"/>
            <a:ext cx="43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投影片編號版面配置區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85C7-D92B-43C3-B3E5-BD9A88224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被訪者認為合理的每週最高工時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00120" y="1500120"/>
          <a:ext cx="2500560" cy="182880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0.34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5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64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Line 17"/>
          <p:cNvSpPr/>
          <p:nvPr/>
        </p:nvSpPr>
        <p:spPr>
          <a:xfrm>
            <a:off x="500040" y="1357200"/>
            <a:ext cx="83059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3" name="圖表 14" descr=""/>
          <p:cNvPicPr/>
          <p:nvPr/>
        </p:nvPicPr>
        <p:blipFill>
          <a:blip r:embed="rId1"/>
          <a:stretch/>
        </p:blipFill>
        <p:spPr>
          <a:xfrm>
            <a:off x="281160" y="3352680"/>
            <a:ext cx="8442000" cy="287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072040" y="1500120"/>
          <a:ext cx="2643120" cy="182880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7.4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0.32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8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92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矩形 6"/>
          <p:cNvSpPr/>
          <p:nvPr/>
        </p:nvSpPr>
        <p:spPr>
          <a:xfrm>
            <a:off x="214200" y="6215040"/>
            <a:ext cx="43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44D-18C9-41E1-AEBF-B586B7FA7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如果要立法，每週最高工時應該是多少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57200" y="1428840"/>
          <a:ext cx="2571840" cy="18288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50.8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0.41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5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40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Line 14"/>
          <p:cNvSpPr/>
          <p:nvPr/>
        </p:nvSpPr>
        <p:spPr>
          <a:xfrm>
            <a:off x="357120" y="121428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72040" y="1428840"/>
          <a:ext cx="2571840" cy="18288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9.3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*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0.36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48.0</a:t>
                      </a: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小時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8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67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矩形 6"/>
          <p:cNvSpPr/>
          <p:nvPr/>
        </p:nvSpPr>
        <p:spPr>
          <a:xfrm>
            <a:off x="428760" y="6215040"/>
            <a:ext cx="43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2" name="圖表 7" descr=""/>
          <p:cNvPicPr/>
          <p:nvPr/>
        </p:nvPicPr>
        <p:blipFill>
          <a:blip r:embed="rId1"/>
          <a:stretch/>
        </p:blipFill>
        <p:spPr>
          <a:xfrm>
            <a:off x="133200" y="3279600"/>
            <a:ext cx="8656920" cy="3084840"/>
          </a:xfrm>
          <a:prstGeom prst="rect">
            <a:avLst/>
          </a:prstGeom>
          <a:ln w="0">
            <a:noFill/>
          </a:ln>
        </p:spPr>
      </p:pic>
      <p:sp>
        <p:nvSpPr>
          <p:cNvPr id="153" name="投影片編號版面配置區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BF4-07BC-4621-B335-0CA57263D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27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28684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對最低工資及最高工時的取態 </a:t>
            </a:r>
            <a:r>
              <a:rPr b="1" lang="en-US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– </a:t>
            </a: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綜合數據</a:t>
            </a: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Text Box 1031"/>
          <p:cNvSpPr/>
          <p:nvPr/>
        </p:nvSpPr>
        <p:spPr>
          <a:xfrm>
            <a:off x="3143160" y="5715000"/>
            <a:ext cx="585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#</a:t>
            </a:r>
            <a:r>
              <a:rPr b="1" i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包括於其中一項，或兩項均選答「一半半」或「唔知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/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難講」的被訪者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Line 1032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圖表 10" descr=""/>
          <p:cNvPicPr/>
          <p:nvPr/>
        </p:nvPicPr>
        <p:blipFill>
          <a:blip r:embed="rId1"/>
          <a:stretch/>
        </p:blipFill>
        <p:spPr>
          <a:xfrm>
            <a:off x="4280040" y="1639800"/>
            <a:ext cx="4644720" cy="4224600"/>
          </a:xfrm>
          <a:prstGeom prst="rect">
            <a:avLst/>
          </a:prstGeom>
          <a:ln w="0">
            <a:noFill/>
          </a:ln>
        </p:spPr>
      </p:pic>
      <p:pic>
        <p:nvPicPr>
          <p:cNvPr id="159" name="圖表 7" descr=""/>
          <p:cNvPicPr/>
          <p:nvPr/>
        </p:nvPicPr>
        <p:blipFill>
          <a:blip r:embed="rId2"/>
          <a:stretch/>
        </p:blipFill>
        <p:spPr>
          <a:xfrm>
            <a:off x="420840" y="1639800"/>
            <a:ext cx="4657680" cy="4797360"/>
          </a:xfrm>
          <a:prstGeom prst="rect">
            <a:avLst/>
          </a:prstGeom>
          <a:ln w="0">
            <a:noFill/>
          </a:ln>
        </p:spPr>
      </p:pic>
      <p:sp>
        <p:nvSpPr>
          <p:cNvPr id="160" name="投影片編號版面配置區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CC59-FD8E-445E-AB0F-64F34446D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Line 1030"/>
          <p:cNvSpPr/>
          <p:nvPr/>
        </p:nvSpPr>
        <p:spPr>
          <a:xfrm>
            <a:off x="785880" y="142884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CFF-95CC-4F1F-B42D-2F0B9CB7B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spcBef>
                <a:spcPts val="601"/>
              </a:spcBef>
              <a:spcAft>
                <a:spcPts val="1199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繼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2005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7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後，樂施會於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2008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5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再次委託香港大學民意研究計劃進行</a:t>
            </a:r>
            <a:r>
              <a:rPr b="0" lang="en-US" sz="2800" spc="-1" strike="noStrike">
                <a:solidFill>
                  <a:srgbClr val="ccffff"/>
                </a:solidFill>
                <a:latin typeface="新細明體"/>
              </a:rPr>
              <a:t>《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最低工資及標準工時意見調查</a:t>
            </a:r>
            <a:r>
              <a:rPr b="0" lang="en-US" sz="2800" spc="-1" strike="noStrike">
                <a:solidFill>
                  <a:srgbClr val="ccffff"/>
                </a:solidFill>
                <a:latin typeface="新細明體"/>
              </a:rPr>
              <a:t>》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spcBef>
                <a:spcPts val="601"/>
              </a:spcBef>
              <a:spcAft>
                <a:spcPts val="1199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目的：瞭解香港市民對立法訂定最低工資及標準工時的意見，並與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三年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前的調查結果作出比較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spcBef>
                <a:spcPts val="601"/>
              </a:spcBef>
              <a:spcAft>
                <a:spcPts val="1199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問卷由民研計劃諮詢樂施會後獨立設計，數據收集及分析由民研計劃獨立進行，結果亦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由民研計劃全面負責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被訪者的性別分佈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Line 1032"/>
          <p:cNvSpPr/>
          <p:nvPr/>
        </p:nvSpPr>
        <p:spPr>
          <a:xfrm>
            <a:off x="714240" y="164304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圖表 5" descr=""/>
          <p:cNvPicPr/>
          <p:nvPr/>
        </p:nvPicPr>
        <p:blipFill>
          <a:blip r:embed="rId1"/>
          <a:stretch/>
        </p:blipFill>
        <p:spPr>
          <a:xfrm>
            <a:off x="1279440" y="1994040"/>
            <a:ext cx="6443640" cy="3797280"/>
          </a:xfrm>
          <a:prstGeom prst="rect">
            <a:avLst/>
          </a:prstGeom>
          <a:ln w="0">
            <a:noFill/>
          </a:ln>
        </p:spPr>
      </p:pic>
      <p:sp>
        <p:nvSpPr>
          <p:cNvPr id="164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EAD5-2EED-429C-80C8-E03B871D0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被訪者的年齡分佈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Line 1032"/>
          <p:cNvSpPr/>
          <p:nvPr/>
        </p:nvSpPr>
        <p:spPr>
          <a:xfrm>
            <a:off x="714240" y="164304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7" name="圖表 7" descr=""/>
          <p:cNvPicPr/>
          <p:nvPr/>
        </p:nvPicPr>
        <p:blipFill>
          <a:blip r:embed="rId1"/>
          <a:stretch/>
        </p:blipFill>
        <p:spPr>
          <a:xfrm>
            <a:off x="993600" y="1920960"/>
            <a:ext cx="6944040" cy="4230720"/>
          </a:xfrm>
          <a:prstGeom prst="rect">
            <a:avLst/>
          </a:prstGeom>
          <a:ln w="0">
            <a:noFill/>
          </a:ln>
        </p:spPr>
      </p:pic>
      <p:sp>
        <p:nvSpPr>
          <p:cNvPr id="168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52D-35DD-4DFD-83FB-5415CBCEA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結語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2600" y="2143080"/>
            <a:ext cx="7643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比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5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中，市民對最低工資問題的</a:t>
            </a:r>
            <a:r>
              <a:rPr b="0" lang="zh-TW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關注程度明顯上升，亦更加支持立法訂定最低工資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雖然表示關注的巿民只有三分一，但支持立法就超過七成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理據方面，與三年前差不多，立法好處主要在於「</a:t>
            </a:r>
            <a:r>
              <a:rPr b="0" lang="zh-TW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保障工人的最基本生活水平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」，壞處主要在於「增加成本／削弱本港競爭力」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spcAft>
                <a:spcPts val="1199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立法的話，巿民一般認為法定最低工資應該定於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$7,200</a:t>
            </a:r>
            <a:r>
              <a:rPr b="0" lang="zh-TW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左右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撇除通脹因素之後，數值其實與三年前的調查結果差不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428760" y="1714680"/>
            <a:ext cx="8381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C92B-7B3B-4691-AE06-5B273AE8A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結語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2428920"/>
            <a:ext cx="767232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於標準工時方面，巿民的意見其實與三年前差不多。大部份巿民認為港人超時工作的問題「嚴重」，接近</a:t>
            </a:r>
            <a:r>
              <a:rPr b="0" lang="zh-TW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三分二支持立法訂定最高工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至於規管</a:t>
            </a:r>
            <a:r>
              <a:rPr b="0" lang="ja-JP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水平方面，平均答案是</a:t>
            </a:r>
            <a:r>
              <a:rPr b="0" lang="ja-JP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每週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49</a:t>
            </a:r>
            <a:r>
              <a:rPr b="0" lang="zh-TW" sz="2400" spc="-1" strike="noStrike" u="sng">
                <a:solidFill>
                  <a:srgbClr val="ffff00"/>
                </a:solidFill>
                <a:uFillTx/>
                <a:latin typeface="Times New Roman"/>
                <a:ea typeface="標楷體"/>
              </a:rPr>
              <a:t>小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比三年前的結果相差不遠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總而言之，經過多年的討論，巿民對立法訂定最低工資和最高工時的問題，似乎已經比以前掌握多很多，而支持立法的聲音，亦比以前強了很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636-654A-4853-899B-85EDBD6BA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28760" y="2000160"/>
            <a:ext cx="8381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785880" y="42861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詳細調查結果，請瀏覽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714240" y="357192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714240" y="19288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98F7-2679-4036-9C55-94C3EA31E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210200" y="3157560"/>
            <a:ext cx="9144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方法及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295280" y="1828800"/>
            <a:ext cx="7010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8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至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6</a:t>
            </a: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歲或以上操粵語的香港市民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1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70.4%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2%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09480" y="175248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118D-C846-4D43-8457-7195EB5AE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對立法訂定</a:t>
            </a:r>
            <a:br>
              <a:rPr sz="4400"/>
            </a:b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最低工資的意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24F-D754-42AB-85A8-5AF41D1F7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14200" y="42840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  <a:ea typeface="標楷體"/>
              </a:rPr>
              <a:t>對本地最低工資消息的關心程度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2960" y="157176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0" name="圖表 12" descr=""/>
          <p:cNvPicPr/>
          <p:nvPr/>
        </p:nvPicPr>
        <p:blipFill>
          <a:blip r:embed="rId1"/>
          <a:stretch/>
        </p:blipFill>
        <p:spPr>
          <a:xfrm>
            <a:off x="281160" y="1779480"/>
            <a:ext cx="5082840" cy="4157640"/>
          </a:xfrm>
          <a:prstGeom prst="rect">
            <a:avLst/>
          </a:prstGeom>
          <a:ln w="0">
            <a:noFill/>
          </a:ln>
        </p:spPr>
      </p:pic>
      <p:pic>
        <p:nvPicPr>
          <p:cNvPr id="71" name="圖表 13" descr=""/>
          <p:cNvPicPr/>
          <p:nvPr/>
        </p:nvPicPr>
        <p:blipFill>
          <a:blip r:embed="rId2"/>
          <a:stretch/>
        </p:blipFill>
        <p:spPr>
          <a:xfrm>
            <a:off x="4352760" y="1779480"/>
            <a:ext cx="4583160" cy="4445280"/>
          </a:xfrm>
          <a:prstGeom prst="rect">
            <a:avLst/>
          </a:prstGeom>
          <a:ln w="0">
            <a:noFill/>
          </a:ln>
        </p:spPr>
      </p:pic>
      <p:sp>
        <p:nvSpPr>
          <p:cNvPr id="72" name="文字方塊 6"/>
          <p:cNvSpPr/>
          <p:nvPr/>
        </p:nvSpPr>
        <p:spPr>
          <a:xfrm>
            <a:off x="714240" y="5715000"/>
            <a:ext cx="57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1EA-633E-40AC-9A97-306D4ADB4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3059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對立法訂定最低工資的取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785880" y="1571760"/>
            <a:ext cx="77724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6" name="圖表 9" descr=""/>
          <p:cNvPicPr/>
          <p:nvPr/>
        </p:nvPicPr>
        <p:blipFill>
          <a:blip r:embed="rId1"/>
          <a:stretch/>
        </p:blipFill>
        <p:spPr>
          <a:xfrm>
            <a:off x="426960" y="1920960"/>
            <a:ext cx="4510080" cy="3943440"/>
          </a:xfrm>
          <a:prstGeom prst="rect">
            <a:avLst/>
          </a:prstGeom>
          <a:ln w="0">
            <a:noFill/>
          </a:ln>
        </p:spPr>
      </p:pic>
      <p:pic>
        <p:nvPicPr>
          <p:cNvPr id="77" name="圖表 10" descr=""/>
          <p:cNvPicPr/>
          <p:nvPr/>
        </p:nvPicPr>
        <p:blipFill>
          <a:blip r:embed="rId2"/>
          <a:stretch/>
        </p:blipFill>
        <p:spPr>
          <a:xfrm>
            <a:off x="4352760" y="1920960"/>
            <a:ext cx="4583160" cy="4155840"/>
          </a:xfrm>
          <a:prstGeom prst="rect">
            <a:avLst/>
          </a:prstGeom>
          <a:ln w="0">
            <a:noFill/>
          </a:ln>
        </p:spPr>
      </p:pic>
      <p:sp>
        <p:nvSpPr>
          <p:cNvPr id="78" name="文字方塊 5"/>
          <p:cNvSpPr/>
          <p:nvPr/>
        </p:nvSpPr>
        <p:spPr>
          <a:xfrm>
            <a:off x="714240" y="5715000"/>
            <a:ext cx="57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BC7-2885-41D1-982C-25140BDD1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圖表 7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29600" cy="494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848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立法訂定最低工資的好處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文字方塊 13"/>
          <p:cNvSpPr/>
          <p:nvPr/>
        </p:nvSpPr>
        <p:spPr>
          <a:xfrm>
            <a:off x="785880" y="57150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佔回答人數百分比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643200" y="62866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285840" y="128592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投影片編號版面配置區 7"/>
          <p:cNvSpPr/>
          <p:nvPr/>
        </p:nvSpPr>
        <p:spPr>
          <a:xfrm>
            <a:off x="6929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3EB6-E803-41E8-9342-539726B9F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圖表 6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296560" cy="472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15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標楷體"/>
                <a:ea typeface="標楷體"/>
              </a:rPr>
              <a:t>立法訂定最低工資的壞處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429000" y="5929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285840" y="135720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AB2-9ED8-4F2C-BA97-E179BBA79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文字方塊 7"/>
          <p:cNvSpPr/>
          <p:nvPr/>
        </p:nvSpPr>
        <p:spPr>
          <a:xfrm>
            <a:off x="785880" y="550080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佔回答人數百分比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圖表 14" descr=""/>
          <p:cNvPicPr/>
          <p:nvPr/>
        </p:nvPicPr>
        <p:blipFill>
          <a:blip r:embed="rId1"/>
          <a:stretch/>
        </p:blipFill>
        <p:spPr>
          <a:xfrm>
            <a:off x="281160" y="3067200"/>
            <a:ext cx="8508960" cy="322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848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被訪者認為合理的最低月薪</a:t>
            </a:r>
            <a:br>
              <a:rPr sz="2000"/>
            </a:b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每天工作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小時，每月工作</a:t>
            </a:r>
            <a:r>
              <a:rPr b="1" lang="en-US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26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天計 ）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14680" y="1285920"/>
          <a:ext cx="2143080" cy="17143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042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$133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5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379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Line 23"/>
          <p:cNvSpPr/>
          <p:nvPr/>
        </p:nvSpPr>
        <p:spPr>
          <a:xfrm>
            <a:off x="285840" y="857160"/>
            <a:ext cx="84582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57880" y="1285920"/>
          <a:ext cx="2143080" cy="17143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401*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標準誤差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$137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眾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2008 (</a:t>
                      </a: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432)</a:t>
                      </a:r>
                      <a:endParaRPr b="1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矩形 6"/>
          <p:cNvSpPr/>
          <p:nvPr/>
        </p:nvSpPr>
        <p:spPr>
          <a:xfrm>
            <a:off x="500040" y="6215040"/>
            <a:ext cx="43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5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**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單尾檢驗顯示結果在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&lt;0.01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置信水平之內變化顯著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投影片編號版面配置區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FA3C-11C7-43D8-845E-F9061E6D8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8-07-14T05:16:00Z</dcterms:modified>
  <cp:revision>839</cp:revision>
  <dc:subject/>
  <dc:title>無投影片標題</dc:title>
</cp:coreProperties>
</file>