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13.jpeg" ContentType="image/jpeg"/>
  <Override PartName="/ppt/media/image44.png" ContentType="image/png"/>
  <Override PartName="/ppt/media/image4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856-4815-4368-8226-F859F09B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9C8-06A3-4211-81B6-0D866929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AFF-C81B-43C6-BA69-AC15477B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820-F826-4D34-A6C3-87320957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92F-54AC-4F94-A437-F99EA29D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BCC-12FC-4DEC-800A-DDAF2DEE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62A0-21D8-424D-8DC5-B55A6357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6A8-C66C-439B-9B1E-182BA04E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836-DB3D-42D2-9793-2FFD32E5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0EF-9E63-4277-89BA-68CB33A3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DF2-625C-48E0-B893-DF36C3D1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0BD-E3F6-4584-B8F7-4A4D5AAB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CFFE-C1FF-4DB8-A803-0A311DFB45D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kda.com.hk/index.ph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kda.com.hk/index.ph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fs.gov.hk/english/programme/programme_nifl/files/Energy_E.pdf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92d050"/>
                </a:solidFill>
                <a:latin typeface="Calibri"/>
              </a:rPr>
              <a:t>調查結果闡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香港營養師協會會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澳洲註冊營養師林思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hkda.com.hk/skins/Classic/styleImages/backgrounds/hkda-log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5438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issue6oxyntomodulin3_large.jpg"/>
          <p:cNvPicPr/>
          <p:nvPr/>
        </p:nvPicPr>
        <p:blipFill>
          <a:blip r:embed="rId1"/>
          <a:stretch/>
        </p:blipFill>
        <p:spPr>
          <a:xfrm>
            <a:off x="1066680" y="1371600"/>
            <a:ext cx="7239240" cy="52862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395280" y="1890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細明體"/>
                <a:ea typeface="細明體"/>
              </a:rPr>
              <a:t>體重控制的原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900000" y="1143000"/>
            <a:ext cx="7489800" cy="3124080"/>
            <a:chOff x="900000" y="1143000"/>
            <a:chExt cx="7489800" cy="3124080"/>
          </a:xfrm>
        </p:grpSpPr>
        <p:sp>
          <p:nvSpPr>
            <p:cNvPr id="105" name="Text Box 6"/>
            <p:cNvSpPr/>
            <p:nvPr/>
          </p:nvSpPr>
          <p:spPr>
            <a:xfrm>
              <a:off x="2700360" y="1143000"/>
              <a:ext cx="3672000" cy="57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</a:rPr>
                <a:t>保持體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7"/>
            <p:cNvSpPr/>
            <p:nvPr/>
          </p:nvSpPr>
          <p:spPr>
            <a:xfrm>
              <a:off x="6157800" y="1828800"/>
              <a:ext cx="2232000" cy="522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新細明體"/>
                </a:rPr>
                <a:t>減輕體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8"/>
            <p:cNvSpPr/>
            <p:nvPr/>
          </p:nvSpPr>
          <p:spPr>
            <a:xfrm>
              <a:off x="900000" y="1828800"/>
              <a:ext cx="2071800" cy="522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</a:rPr>
                <a:t>增加</a:t>
              </a:r>
              <a:r>
                <a:rPr b="1" lang="zh-TW" sz="2800" spc="-1" strike="noStrike">
                  <a:solidFill>
                    <a:srgbClr val="000000"/>
                  </a:solidFill>
                  <a:latin typeface="新細明體"/>
                </a:rPr>
                <a:t>體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"/>
            <p:cNvSpPr/>
            <p:nvPr/>
          </p:nvSpPr>
          <p:spPr>
            <a:xfrm>
              <a:off x="5149800" y="3790800"/>
              <a:ext cx="3240000" cy="47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能量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消耗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(</a:t>
              </a:r>
              <a:r>
                <a:rPr b="1" lang="zh-TW" sz="2000" spc="-1" strike="noStrike">
                  <a:solidFill>
                    <a:srgbClr val="000000"/>
                  </a:solidFill>
                  <a:latin typeface="Times New Roman"/>
                </a:rPr>
                <a:t>運動量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973080" y="3790800"/>
              <a:ext cx="2879640" cy="476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能量攝取 </a:t>
              </a: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食物攝取量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22160" y="32238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4% </a:t>
            </a: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市民認為部份食物及飲品不可以成為均衡飲食的一部份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0800" y="-762120"/>
            <a:ext cx="19454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b7dee8"/>
                </a:solidFill>
                <a:latin typeface="Calibri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Placeholder 4"/>
          <p:cNvSpPr/>
          <p:nvPr/>
        </p:nvSpPr>
        <p:spPr>
          <a:xfrm>
            <a:off x="3352680" y="45720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4bacc6"/>
                </a:solidFill>
                <a:latin typeface="Calibri"/>
              </a:rPr>
              <a:t>「均衡飲食即係唔好食雪糕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4bacc6"/>
                </a:solidFill>
                <a:latin typeface="Calibri"/>
              </a:rPr>
              <a:t>薯片、朱古力及汽水。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1"/>
          <p:cNvGrpSpPr/>
          <p:nvPr/>
        </p:nvGrpSpPr>
        <p:grpSpPr>
          <a:xfrm>
            <a:off x="685800" y="4952880"/>
            <a:ext cx="1295280" cy="1524240"/>
            <a:chOff x="685800" y="4952880"/>
            <a:chExt cx="1295280" cy="1524240"/>
          </a:xfrm>
        </p:grpSpPr>
        <p:pic>
          <p:nvPicPr>
            <p:cNvPr id="114" name="Picture 4" descr="cones,dairy products,dining,food,ice cream,ice cream cones,ice creams,snacks,treats"/>
            <p:cNvPicPr/>
            <p:nvPr/>
          </p:nvPicPr>
          <p:blipFill>
            <a:blip r:embed="rId1"/>
            <a:stretch/>
          </p:blipFill>
          <p:spPr>
            <a:xfrm>
              <a:off x="780480" y="5126040"/>
              <a:ext cx="1137600" cy="124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Multiply 7"/>
            <p:cNvSpPr/>
            <p:nvPr/>
          </p:nvSpPr>
          <p:spPr>
            <a:xfrm>
              <a:off x="685800" y="4952880"/>
              <a:ext cx="1295280" cy="1524240"/>
            </a:xfrm>
            <a:custGeom>
              <a:avLst/>
              <a:gdLst>
                <a:gd name="textAreaLeft" fmla="*/ 258480 w 1295280"/>
                <a:gd name="textAreaRight" fmla="*/ 1036800 w 1295280"/>
                <a:gd name="textAreaTop" fmla="*/ 312480 h 1524240"/>
                <a:gd name="textAreaBottom" fmla="*/ 1211760 h 1524240"/>
              </a:gdLst>
              <a:ahLst/>
              <a:rect l="textAreaLeft" t="textAreaTop" r="textAreaRight" b="textAreaBottom"/>
              <a:pathLst>
                <a:path w="3124200" h="3352800">
                  <a:moveTo>
                    <a:pt x="624116" y="922890"/>
                  </a:moveTo>
                  <a:lnTo>
                    <a:pt x="876593" y="687627"/>
                  </a:lnTo>
                  <a:lnTo>
                    <a:pt x="1562100" y="1423293"/>
                  </a:lnTo>
                  <a:lnTo>
                    <a:pt x="2247607" y="687627"/>
                  </a:lnTo>
                  <a:lnTo>
                    <a:pt x="2500084" y="922890"/>
                  </a:lnTo>
                  <a:lnTo>
                    <a:pt x="1797950" y="1676400"/>
                  </a:lnTo>
                  <a:lnTo>
                    <a:pt x="2500084" y="2429910"/>
                  </a:lnTo>
                  <a:lnTo>
                    <a:pt x="2247607" y="2665173"/>
                  </a:lnTo>
                  <a:lnTo>
                    <a:pt x="1562100" y="1929507"/>
                  </a:lnTo>
                  <a:lnTo>
                    <a:pt x="876593" y="2665173"/>
                  </a:lnTo>
                  <a:lnTo>
                    <a:pt x="624116" y="2429910"/>
                  </a:lnTo>
                  <a:lnTo>
                    <a:pt x="1326250" y="16764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2666880" y="4800600"/>
            <a:ext cx="1676520" cy="2057400"/>
            <a:chOff x="2666880" y="4800600"/>
            <a:chExt cx="1676520" cy="2057400"/>
          </a:xfrm>
        </p:grpSpPr>
        <p:pic>
          <p:nvPicPr>
            <p:cNvPr id="117" name="Picture 6" descr="chocolates,dining,food"/>
            <p:cNvPicPr/>
            <p:nvPr/>
          </p:nvPicPr>
          <p:blipFill>
            <a:blip r:embed="rId2"/>
            <a:stretch/>
          </p:blipFill>
          <p:spPr>
            <a:xfrm>
              <a:off x="2707560" y="4893840"/>
              <a:ext cx="1594800" cy="18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Multiply 10"/>
            <p:cNvSpPr/>
            <p:nvPr/>
          </p:nvSpPr>
          <p:spPr>
            <a:xfrm>
              <a:off x="2666880" y="4800600"/>
              <a:ext cx="1676520" cy="2057400"/>
            </a:xfrm>
            <a:custGeom>
              <a:avLst/>
              <a:gdLst>
                <a:gd name="textAreaLeft" fmla="*/ 334800 w 1676520"/>
                <a:gd name="textAreaRight" fmla="*/ 1341720 w 1676520"/>
                <a:gd name="textAreaTop" fmla="*/ 421920 h 2057400"/>
                <a:gd name="textAreaBottom" fmla="*/ 1635480 h 2057400"/>
              </a:gdLst>
              <a:ahLst/>
              <a:rect l="textAreaLeft" t="textAreaTop" r="textAreaRight" b="textAreaBottom"/>
              <a:pathLst>
                <a:path w="3124200" h="3352800">
                  <a:moveTo>
                    <a:pt x="624116" y="922890"/>
                  </a:moveTo>
                  <a:lnTo>
                    <a:pt x="876593" y="687627"/>
                  </a:lnTo>
                  <a:lnTo>
                    <a:pt x="1562100" y="1423293"/>
                  </a:lnTo>
                  <a:lnTo>
                    <a:pt x="2247607" y="687627"/>
                  </a:lnTo>
                  <a:lnTo>
                    <a:pt x="2500084" y="922890"/>
                  </a:lnTo>
                  <a:lnTo>
                    <a:pt x="1797950" y="1676400"/>
                  </a:lnTo>
                  <a:lnTo>
                    <a:pt x="2500084" y="2429910"/>
                  </a:lnTo>
                  <a:lnTo>
                    <a:pt x="2247607" y="2665173"/>
                  </a:lnTo>
                  <a:lnTo>
                    <a:pt x="1562100" y="1929507"/>
                  </a:lnTo>
                  <a:lnTo>
                    <a:pt x="876593" y="2665173"/>
                  </a:lnTo>
                  <a:lnTo>
                    <a:pt x="624116" y="2429910"/>
                  </a:lnTo>
                  <a:lnTo>
                    <a:pt x="1326250" y="16764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0"/>
          <p:cNvGrpSpPr/>
          <p:nvPr/>
        </p:nvGrpSpPr>
        <p:grpSpPr>
          <a:xfrm>
            <a:off x="4876920" y="4800600"/>
            <a:ext cx="1523880" cy="1905120"/>
            <a:chOff x="4876920" y="4800600"/>
            <a:chExt cx="1523880" cy="1905120"/>
          </a:xfrm>
        </p:grpSpPr>
        <p:pic>
          <p:nvPicPr>
            <p:cNvPr id="120" name="Picture 10" descr="candies,candy,dining,food"/>
            <p:cNvPicPr/>
            <p:nvPr/>
          </p:nvPicPr>
          <p:blipFill>
            <a:blip r:embed="rId3"/>
            <a:stretch/>
          </p:blipFill>
          <p:spPr>
            <a:xfrm>
              <a:off x="4876920" y="5103720"/>
              <a:ext cx="1263960" cy="14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Multiply 13"/>
            <p:cNvSpPr/>
            <p:nvPr/>
          </p:nvSpPr>
          <p:spPr>
            <a:xfrm>
              <a:off x="4876920" y="4800600"/>
              <a:ext cx="1523880" cy="1905120"/>
            </a:xfrm>
            <a:custGeom>
              <a:avLst/>
              <a:gdLst>
                <a:gd name="textAreaLeft" fmla="*/ 304200 w 1523880"/>
                <a:gd name="textAreaRight" fmla="*/ 1219680 w 1523880"/>
                <a:gd name="textAreaTop" fmla="*/ 390600 h 1905120"/>
                <a:gd name="textAreaBottom" fmla="*/ 1514520 h 1905120"/>
              </a:gdLst>
              <a:ahLst/>
              <a:rect l="textAreaLeft" t="textAreaTop" r="textAreaRight" b="textAreaBottom"/>
              <a:pathLst>
                <a:path w="3124200" h="3352800">
                  <a:moveTo>
                    <a:pt x="624116" y="922890"/>
                  </a:moveTo>
                  <a:lnTo>
                    <a:pt x="876593" y="687627"/>
                  </a:lnTo>
                  <a:lnTo>
                    <a:pt x="1562100" y="1423293"/>
                  </a:lnTo>
                  <a:lnTo>
                    <a:pt x="2247607" y="687627"/>
                  </a:lnTo>
                  <a:lnTo>
                    <a:pt x="2500084" y="922890"/>
                  </a:lnTo>
                  <a:lnTo>
                    <a:pt x="1797950" y="1676400"/>
                  </a:lnTo>
                  <a:lnTo>
                    <a:pt x="2500084" y="2429910"/>
                  </a:lnTo>
                  <a:lnTo>
                    <a:pt x="2247607" y="2665173"/>
                  </a:lnTo>
                  <a:lnTo>
                    <a:pt x="1562100" y="1929507"/>
                  </a:lnTo>
                  <a:lnTo>
                    <a:pt x="876593" y="2665173"/>
                  </a:lnTo>
                  <a:lnTo>
                    <a:pt x="624116" y="2429910"/>
                  </a:lnTo>
                  <a:lnTo>
                    <a:pt x="1326250" y="16764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4"/>
          <p:cNvGrpSpPr/>
          <p:nvPr/>
        </p:nvGrpSpPr>
        <p:grpSpPr>
          <a:xfrm>
            <a:off x="6858000" y="4876920"/>
            <a:ext cx="1676520" cy="1752480"/>
            <a:chOff x="6858000" y="4876920"/>
            <a:chExt cx="1676520" cy="1752480"/>
          </a:xfrm>
        </p:grpSpPr>
        <p:pic>
          <p:nvPicPr>
            <p:cNvPr id="123" name="Picture 2" descr="beverages,bottles,cups,drinks,paper cups,pop,pop bottles,soda bottles,sodas,soft drinks,straws"/>
            <p:cNvPicPr/>
            <p:nvPr/>
          </p:nvPicPr>
          <p:blipFill>
            <a:blip r:embed="rId4"/>
            <a:stretch/>
          </p:blipFill>
          <p:spPr>
            <a:xfrm>
              <a:off x="6939720" y="4876920"/>
              <a:ext cx="1554120" cy="147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Multiply 16"/>
            <p:cNvSpPr/>
            <p:nvPr/>
          </p:nvSpPr>
          <p:spPr>
            <a:xfrm>
              <a:off x="6858000" y="4916520"/>
              <a:ext cx="1676520" cy="1712880"/>
            </a:xfrm>
            <a:custGeom>
              <a:avLst/>
              <a:gdLst>
                <a:gd name="textAreaLeft" fmla="*/ 334800 w 1676520"/>
                <a:gd name="textAreaRight" fmla="*/ 1341720 w 1676520"/>
                <a:gd name="textAreaTop" fmla="*/ 351000 h 1712880"/>
                <a:gd name="textAreaBottom" fmla="*/ 1361880 h 1712880"/>
              </a:gdLst>
              <a:ahLst/>
              <a:rect l="textAreaLeft" t="textAreaTop" r="textAreaRight" b="textAreaBottom"/>
              <a:pathLst>
                <a:path w="3124200" h="3351350">
                  <a:moveTo>
                    <a:pt x="624141" y="922569"/>
                  </a:moveTo>
                  <a:lnTo>
                    <a:pt x="876568" y="687252"/>
                  </a:lnTo>
                  <a:lnTo>
                    <a:pt x="1562100" y="1422627"/>
                  </a:lnTo>
                  <a:lnTo>
                    <a:pt x="2247632" y="687252"/>
                  </a:lnTo>
                  <a:lnTo>
                    <a:pt x="2500059" y="922569"/>
                  </a:lnTo>
                  <a:lnTo>
                    <a:pt x="1797997" y="1675675"/>
                  </a:lnTo>
                  <a:lnTo>
                    <a:pt x="2500059" y="2428781"/>
                  </a:lnTo>
                  <a:lnTo>
                    <a:pt x="2247632" y="2664098"/>
                  </a:lnTo>
                  <a:lnTo>
                    <a:pt x="1562100" y="1928723"/>
                  </a:lnTo>
                  <a:lnTo>
                    <a:pt x="876568" y="2664098"/>
                  </a:lnTo>
                  <a:lnTo>
                    <a:pt x="624141" y="2428781"/>
                  </a:lnTo>
                  <a:lnTo>
                    <a:pt x="1326203" y="167567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57800" y="1519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美國營養師協會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merican Dietetic Association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年立場聲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76320" y="-11160"/>
            <a:ext cx="5181840" cy="686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3709800" cy="3352680"/>
          </a:xfrm>
          <a:prstGeom prst="rect">
            <a:avLst/>
          </a:prstGeom>
          <a:ln w="9360">
            <a:solidFill>
              <a:srgbClr val="92d05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Rectangle 4"/>
          <p:cNvSpPr/>
          <p:nvPr/>
        </p:nvSpPr>
        <p:spPr>
          <a:xfrm>
            <a:off x="1752480" y="2362320"/>
            <a:ext cx="1524240" cy="137160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rapezoid 9"/>
          <p:cNvSpPr/>
          <p:nvPr/>
        </p:nvSpPr>
        <p:spPr>
          <a:xfrm rot="16200000">
            <a:off x="2629080" y="2018880"/>
            <a:ext cx="3352680" cy="2057400"/>
          </a:xfrm>
          <a:custGeom>
            <a:avLst/>
            <a:gdLst>
              <a:gd name="textAreaLeft" fmla="*/ 639360 w 3352680"/>
              <a:gd name="textAreaRight" fmla="*/ 2713320 w 3352680"/>
              <a:gd name="textAreaTop" fmla="*/ 392400 h 2057400"/>
              <a:gd name="textAreaBottom" fmla="*/ 2057760 h 2057400"/>
            </a:gdLst>
            <a:ahLst/>
            <a:rect l="textAreaLeft" t="textAreaTop" r="textAreaRight" b="textAreaBottom"/>
            <a:pathLst>
              <a:path w="3352800" h="2057400">
                <a:moveTo>
                  <a:pt x="0" y="2057400"/>
                </a:moveTo>
                <a:lnTo>
                  <a:pt x="959201" y="0"/>
                </a:lnTo>
                <a:lnTo>
                  <a:pt x="2393599" y="0"/>
                </a:lnTo>
                <a:lnTo>
                  <a:pt x="3352800" y="2057400"/>
                </a:lnTo>
                <a:close/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www.hkda.com.hk/images/uploads/food_py.jpg"/>
          <p:cNvPicPr/>
          <p:nvPr/>
        </p:nvPicPr>
        <p:blipFill>
          <a:blip r:embed="rId1"/>
          <a:stretch/>
        </p:blipFill>
        <p:spPr>
          <a:xfrm>
            <a:off x="1371600" y="2166840"/>
            <a:ext cx="6149880" cy="3927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根據美國營養師協會的立場聲明指體重管理的關鍵在於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平衡每天的能量吸收和消耗，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Calibri"/>
              </a:rPr>
              <a:t>必需要定時運動和</a:t>
            </a:r>
            <a:br>
              <a:rPr sz="2400"/>
            </a:br>
            <a:r>
              <a:rPr b="1" lang="zh-TW" sz="2400" spc="-1" strike="noStrike" u="sng">
                <a:solidFill>
                  <a:srgbClr val="000000"/>
                </a:solidFill>
                <a:uFillTx/>
                <a:latin typeface="Calibri"/>
              </a:rPr>
              <a:t>控制飲食的份量，各種食物或飲品都可以作為均衡飲食的一部份</a:t>
            </a: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11"/>
          <p:cNvGrpSpPr/>
          <p:nvPr/>
        </p:nvGrpSpPr>
        <p:grpSpPr>
          <a:xfrm>
            <a:off x="5181480" y="2362320"/>
            <a:ext cx="2286000" cy="533160"/>
            <a:chOff x="5181480" y="2362320"/>
            <a:chExt cx="2286000" cy="533160"/>
          </a:xfrm>
        </p:grpSpPr>
        <p:pic>
          <p:nvPicPr>
            <p:cNvPr id="133" name="Picture 6" descr="chocolates,dining,food"/>
            <p:cNvPicPr/>
            <p:nvPr/>
          </p:nvPicPr>
          <p:blipFill>
            <a:blip r:embed="rId2"/>
            <a:stretch/>
          </p:blipFill>
          <p:spPr>
            <a:xfrm>
              <a:off x="6296400" y="2392560"/>
              <a:ext cx="543600" cy="4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2" descr="beverages,bottles,cups,drinks,paper cups,pop,pop bottles,soda bottles,sodas,soft drinks,straws"/>
            <p:cNvPicPr/>
            <p:nvPr/>
          </p:nvPicPr>
          <p:blipFill>
            <a:blip r:embed="rId3"/>
            <a:stretch/>
          </p:blipFill>
          <p:spPr>
            <a:xfrm>
              <a:off x="6854040" y="2368440"/>
              <a:ext cx="5295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4" descr="cones,dairy products,dining,food,ice cream,ice cream cones,ice creams,snacks,treats"/>
            <p:cNvPicPr/>
            <p:nvPr/>
          </p:nvPicPr>
          <p:blipFill>
            <a:blip r:embed="rId4"/>
            <a:stretch/>
          </p:blipFill>
          <p:spPr>
            <a:xfrm>
              <a:off x="5181480" y="2392560"/>
              <a:ext cx="501840" cy="43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0" descr="candies,candy,dining,food"/>
            <p:cNvPicPr/>
            <p:nvPr/>
          </p:nvPicPr>
          <p:blipFill>
            <a:blip r:embed="rId5"/>
            <a:stretch/>
          </p:blipFill>
          <p:spPr>
            <a:xfrm>
              <a:off x="5739120" y="2465280"/>
              <a:ext cx="473760" cy="4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ounded Rectangle 8"/>
            <p:cNvSpPr/>
            <p:nvPr/>
          </p:nvSpPr>
          <p:spPr>
            <a:xfrm>
              <a:off x="5181480" y="2362320"/>
              <a:ext cx="2286000" cy="5331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9"/>
          <p:cNvSpPr/>
          <p:nvPr/>
        </p:nvSpPr>
        <p:spPr>
          <a:xfrm>
            <a:off x="380880" y="6553080"/>
            <a:ext cx="693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* </a:t>
            </a:r>
            <a:r>
              <a:rPr b="0" lang="zh-TW" sz="1000" spc="-1" strike="noStrike">
                <a:solidFill>
                  <a:srgbClr val="7f7f7f"/>
                </a:solidFill>
                <a:latin typeface="Calibri"/>
              </a:rPr>
              <a:t>不包括慢性病患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22160" y="3276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70%</a:t>
            </a: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成人對體重管理有誤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itle 3"/>
          <p:cNvSpPr/>
          <p:nvPr/>
        </p:nvSpPr>
        <p:spPr>
          <a:xfrm>
            <a:off x="0" y="-21924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0066ff"/>
                </a:solidFill>
                <a:latin typeface="Calibri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Placeholder 4"/>
          <p:cNvSpPr/>
          <p:nvPr/>
        </p:nvSpPr>
        <p:spPr>
          <a:xfrm>
            <a:off x="2743200" y="457200"/>
            <a:ext cx="62485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0066ff"/>
                </a:solidFill>
                <a:latin typeface="Calibri"/>
              </a:rPr>
              <a:t>「要控制體重，節食較運動重要。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以下哪一種方法對體重控制最有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2d05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只控制飲食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控制能量攝取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92d05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只增加運動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但不控制飲食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92d05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控制飲食及增加運動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380880" y="4114800"/>
            <a:ext cx="8382240" cy="2214000"/>
            <a:chOff x="380880" y="4114800"/>
            <a:chExt cx="8382240" cy="2214000"/>
          </a:xfrm>
        </p:grpSpPr>
        <p:sp>
          <p:nvSpPr>
            <p:cNvPr id="145" name="Text Box 5"/>
            <p:cNvSpPr/>
            <p:nvPr/>
          </p:nvSpPr>
          <p:spPr>
            <a:xfrm>
              <a:off x="1066680" y="4114800"/>
              <a:ext cx="7315200" cy="82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Arial"/>
                </a:rPr>
                <a:t>控制飲食及增加運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380880" y="5410080"/>
              <a:ext cx="8382240" cy="9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參考資料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national Journal Obesity 1997;21:941–94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besity Reviews 2009; 10, 313 – 323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national Journal Obesity 2005;29:1168–117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ercise Sport Sciecne Review  2000;28:165–17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體重管理： 香港人太著重節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concepts,dieting,diets,flatware,food,forks,measuring tapes,numbers,photographs,silverware,symbols,tape measures"/>
          <p:cNvPicPr/>
          <p:nvPr/>
        </p:nvPicPr>
        <p:blipFill>
          <a:blip r:embed="rId1"/>
          <a:srcRect l="16316" t="0" r="17235" b="0"/>
          <a:stretch/>
        </p:blipFill>
        <p:spPr>
          <a:xfrm>
            <a:off x="1295280" y="2286000"/>
            <a:ext cx="205740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9" name="Picture 4" descr="Asian,exercises,females,fitness,jogs,people,photographs,ponytails,runs,sweatpants,women,workouts"/>
          <p:cNvPicPr/>
          <p:nvPr/>
        </p:nvPicPr>
        <p:blipFill>
          <a:blip r:embed="rId2"/>
          <a:srcRect l="17235" t="0" r="18770" b="0"/>
          <a:stretch/>
        </p:blipFill>
        <p:spPr>
          <a:xfrm>
            <a:off x="6095880" y="3352680"/>
            <a:ext cx="1290600" cy="2014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0" name="TextBox 6"/>
          <p:cNvSpPr/>
          <p:nvPr/>
        </p:nvSpPr>
        <p:spPr>
          <a:xfrm>
            <a:off x="4343400" y="40384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體重管理： 節食與運動同樣重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concepts,dieting,diets,flatware,food,forks,measuring tapes,numbers,photographs,silverware,symbols,tape measures"/>
          <p:cNvPicPr/>
          <p:nvPr/>
        </p:nvPicPr>
        <p:blipFill>
          <a:blip r:embed="rId1"/>
          <a:srcRect l="16316" t="0" r="17235" b="0"/>
          <a:stretch/>
        </p:blipFill>
        <p:spPr>
          <a:xfrm>
            <a:off x="1295280" y="2286000"/>
            <a:ext cx="205740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3" name="Picture 4" descr="Asian,exercises,females,fitness,jogs,people,photographs,ponytails,runs,sweatpants,women,workouts"/>
          <p:cNvPicPr/>
          <p:nvPr/>
        </p:nvPicPr>
        <p:blipFill>
          <a:blip r:embed="rId2"/>
          <a:srcRect l="17235" t="0" r="18770" b="0"/>
          <a:stretch/>
        </p:blipFill>
        <p:spPr>
          <a:xfrm>
            <a:off x="5715000" y="2286000"/>
            <a:ext cx="198108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TextBox 6"/>
          <p:cNvSpPr/>
          <p:nvPr/>
        </p:nvSpPr>
        <p:spPr>
          <a:xfrm>
            <a:off x="4114800" y="40384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22160" y="31240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3%</a:t>
            </a: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表示要消耗卡路里十分困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tle 3"/>
          <p:cNvSpPr/>
          <p:nvPr/>
        </p:nvSpPr>
        <p:spPr>
          <a:xfrm>
            <a:off x="0" y="-66600"/>
            <a:ext cx="77724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ccc1da"/>
                </a:solidFill>
                <a:latin typeface="Calibri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Placeholder 4"/>
          <p:cNvSpPr/>
          <p:nvPr/>
        </p:nvSpPr>
        <p:spPr>
          <a:xfrm>
            <a:off x="3276720" y="457200"/>
            <a:ext cx="5715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8064a2"/>
                </a:solidFill>
                <a:latin typeface="Calibri"/>
              </a:rPr>
              <a:t>「消耗卡路里很困難。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如何消耗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40</a:t>
            </a: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千卡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533520" y="53910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半個菠蘿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4343400" y="54100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30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毫升汽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:\CLIENTS\Current - Healthcare\Coca-Cola\Front of Pack\Presentation slide\Pictures\IMG_0337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2209680"/>
            <a:ext cx="2743200" cy="285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2" name="Picture 2" descr="H:\CLIENTS\Current - Healthcare\Coca-Cola\Front of Pack\Presentation slide\Pictures\IMG_0337.JPG"/>
          <p:cNvPicPr/>
          <p:nvPr/>
        </p:nvPicPr>
        <p:blipFill>
          <a:blip r:embed="rId2"/>
          <a:stretch/>
        </p:blipFill>
        <p:spPr>
          <a:xfrm>
            <a:off x="1371600" y="2209680"/>
            <a:ext cx="1371600" cy="285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3" name="Picture 16" descr="H:\CLIENTS\Current - Healthcare\Coca-Cola\Front of Pack\Presentation slide\Pictures\DSC_0024.JPG"/>
          <p:cNvPicPr/>
          <p:nvPr/>
        </p:nvPicPr>
        <p:blipFill>
          <a:blip r:embed="rId3"/>
          <a:stretch/>
        </p:blipFill>
        <p:spPr>
          <a:xfrm>
            <a:off x="5751360" y="2241720"/>
            <a:ext cx="2021040" cy="286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45720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0" spc="-1" strike="noStrike">
                <a:solidFill>
                  <a:srgbClr val="92d050"/>
                </a:solidFill>
                <a:latin typeface="Calibri"/>
              </a:rPr>
              <a:t>?</a:t>
            </a:r>
            <a:endParaRPr b="0" lang="en-US" sz="5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3"/>
          <p:cNvSpPr/>
          <p:nvPr/>
        </p:nvSpPr>
        <p:spPr>
          <a:xfrm>
            <a:off x="1523880" y="137160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b3a2c7"/>
                </a:solidFill>
                <a:latin typeface="Bell MT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3"/>
          <p:cNvSpPr/>
          <p:nvPr/>
        </p:nvSpPr>
        <p:spPr>
          <a:xfrm>
            <a:off x="1752480" y="-981000"/>
            <a:ext cx="77724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e6b9b8"/>
                </a:solidFill>
                <a:latin typeface="Arial"/>
                <a:ea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3"/>
          <p:cNvSpPr/>
          <p:nvPr/>
        </p:nvSpPr>
        <p:spPr>
          <a:xfrm>
            <a:off x="3886200" y="38088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0" spc="-1" strike="noStrike">
                <a:solidFill>
                  <a:srgbClr val="ffff00"/>
                </a:solidFill>
                <a:latin typeface="Imprint MT Shadow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3"/>
          <p:cNvSpPr/>
          <p:nvPr/>
        </p:nvSpPr>
        <p:spPr>
          <a:xfrm>
            <a:off x="2057400" y="2905200"/>
            <a:ext cx="77724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c000"/>
                </a:solidFill>
                <a:latin typeface="Lucida Console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3"/>
          <p:cNvSpPr/>
          <p:nvPr/>
        </p:nvSpPr>
        <p:spPr>
          <a:xfrm>
            <a:off x="5486400" y="-114300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c4bd97"/>
                </a:solidFill>
                <a:latin typeface="Rockwell Extra Bold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5419440" y="2141640"/>
            <a:ext cx="230076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0" spc="-1" strike="noStrike">
                <a:solidFill>
                  <a:srgbClr val="93cddd"/>
                </a:solidFill>
                <a:latin typeface="Showcard Gothic"/>
              </a:rPr>
              <a:t>?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4"/>
          <p:cNvSpPr/>
          <p:nvPr/>
        </p:nvSpPr>
        <p:spPr>
          <a:xfrm>
            <a:off x="533520" y="5450040"/>
            <a:ext cx="19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行上樓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分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activities,bags,consumers,females,happiness,happy,packages,people,purchases,shoppers,shopping,signs,women"/>
          <p:cNvPicPr/>
          <p:nvPr/>
        </p:nvPicPr>
        <p:blipFill>
          <a:blip r:embed="rId1"/>
          <a:stretch/>
        </p:blipFill>
        <p:spPr>
          <a:xfrm>
            <a:off x="6458040" y="2401920"/>
            <a:ext cx="2533680" cy="25336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6"/>
          <p:cNvSpPr/>
          <p:nvPr/>
        </p:nvSpPr>
        <p:spPr>
          <a:xfrm>
            <a:off x="6400800" y="5450040"/>
            <a:ext cx="24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行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小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分鐘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basketball players,basketballs,competitions,games,leisure,males,men,people,persons,recreation,sports"/>
          <p:cNvPicPr/>
          <p:nvPr/>
        </p:nvPicPr>
        <p:blipFill>
          <a:blip r:embed="rId2"/>
          <a:stretch/>
        </p:blipFill>
        <p:spPr>
          <a:xfrm>
            <a:off x="3352680" y="255420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3733920" y="5450040"/>
            <a:ext cx="19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打籃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分鐘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消耗卡路里比想像中容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2133720" y="160956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bbb59"/>
                </a:solidFill>
                <a:latin typeface="Calibri"/>
              </a:rPr>
              <a:t>以消耗</a:t>
            </a:r>
            <a:r>
              <a:rPr b="1" lang="en-US" sz="2800" spc="-1" strike="noStrike">
                <a:solidFill>
                  <a:srgbClr val="9bbb59"/>
                </a:solidFill>
                <a:latin typeface="Calibri"/>
              </a:rPr>
              <a:t>140</a:t>
            </a:r>
            <a:r>
              <a:rPr b="1" lang="zh-TW" sz="2800" spc="-1" strike="noStrike">
                <a:solidFill>
                  <a:srgbClr val="9bbb59"/>
                </a:solidFill>
                <a:latin typeface="Calibri"/>
              </a:rPr>
              <a:t>千卡為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380880" y="65530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* WebMD Fitness and Exercise Calorie Calculator. </a:t>
            </a:r>
            <a:r>
              <a:rPr b="0" lang="zh-TW" sz="1200" spc="-1" strike="noStrike">
                <a:solidFill>
                  <a:srgbClr val="7f7f7f"/>
                </a:solidFill>
                <a:latin typeface="Calibri"/>
              </a:rPr>
              <a:t>以體重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120</a:t>
            </a:r>
            <a:r>
              <a:rPr b="0" lang="zh-TW" sz="1200" spc="-1" strike="noStrike">
                <a:solidFill>
                  <a:srgbClr val="7f7f7f"/>
                </a:solidFill>
                <a:latin typeface="Calibri"/>
              </a:rPr>
              <a:t>磅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business,businesswomen,females,goals,metaphors,people,people at work,persons,stairs,successes,uphill climbs,women"/>
          <p:cNvPicPr/>
          <p:nvPr/>
        </p:nvPicPr>
        <p:blipFill>
          <a:blip r:embed="rId3"/>
          <a:stretch/>
        </p:blipFill>
        <p:spPr>
          <a:xfrm>
            <a:off x="380880" y="2286000"/>
            <a:ext cx="23623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註冊營養師建議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……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歲下健康人士運動指引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每星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次，每次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分鐘中等強度的帶氧運動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例如快速步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每星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次，每次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分鐘的高強度的帶氧運動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例如慢跑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每星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次，每次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組肌肉伸展運動，每組運動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228600" y="609588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7f7f7f"/>
                </a:solidFill>
                <a:latin typeface="Calibri"/>
              </a:rPr>
              <a:t>中等強度運動即運動量足以令你的心跳加速及流汗，但你仍能說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304920" y="6400800"/>
            <a:ext cx="81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1. American College of Sports Medicine. Available at: http://www.acsm.org/AM/Template.cfm?Section=Home_Page&amp;TEMPLATE=/CM/HTMLDisplay.cfm&amp;CONTENTID=77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3429000"/>
            <a:ext cx="8077320" cy="180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約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90%</a:t>
            </a: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香港人沒有閱讀食物及飲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包裝背面的營養標籤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tle 3"/>
          <p:cNvSpPr/>
          <p:nvPr/>
        </p:nvSpPr>
        <p:spPr>
          <a:xfrm>
            <a:off x="0" y="-523800"/>
            <a:ext cx="77724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9933"/>
                </a:solidFill>
                <a:latin typeface="Calibri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Placeholder 4"/>
          <p:cNvSpPr/>
          <p:nvPr/>
        </p:nvSpPr>
        <p:spPr>
          <a:xfrm>
            <a:off x="1600200" y="-814320"/>
            <a:ext cx="754380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ff9933"/>
                </a:solidFill>
                <a:latin typeface="Calibri"/>
              </a:rPr>
              <a:t>「我不需要閱讀營養標籤。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每個人都應該在購物前閱讀營養標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86169223, blue jean images /blue jean images"/>
          <p:cNvPicPr/>
          <p:nvPr/>
        </p:nvPicPr>
        <p:blipFill>
          <a:blip r:embed="rId1"/>
          <a:srcRect l="0" t="9001" r="0" b="0"/>
          <a:stretch/>
        </p:blipFill>
        <p:spPr>
          <a:xfrm>
            <a:off x="757080" y="1676520"/>
            <a:ext cx="3810240" cy="2311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103789244, Lane Oatey /blue jean images"/>
          <p:cNvPicPr/>
          <p:nvPr/>
        </p:nvPicPr>
        <p:blipFill>
          <a:blip r:embed="rId2"/>
          <a:srcRect l="0" t="8440" r="0" b="0"/>
          <a:stretch/>
        </p:blipFill>
        <p:spPr>
          <a:xfrm>
            <a:off x="2743200" y="411480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102484942, Tom Grill /Photographer's Choice RF"/>
          <p:cNvPicPr/>
          <p:nvPr/>
        </p:nvPicPr>
        <p:blipFill>
          <a:blip r:embed="rId3"/>
          <a:srcRect l="0" t="9083" r="0" b="0"/>
          <a:stretch/>
        </p:blipFill>
        <p:spPr>
          <a:xfrm>
            <a:off x="4795920" y="1676520"/>
            <a:ext cx="1676160" cy="2288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C:\Users\jane.hung\Desktop\98682969.jpg"/>
          <p:cNvPicPr/>
          <p:nvPr/>
        </p:nvPicPr>
        <p:blipFill>
          <a:blip r:embed="rId4"/>
          <a:srcRect l="0" t="8823" r="0" b="0"/>
          <a:stretch/>
        </p:blipFill>
        <p:spPr>
          <a:xfrm>
            <a:off x="4876920" y="4191120"/>
            <a:ext cx="3886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300" spc="-1" strike="noStrike">
                <a:solidFill>
                  <a:srgbClr val="000000"/>
                </a:solidFill>
                <a:latin typeface="Calibri"/>
              </a:rPr>
              <a:t>簡閱</a:t>
            </a:r>
            <a:r>
              <a:rPr b="0" lang="zh-TW" sz="5900" spc="-1" strike="noStrike">
                <a:solidFill>
                  <a:srgbClr val="ff5050"/>
                </a:solidFill>
                <a:latin typeface="Calibri"/>
              </a:rPr>
              <a:t>營養標籤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4300" spc="-1" strike="noStrike">
                <a:solidFill>
                  <a:srgbClr val="000000"/>
                </a:solidFill>
                <a:latin typeface="Calibri"/>
              </a:rPr>
              <a:t>步曲</a:t>
            </a:r>
            <a:br>
              <a:rPr sz="4300"/>
            </a:br>
            <a:br>
              <a:rPr sz="36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留意營養標籤的食物參考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營養含量可以不同方式標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每食用分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每包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 rot="21381600">
            <a:off x="5181480" y="4038480"/>
            <a:ext cx="2819520" cy="2552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2133720" y="4343400"/>
            <a:ext cx="2819160" cy="2249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9"/>
          <p:cNvSpPr/>
          <p:nvPr/>
        </p:nvSpPr>
        <p:spPr>
          <a:xfrm rot="20694600">
            <a:off x="8321760" y="3941640"/>
            <a:ext cx="672840" cy="72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 rot="21438000">
            <a:off x="5715000" y="1143000"/>
            <a:ext cx="2971800" cy="2733840"/>
          </a:xfrm>
          <a:prstGeom prst="rect">
            <a:avLst/>
          </a:prstGeom>
          <a:ln w="0">
            <a:noFill/>
          </a:ln>
        </p:spPr>
      </p:pic>
      <p:sp>
        <p:nvSpPr>
          <p:cNvPr id="192" name="Oval 9"/>
          <p:cNvSpPr/>
          <p:nvPr/>
        </p:nvSpPr>
        <p:spPr>
          <a:xfrm>
            <a:off x="3200400" y="4648320"/>
            <a:ext cx="19051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533520" y="6611760"/>
            <a:ext cx="64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7f7f7f"/>
                </a:solidFill>
                <a:latin typeface="Arial"/>
              </a:rPr>
              <a:t>資料來源：食物安全中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閱讀每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毫升來比較營養含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533520" y="1844640"/>
            <a:ext cx="8610480" cy="33019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1"/>
          <p:cNvSpPr/>
          <p:nvPr/>
        </p:nvSpPr>
        <p:spPr>
          <a:xfrm>
            <a:off x="755640" y="4581360"/>
            <a:ext cx="3529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餅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4932360" y="4581360"/>
            <a:ext cx="3743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餅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533520" y="6611760"/>
            <a:ext cx="64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7f7f7f"/>
                </a:solidFill>
                <a:latin typeface="Arial"/>
              </a:rPr>
              <a:t>資料來源：食物安全中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8" descr=""/>
          <p:cNvPicPr/>
          <p:nvPr/>
        </p:nvPicPr>
        <p:blipFill>
          <a:blip r:embed="rId1"/>
          <a:stretch/>
        </p:blipFill>
        <p:spPr>
          <a:xfrm>
            <a:off x="3505320" y="3597120"/>
            <a:ext cx="3352680" cy="29926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利用每食用份量來計算能量及營養素攝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42900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3"/>
          <a:srcRect l="0" t="0" r="0" b="-7138"/>
          <a:stretch/>
        </p:blipFill>
        <p:spPr>
          <a:xfrm>
            <a:off x="5791320" y="1243080"/>
            <a:ext cx="2971800" cy="29480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5"/>
          <p:cNvSpPr/>
          <p:nvPr/>
        </p:nvSpPr>
        <p:spPr>
          <a:xfrm>
            <a:off x="533520" y="6611760"/>
            <a:ext cx="64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7f7f7f"/>
                </a:solidFill>
                <a:latin typeface="Arial"/>
              </a:rPr>
              <a:t>資料來源：食物安全中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營養標籤快速比較：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低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7200" y="1295280"/>
          <a:ext cx="8153280" cy="525960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脂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糖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毫升含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糖或以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脂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毫升含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總脂肪或以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鈉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毫升含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毫克鈉或以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105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糖：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毫升含不超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脂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含不超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總脂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毫升含不超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總脂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鈉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毫升含不超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毫克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1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很低鈉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毫升含不超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毫克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含糖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毫升含不超過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含脂肪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毫升含不超過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總脂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含鈉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毫升含不超過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毫克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06" name="TextBox 4"/>
          <p:cNvSpPr/>
          <p:nvPr/>
        </p:nvSpPr>
        <p:spPr>
          <a:xfrm>
            <a:off x="533520" y="6611760"/>
            <a:ext cx="64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7f7f7f"/>
                </a:solidFill>
                <a:latin typeface="Arial"/>
              </a:rPr>
              <a:t>資料來源：衛生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3"/>
          <p:cNvSpPr/>
          <p:nvPr/>
        </p:nvSpPr>
        <p:spPr>
          <a:xfrm>
            <a:off x="0" y="-523800"/>
            <a:ext cx="77724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22160" y="3376440"/>
            <a:ext cx="804096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7%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市民不知道哪裡可找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000000"/>
                </a:solidFill>
                <a:uFillTx/>
                <a:latin typeface="Calibri"/>
              </a:rPr>
              <a:t>合資格的營養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哪一款食物或飲品的能量水平較高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以每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毫升計算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:\CLIENTS\Current - Healthcare\Coca-Cola\Front of Pack\Presentation slide\Pictures\IMG_0328.JPG"/>
          <p:cNvPicPr/>
          <p:nvPr/>
        </p:nvPicPr>
        <p:blipFill>
          <a:blip r:embed="rId1"/>
          <a:stretch/>
        </p:blipFill>
        <p:spPr>
          <a:xfrm>
            <a:off x="685800" y="2438280"/>
            <a:ext cx="1809720" cy="144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5" descr="H:\CLIENTS\Current - Healthcare\Coca-Cola\Front of Pack\Presentation slide\Pictures\IMG_0333.JPG"/>
          <p:cNvPicPr/>
          <p:nvPr/>
        </p:nvPicPr>
        <p:blipFill>
          <a:blip r:embed="rId2"/>
          <a:stretch/>
        </p:blipFill>
        <p:spPr>
          <a:xfrm>
            <a:off x="6172200" y="2438280"/>
            <a:ext cx="1905120" cy="152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6" descr="H:\CLIENTS\Current - Healthcare\Coca-Cola\Front of Pack\Presentation slide\Pictures\IMG_0334.JPG"/>
          <p:cNvPicPr/>
          <p:nvPr/>
        </p:nvPicPr>
        <p:blipFill>
          <a:blip r:embed="rId3"/>
          <a:srcRect l="0" t="-4441" r="0" b="0"/>
          <a:stretch/>
        </p:blipFill>
        <p:spPr>
          <a:xfrm>
            <a:off x="3581280" y="4724280"/>
            <a:ext cx="1828800" cy="13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Picture 18" descr="H:\CLIENTS\Current - Healthcare\Coca-Cola\Front of Pack\Presentation slide\Pictures\DSC_0032.JPG"/>
          <p:cNvPicPr/>
          <p:nvPr/>
        </p:nvPicPr>
        <p:blipFill>
          <a:blip r:embed="rId4"/>
          <a:stretch/>
        </p:blipFill>
        <p:spPr>
          <a:xfrm>
            <a:off x="3886200" y="2438280"/>
            <a:ext cx="990720" cy="1519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H:\CLIENTS\Current - Healthcare\Coca-Cola\Front of Pack\Presentation slide\Pictures\DSC_0028.JPG"/>
          <p:cNvPicPr/>
          <p:nvPr/>
        </p:nvPicPr>
        <p:blipFill>
          <a:blip r:embed="rId5"/>
          <a:stretch/>
        </p:blipFill>
        <p:spPr>
          <a:xfrm>
            <a:off x="6629400" y="4648320"/>
            <a:ext cx="1069920" cy="1554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H:\CLIENTS\Current - Healthcare\Coca-Cola\Front of Pack\Presentation slide\Pictures\DSC_0024.JPG"/>
          <p:cNvPicPr/>
          <p:nvPr/>
        </p:nvPicPr>
        <p:blipFill>
          <a:blip r:embed="rId6"/>
          <a:stretch/>
        </p:blipFill>
        <p:spPr>
          <a:xfrm>
            <a:off x="1143000" y="4648320"/>
            <a:ext cx="106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香港營養師協會網頁有提供合資格營養師資料</a:t>
            </a:r>
            <a:br>
              <a:rPr sz="3200"/>
            </a:br>
            <a:r>
              <a:rPr b="1" lang="en-US" sz="3200" spc="-1" strike="noStrike">
                <a:solidFill>
                  <a:srgbClr val="ff5050"/>
                </a:solidFill>
                <a:latin typeface="Calibri"/>
              </a:rPr>
              <a:t>www.hkda.com.hk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rcRect l="0" t="0" r="0" b="6666"/>
          <a:stretch/>
        </p:blipFill>
        <p:spPr>
          <a:xfrm>
            <a:off x="533520" y="160020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總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應提供更多公眾教育，改善市民對能量及營養資料的認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鼓勵市民購物前閱讀營養標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食物及飲品公司應如實提供易於明白的營養標籤，讓消費者作精明膳食選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Calibri"/>
              </a:rPr>
              <a:t>謝謝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http://www.hkda.com.hk/skins/Classic/styleImages/backgrounds/hkda-log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676840" cy="1019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you-are-what-you-eat-cartoon-262x300"/>
          <p:cNvPicPr/>
          <p:nvPr/>
        </p:nvPicPr>
        <p:blipFill>
          <a:blip r:embed="rId3"/>
          <a:stretch/>
        </p:blipFill>
        <p:spPr>
          <a:xfrm>
            <a:off x="4267080" y="1295280"/>
            <a:ext cx="42926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答案 </a:t>
            </a:r>
            <a:r>
              <a:rPr b="1" lang="en-US" sz="36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從高至低</a:t>
            </a:r>
            <a:r>
              <a:rPr b="1" lang="en-US" sz="3600" spc="-1" strike="noStrike">
                <a:solidFill>
                  <a:srgbClr val="000000"/>
                </a:solidFill>
                <a:latin typeface="新細明體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:\CLIENTS\Current - Healthcare\Coca-Cola\Front of Pack\Presentation slide\Pictures\IMG_0328.JPG"/>
          <p:cNvPicPr/>
          <p:nvPr/>
        </p:nvPicPr>
        <p:blipFill>
          <a:blip r:embed="rId1"/>
          <a:stretch/>
        </p:blipFill>
        <p:spPr>
          <a:xfrm>
            <a:off x="6400800" y="1936800"/>
            <a:ext cx="1809720" cy="144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5" descr="H:\CLIENTS\Current - Healthcare\Coca-Cola\Front of Pack\Presentation slide\Pictures\IMG_0333.JPG"/>
          <p:cNvPicPr/>
          <p:nvPr/>
        </p:nvPicPr>
        <p:blipFill>
          <a:blip r:embed="rId2"/>
          <a:stretch/>
        </p:blipFill>
        <p:spPr>
          <a:xfrm>
            <a:off x="762120" y="1936800"/>
            <a:ext cx="1904760" cy="152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6" descr="H:\CLIENTS\Current - Healthcare\Coca-Cola\Front of Pack\Presentation slide\Pictures\IMG_0334.JPG"/>
          <p:cNvPicPr/>
          <p:nvPr/>
        </p:nvPicPr>
        <p:blipFill>
          <a:blip r:embed="rId3"/>
          <a:srcRect l="0" t="-4418" r="0" b="0"/>
          <a:stretch/>
        </p:blipFill>
        <p:spPr>
          <a:xfrm>
            <a:off x="3657600" y="1860480"/>
            <a:ext cx="2031840" cy="152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TextBox 23"/>
          <p:cNvSpPr/>
          <p:nvPr/>
        </p:nvSpPr>
        <p:spPr>
          <a:xfrm>
            <a:off x="533520" y="6611760"/>
            <a:ext cx="64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7f7f7f"/>
                </a:solidFill>
                <a:latin typeface="Arial"/>
              </a:rPr>
              <a:t>資料來源：食物安全中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3"/>
          <p:cNvGrpSpPr/>
          <p:nvPr/>
        </p:nvGrpSpPr>
        <p:grpSpPr>
          <a:xfrm>
            <a:off x="762120" y="1371600"/>
            <a:ext cx="1904760" cy="2513880"/>
            <a:chOff x="762120" y="1371600"/>
            <a:chExt cx="1904760" cy="2513880"/>
          </a:xfrm>
        </p:grpSpPr>
        <p:sp>
          <p:nvSpPr>
            <p:cNvPr id="64" name="TextBox 24"/>
            <p:cNvSpPr/>
            <p:nvPr/>
          </p:nvSpPr>
          <p:spPr>
            <a:xfrm>
              <a:off x="762120" y="354816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f6228"/>
                  </a:solidFill>
                  <a:latin typeface="Arial"/>
                </a:rPr>
                <a:t>350</a:t>
              </a:r>
              <a:r>
                <a:rPr b="0" lang="zh-TW" sz="1600" spc="-1" strike="noStrike">
                  <a:solidFill>
                    <a:srgbClr val="4f6228"/>
                  </a:solidFill>
                  <a:latin typeface="Arial"/>
                </a:rPr>
                <a:t>千卡</a:t>
              </a:r>
              <a:r>
                <a:rPr b="0" lang="en-US" sz="1600" spc="-1" strike="noStrike">
                  <a:solidFill>
                    <a:srgbClr val="4f6228"/>
                  </a:solidFill>
                  <a:latin typeface="Arial"/>
                </a:rPr>
                <a:t>/100</a:t>
              </a:r>
              <a:r>
                <a:rPr b="0" lang="zh-TW" sz="1600" spc="-1" strike="noStrike">
                  <a:solidFill>
                    <a:srgbClr val="4f6228"/>
                  </a:solidFill>
                  <a:latin typeface="Arial"/>
                </a:rPr>
                <a:t>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4"/>
            <p:cNvSpPr/>
            <p:nvPr/>
          </p:nvSpPr>
          <p:spPr>
            <a:xfrm>
              <a:off x="838080" y="1371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4"/>
          <p:cNvGrpSpPr/>
          <p:nvPr/>
        </p:nvGrpSpPr>
        <p:grpSpPr>
          <a:xfrm>
            <a:off x="3733920" y="1447920"/>
            <a:ext cx="1904760" cy="2437560"/>
            <a:chOff x="3733920" y="1447920"/>
            <a:chExt cx="1904760" cy="2437560"/>
          </a:xfrm>
        </p:grpSpPr>
        <p:sp>
          <p:nvSpPr>
            <p:cNvPr id="67" name="TextBox 26"/>
            <p:cNvSpPr/>
            <p:nvPr/>
          </p:nvSpPr>
          <p:spPr>
            <a:xfrm>
              <a:off x="3733920" y="354816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f6228"/>
                  </a:solidFill>
                  <a:latin typeface="Arial"/>
                </a:rPr>
                <a:t>310</a:t>
              </a:r>
              <a:r>
                <a:rPr b="0" lang="zh-TW" sz="1600" spc="-1" strike="noStrike">
                  <a:solidFill>
                    <a:srgbClr val="4f6228"/>
                  </a:solidFill>
                  <a:latin typeface="Arial"/>
                </a:rPr>
                <a:t>千卡</a:t>
              </a:r>
              <a:r>
                <a:rPr b="0" lang="en-US" sz="1600" spc="-1" strike="noStrike">
                  <a:solidFill>
                    <a:srgbClr val="4f6228"/>
                  </a:solidFill>
                  <a:latin typeface="Arial"/>
                </a:rPr>
                <a:t>/100</a:t>
              </a:r>
              <a:r>
                <a:rPr b="0" lang="zh-TW" sz="1600" spc="-1" strike="noStrike">
                  <a:solidFill>
                    <a:srgbClr val="4f6228"/>
                  </a:solidFill>
                  <a:latin typeface="Arial"/>
                </a:rPr>
                <a:t>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24"/>
            <p:cNvSpPr/>
            <p:nvPr/>
          </p:nvSpPr>
          <p:spPr>
            <a:xfrm>
              <a:off x="3809880" y="1447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5"/>
          <p:cNvGrpSpPr/>
          <p:nvPr/>
        </p:nvGrpSpPr>
        <p:grpSpPr>
          <a:xfrm>
            <a:off x="6324480" y="1447920"/>
            <a:ext cx="1905120" cy="2437560"/>
            <a:chOff x="6324480" y="1447920"/>
            <a:chExt cx="1905120" cy="2437560"/>
          </a:xfrm>
        </p:grpSpPr>
        <p:sp>
          <p:nvSpPr>
            <p:cNvPr id="70" name="TextBox 25"/>
            <p:cNvSpPr/>
            <p:nvPr/>
          </p:nvSpPr>
          <p:spPr>
            <a:xfrm>
              <a:off x="6324480" y="354816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f6228"/>
                  </a:solidFill>
                  <a:latin typeface="Arial"/>
                </a:rPr>
                <a:t>130</a:t>
              </a:r>
              <a:r>
                <a:rPr b="0" lang="zh-TW" sz="1600" spc="-1" strike="noStrike">
                  <a:solidFill>
                    <a:srgbClr val="4f6228"/>
                  </a:solidFill>
                  <a:latin typeface="Arial"/>
                </a:rPr>
                <a:t>千卡</a:t>
              </a:r>
              <a:r>
                <a:rPr b="0" lang="en-US" sz="1600" spc="-1" strike="noStrike">
                  <a:solidFill>
                    <a:srgbClr val="4f6228"/>
                  </a:solidFill>
                  <a:latin typeface="Arial"/>
                </a:rPr>
                <a:t>/100</a:t>
              </a:r>
              <a:r>
                <a:rPr b="0" lang="zh-TW" sz="1600" spc="-1" strike="noStrike">
                  <a:solidFill>
                    <a:srgbClr val="4f6228"/>
                  </a:solidFill>
                  <a:latin typeface="Arial"/>
                </a:rPr>
                <a:t>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24"/>
            <p:cNvSpPr/>
            <p:nvPr/>
          </p:nvSpPr>
          <p:spPr>
            <a:xfrm>
              <a:off x="6400800" y="1447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6"/>
          <p:cNvGrpSpPr/>
          <p:nvPr/>
        </p:nvGrpSpPr>
        <p:grpSpPr>
          <a:xfrm>
            <a:off x="762120" y="4154400"/>
            <a:ext cx="1828800" cy="2394720"/>
            <a:chOff x="762120" y="4154400"/>
            <a:chExt cx="1828800" cy="2394720"/>
          </a:xfrm>
        </p:grpSpPr>
        <p:sp>
          <p:nvSpPr>
            <p:cNvPr id="73" name="TextBox 21"/>
            <p:cNvSpPr/>
            <p:nvPr/>
          </p:nvSpPr>
          <p:spPr>
            <a:xfrm>
              <a:off x="762120" y="621180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f6228"/>
                  </a:solidFill>
                  <a:latin typeface="Arial"/>
                </a:rPr>
                <a:t>48</a:t>
              </a:r>
              <a:r>
                <a:rPr b="0" lang="zh-TW" sz="1600" spc="-1" strike="noStrike">
                  <a:solidFill>
                    <a:srgbClr val="4f6228"/>
                  </a:solidFill>
                  <a:latin typeface="Arial"/>
                </a:rPr>
                <a:t>千卡</a:t>
              </a:r>
              <a:r>
                <a:rPr b="0" lang="en-US" sz="1600" spc="-1" strike="noStrike">
                  <a:solidFill>
                    <a:srgbClr val="4f6228"/>
                  </a:solidFill>
                  <a:latin typeface="Arial"/>
                </a:rPr>
                <a:t>/100</a:t>
              </a:r>
              <a:r>
                <a:rPr b="0" lang="zh-TW" sz="1600" spc="-1" strike="noStrike">
                  <a:solidFill>
                    <a:srgbClr val="4f6228"/>
                  </a:solidFill>
                  <a:latin typeface="Arial"/>
                </a:rPr>
                <a:t>毫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24"/>
            <p:cNvSpPr/>
            <p:nvPr/>
          </p:nvSpPr>
          <p:spPr>
            <a:xfrm>
              <a:off x="762120" y="4154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7"/>
          <p:cNvGrpSpPr/>
          <p:nvPr/>
        </p:nvGrpSpPr>
        <p:grpSpPr>
          <a:xfrm>
            <a:off x="3657600" y="4186080"/>
            <a:ext cx="1905120" cy="2366280"/>
            <a:chOff x="3657600" y="4186080"/>
            <a:chExt cx="1905120" cy="2366280"/>
          </a:xfrm>
        </p:grpSpPr>
        <p:sp>
          <p:nvSpPr>
            <p:cNvPr id="76" name="TextBox 22"/>
            <p:cNvSpPr/>
            <p:nvPr/>
          </p:nvSpPr>
          <p:spPr>
            <a:xfrm>
              <a:off x="3733920" y="621504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f6228"/>
                  </a:solidFill>
                  <a:latin typeface="Arial"/>
                </a:rPr>
                <a:t>44</a:t>
              </a:r>
              <a:r>
                <a:rPr b="0" lang="zh-TW" sz="1600" spc="-1" strike="noStrike">
                  <a:solidFill>
                    <a:srgbClr val="4f6228"/>
                  </a:solidFill>
                  <a:latin typeface="Arial"/>
                </a:rPr>
                <a:t>千卡</a:t>
              </a:r>
              <a:r>
                <a:rPr b="0" lang="en-US" sz="1600" spc="-1" strike="noStrike">
                  <a:solidFill>
                    <a:srgbClr val="4f6228"/>
                  </a:solidFill>
                  <a:latin typeface="Arial"/>
                </a:rPr>
                <a:t>/100</a:t>
              </a:r>
              <a:r>
                <a:rPr b="0" lang="zh-TW" sz="1600" spc="-1" strike="noStrike">
                  <a:solidFill>
                    <a:srgbClr val="4f6228"/>
                  </a:solidFill>
                  <a:latin typeface="Arial"/>
                </a:rPr>
                <a:t>毫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24"/>
            <p:cNvSpPr/>
            <p:nvPr/>
          </p:nvSpPr>
          <p:spPr>
            <a:xfrm>
              <a:off x="3657600" y="41860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8"/>
          <p:cNvGrpSpPr/>
          <p:nvPr/>
        </p:nvGrpSpPr>
        <p:grpSpPr>
          <a:xfrm>
            <a:off x="6400800" y="4191120"/>
            <a:ext cx="1905120" cy="2361240"/>
            <a:chOff x="6400800" y="4191120"/>
            <a:chExt cx="1905120" cy="2361240"/>
          </a:xfrm>
        </p:grpSpPr>
        <p:sp>
          <p:nvSpPr>
            <p:cNvPr id="79" name="TextBox 27"/>
            <p:cNvSpPr/>
            <p:nvPr/>
          </p:nvSpPr>
          <p:spPr>
            <a:xfrm>
              <a:off x="6477120" y="621504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f6228"/>
                  </a:solidFill>
                  <a:latin typeface="Arial"/>
                </a:rPr>
                <a:t>42</a:t>
              </a:r>
              <a:r>
                <a:rPr b="0" lang="zh-TW" sz="1600" spc="-1" strike="noStrike">
                  <a:solidFill>
                    <a:srgbClr val="4f6228"/>
                  </a:solidFill>
                  <a:latin typeface="Arial"/>
                </a:rPr>
                <a:t>千卡</a:t>
              </a:r>
              <a:r>
                <a:rPr b="0" lang="en-US" sz="1600" spc="-1" strike="noStrike">
                  <a:solidFill>
                    <a:srgbClr val="4f6228"/>
                  </a:solidFill>
                  <a:latin typeface="Arial"/>
                </a:rPr>
                <a:t>/100</a:t>
              </a:r>
              <a:r>
                <a:rPr b="0" lang="zh-TW" sz="1600" spc="-1" strike="noStrike">
                  <a:solidFill>
                    <a:srgbClr val="4f6228"/>
                  </a:solidFill>
                  <a:latin typeface="Arial"/>
                </a:rPr>
                <a:t>毫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24"/>
            <p:cNvSpPr/>
            <p:nvPr/>
          </p:nvSpPr>
          <p:spPr>
            <a:xfrm>
              <a:off x="6400800" y="41911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16" descr="H:\CLIENTS\Current - Healthcare\Coca-Cola\Front of Pack\Presentation slide\Pictures\DSC_0024.JPG"/>
          <p:cNvPicPr/>
          <p:nvPr/>
        </p:nvPicPr>
        <p:blipFill>
          <a:blip r:embed="rId4"/>
          <a:stretch/>
        </p:blipFill>
        <p:spPr>
          <a:xfrm>
            <a:off x="6781680" y="4648320"/>
            <a:ext cx="1067040" cy="151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H:\CLIENTS\Current - Healthcare\Coca-Cola\Front of Pack\Presentation slide\Pictures\DSC_0028.JPG"/>
          <p:cNvPicPr/>
          <p:nvPr/>
        </p:nvPicPr>
        <p:blipFill>
          <a:blip r:embed="rId5"/>
          <a:stretch/>
        </p:blipFill>
        <p:spPr>
          <a:xfrm>
            <a:off x="4035600" y="4648320"/>
            <a:ext cx="1069920" cy="1554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H:\CLIENTS\Current - Healthcare\Coca-Cola\Front of Pack\Presentation slide\Pictures\DSC_0032.JPG"/>
          <p:cNvPicPr/>
          <p:nvPr/>
        </p:nvPicPr>
        <p:blipFill>
          <a:blip r:embed="rId6"/>
          <a:stretch/>
        </p:blipFill>
        <p:spPr>
          <a:xfrm>
            <a:off x="1143000" y="4648320"/>
            <a:ext cx="9907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92d050"/>
                </a:solidFill>
                <a:latin typeface="Calibri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533520"/>
            <a:ext cx="7543800" cy="25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33cc33"/>
                </a:solidFill>
                <a:latin typeface="Calibri"/>
              </a:rPr>
              <a:t>「</a:t>
            </a:r>
            <a:r>
              <a:rPr b="1" i="1" lang="en-US" sz="2800" spc="-1" strike="noStrike">
                <a:solidFill>
                  <a:srgbClr val="33cc33"/>
                </a:solidFill>
                <a:latin typeface="Calibri"/>
              </a:rPr>
              <a:t>100</a:t>
            </a:r>
            <a:r>
              <a:rPr b="1" i="1" lang="zh-TW" sz="2800" spc="-1" strike="noStrike">
                <a:solidFill>
                  <a:srgbClr val="33cc33"/>
                </a:solidFill>
                <a:latin typeface="Calibri"/>
              </a:rPr>
              <a:t>毫升汽水的能量水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33cc33"/>
                </a:solidFill>
                <a:latin typeface="Calibri"/>
              </a:rPr>
              <a:t>高於</a:t>
            </a:r>
            <a:r>
              <a:rPr b="1" i="1" lang="en-US" sz="2800" spc="-1" strike="noStrike">
                <a:solidFill>
                  <a:srgbClr val="33cc33"/>
                </a:solidFill>
                <a:latin typeface="Calibri"/>
              </a:rPr>
              <a:t>100</a:t>
            </a:r>
            <a:r>
              <a:rPr b="1" i="1" lang="zh-TW" sz="2800" spc="-1" strike="noStrike">
                <a:solidFill>
                  <a:srgbClr val="33cc33"/>
                </a:solidFill>
                <a:latin typeface="Calibri"/>
              </a:rPr>
              <a:t>克的菠蘿包。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Placeholder 4"/>
          <p:cNvSpPr/>
          <p:nvPr/>
        </p:nvSpPr>
        <p:spPr>
          <a:xfrm>
            <a:off x="609480" y="3809880"/>
            <a:ext cx="769644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香港市民未能正確評估常見食物及飲品的能量水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22160" y="33764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%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香港市民不知道自己的能量需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%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在進食前不會考慮自己的能量需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le 3"/>
          <p:cNvSpPr/>
          <p:nvPr/>
        </p:nvSpPr>
        <p:spPr>
          <a:xfrm>
            <a:off x="0" y="-68580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c0504d"/>
                </a:solidFill>
                <a:latin typeface="Calibri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Placeholder 4"/>
          <p:cNvSpPr/>
          <p:nvPr/>
        </p:nvSpPr>
        <p:spPr>
          <a:xfrm>
            <a:off x="3352680" y="-433440"/>
            <a:ext cx="563904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c0504d"/>
                </a:solidFill>
                <a:latin typeface="Calibri"/>
              </a:rPr>
              <a:t>「我知道我一天需要多少卡路里。</a:t>
            </a:r>
            <a:r>
              <a:rPr b="1" i="1" lang="en-US" sz="2800" spc="-1" strike="noStrike">
                <a:solidFill>
                  <a:srgbClr val="c0504d"/>
                </a:solidFill>
                <a:latin typeface="Calibri"/>
              </a:rPr>
              <a:t>1,000</a:t>
            </a:r>
            <a:r>
              <a:rPr b="1" i="1" lang="zh-TW" sz="2800" spc="-1" strike="noStrike">
                <a:solidFill>
                  <a:srgbClr val="c0504d"/>
                </a:solidFill>
                <a:latin typeface="Calibri"/>
              </a:rPr>
              <a:t>千卡。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能量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Energ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9051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能量用以支持人體的活動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能量需要視乎年齡、性別、體重及活動量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食物的能量單位包括千卡路里（千卡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cal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）及千焦耳（千焦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J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80880" y="6505560"/>
            <a:ext cx="87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1. Centre for Food Safety (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vailable at: http://www.cfs.gov.hk/english/programme/programme_nifl/files/Energy_E.pdf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leisure,seesaws,teeter totters,teeterboards,teeter-totters"/>
          <p:cNvPicPr/>
          <p:nvPr/>
        </p:nvPicPr>
        <p:blipFill>
          <a:blip r:embed="rId2"/>
          <a:stretch/>
        </p:blipFill>
        <p:spPr>
          <a:xfrm>
            <a:off x="6705720" y="42670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alibri"/>
              </a:rPr>
              <a:t>註冊營養師建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4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了解你所進食的食物及飲品提供的能量及營養素，有助你作精明的膳食選擇及控制體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bright ideas,bulbs,cropped images,cropped pictures,ideas,light bulbs,lights,PNG,smart,transparent background"/>
          <p:cNvPicPr/>
          <p:nvPr/>
        </p:nvPicPr>
        <p:blipFill>
          <a:blip r:embed="rId1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每天能量需要參考值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1,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80880" y="631980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7f7f7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7f7f7f"/>
                </a:solidFill>
                <a:latin typeface="Calibri"/>
              </a:rPr>
              <a:t>中國營養學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7f7f7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7f7f7f"/>
                </a:solidFill>
                <a:latin typeface="Calibri"/>
              </a:rPr>
              <a:t>食物安全中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828800"/>
          <a:ext cx="7848720" cy="3505320"/>
        </p:xfrm>
        <a:graphic>
          <a:graphicData uri="http://schemas.openxmlformats.org/drawingml/2006/table">
            <a:tbl>
              <a:tblPr/>
              <a:tblGrid>
                <a:gridCol w="1586160"/>
                <a:gridCol w="3062160"/>
                <a:gridCol w="3200400"/>
              </a:tblGrid>
              <a:tr h="116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年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00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千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00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千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20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7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千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55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千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Picture 4" descr="avatar,clipped images,cropped images,cropped pictures,females,heads,icons,persons,PNG,transparent background,women"/>
          <p:cNvPicPr/>
          <p:nvPr/>
        </p:nvPicPr>
        <p:blipFill>
          <a:blip r:embed="rId1"/>
          <a:srcRect l="32004" t="27085" r="31085" b="26154"/>
          <a:stretch/>
        </p:blipFill>
        <p:spPr>
          <a:xfrm>
            <a:off x="6705720" y="190512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vatar,clipped images,cropped images,cropped pictures,heads,icons,males,men,persons,PNG,transparent background"/>
          <p:cNvPicPr/>
          <p:nvPr/>
        </p:nvPicPr>
        <p:blipFill>
          <a:blip r:embed="rId2"/>
          <a:srcRect l="29538" t="27085" r="28620" b="26154"/>
          <a:stretch/>
        </p:blipFill>
        <p:spPr>
          <a:xfrm>
            <a:off x="3505320" y="1989000"/>
            <a:ext cx="83808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00:01Z</dcterms:created>
  <dc:creator>winnie.hui</dc:creator>
  <dc:description/>
  <dc:language>en-US</dc:language>
  <cp:lastModifiedBy>winnie</cp:lastModifiedBy>
  <dcterms:modified xsi:type="dcterms:W3CDTF">2011-02-11T10:59:36Z</dcterms:modified>
  <cp:revision>141</cp:revision>
  <dc:subject/>
  <dc:title>Slide 1</dc:title>
</cp:coreProperties>
</file>