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E776-6862-4A8B-8070-BEFC879BE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5993-FA00-4220-9F1D-7800F3FDD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42DF-5EB5-44FD-A03F-8A3236D51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8619-E6E6-4B70-8E5E-DE08CC49E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9EF1-2EFA-4D66-87BE-4AD445FDF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686E-1FA7-456B-83D2-968507A1B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D06C-4476-4FB6-B8E9-067FAFFE7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FA62-EFBD-4C66-93F4-6E788238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207C-2870-4360-BD9D-CD200F55B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E395-3D9A-4A51-926F-40E3630D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1375-1F13-420E-8D7D-BD4D9E88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48D3-26D7-4AB5-B233-4EF19082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E511E-AE13-4F97-92F4-B57A5F190608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9880" y="83808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香港大學民意研究計劃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295280" y="685800"/>
          <a:ext cx="168300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685800"/>
                    <a:ext cx="16830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2895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ecff"/>
                </a:solidFill>
                <a:latin typeface="Times New Roman"/>
                <a:ea typeface="標楷體"/>
              </a:rPr>
              <a:t>家長對中學教學語言「微調方案」</a:t>
            </a:r>
            <a:br>
              <a:rPr sz="3600"/>
            </a:br>
            <a:r>
              <a:rPr b="1" lang="zh-TW" sz="3600" spc="-1" strike="noStrike">
                <a:solidFill>
                  <a:srgbClr val="ccecff"/>
                </a:solidFill>
                <a:latin typeface="Times New Roman"/>
                <a:ea typeface="標楷體"/>
              </a:rPr>
              <a:t>意見調查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4343400"/>
            <a:ext cx="784836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標楷體"/>
                <a:ea typeface="標楷體"/>
              </a:rPr>
              <a:t>鍾庭耀博士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2009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年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5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月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18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日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400" spc="-1" strike="noStrike">
                <a:solidFill>
                  <a:srgbClr val="ccecff"/>
                </a:solidFill>
                <a:latin typeface="標楷體"/>
                <a:ea typeface="標楷體"/>
              </a:rPr>
              <a:t>本</a:t>
            </a:r>
            <a:r>
              <a:rPr b="0" i="1" lang="zh-TW" sz="1400" spc="-1" strike="noStrike">
                <a:solidFill>
                  <a:srgbClr val="ccecff"/>
                </a:solidFill>
                <a:latin typeface="標楷體"/>
                <a:ea typeface="標楷體"/>
              </a:rPr>
              <a:t>報告</a:t>
            </a:r>
            <a:r>
              <a:rPr b="0" i="1" lang="zh-TW" sz="1400" spc="-1" strike="noStrike">
                <a:solidFill>
                  <a:srgbClr val="ccecff"/>
                </a:solidFill>
                <a:latin typeface="標楷體"/>
                <a:ea typeface="標楷體"/>
              </a:rPr>
              <a:t>內一切內容與香港大學立場無關，內容由民意研究計劃總監鍾庭耀博士負責。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43000" y="2781360"/>
            <a:ext cx="70866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4149720"/>
            <a:ext cx="70866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Q6. 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就你所知，如果實施「微調方案」，係所有定係部份成績達標既學生可以就讀「彈性班」？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90720" y="20574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47720" y="234648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回答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522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80880" y="2602080"/>
          <a:ext cx="8401320" cy="3189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602080"/>
                    <a:ext cx="8401320" cy="31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Rectangle 10"/>
          <p:cNvSpPr/>
          <p:nvPr/>
        </p:nvSpPr>
        <p:spPr>
          <a:xfrm>
            <a:off x="1905120" y="56386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ccecff"/>
                </a:solidFill>
                <a:latin typeface="細明體"/>
                <a:ea typeface="標楷體"/>
              </a:rPr>
              <a:t>所有達標學生可以就讀「彈性班」</a:t>
            </a:r>
            <a:br>
              <a:rPr sz="1600"/>
            </a:br>
            <a:r>
              <a:rPr b="0" lang="zh-TW" sz="1600" spc="-1" strike="noStrike">
                <a:solidFill>
                  <a:srgbClr val="ccecff"/>
                </a:solidFill>
                <a:latin typeface="細明體"/>
                <a:ea typeface="標楷體"/>
              </a:rPr>
              <a:t>(</a:t>
            </a:r>
            <a:r>
              <a:rPr b="0" lang="zh-TW" sz="1600" spc="-1" strike="noStrike">
                <a:solidFill>
                  <a:srgbClr val="ccecff"/>
                </a:solidFill>
                <a:latin typeface="細明體"/>
                <a:ea typeface="標楷體"/>
              </a:rPr>
              <a:t>錯誤答案</a:t>
            </a:r>
            <a:r>
              <a:rPr b="0" lang="zh-TW" sz="1600" spc="-1" strike="noStrike">
                <a:solidFill>
                  <a:srgbClr val="ccecff"/>
                </a:solidFill>
                <a:latin typeface="細明體"/>
                <a:ea typeface="標楷體"/>
              </a:rPr>
              <a:t>)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4267080" y="56386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ccecff"/>
                </a:solidFill>
                <a:latin typeface="標楷體"/>
                <a:ea typeface="標楷體"/>
              </a:rPr>
              <a:t>部份達標學生可以就讀「彈性班」</a:t>
            </a:r>
            <a:br>
              <a:rPr sz="1600"/>
            </a:br>
            <a:r>
              <a:rPr b="0" lang="zh-TW" sz="1600" spc="-1" strike="noStrike">
                <a:solidFill>
                  <a:srgbClr val="ccecff"/>
                </a:solidFill>
                <a:latin typeface="細明體"/>
                <a:ea typeface="標楷體"/>
              </a:rPr>
              <a:t>(</a:t>
            </a:r>
            <a:r>
              <a:rPr b="0" lang="zh-TW" sz="1600" spc="-1" strike="noStrike">
                <a:solidFill>
                  <a:srgbClr val="ccecff"/>
                </a:solidFill>
                <a:latin typeface="細明體"/>
                <a:ea typeface="標楷體"/>
              </a:rPr>
              <a:t>正確答案</a:t>
            </a:r>
            <a:r>
              <a:rPr b="0" lang="zh-TW" sz="1600" spc="-1" strike="noStrike">
                <a:solidFill>
                  <a:srgbClr val="ccecff"/>
                </a:solidFill>
                <a:latin typeface="細明體"/>
                <a:ea typeface="標楷體"/>
              </a:rPr>
              <a:t>)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" name="Rectangle 12"/>
          <p:cNvSpPr/>
          <p:nvPr/>
        </p:nvSpPr>
        <p:spPr>
          <a:xfrm>
            <a:off x="6553080" y="57913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ccecff"/>
                </a:solidFill>
                <a:latin typeface="標楷體"/>
                <a:ea typeface="標楷體"/>
              </a:rPr>
              <a:t>唔知道／唔清楚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67057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Q7. 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你認為以下幾個基礎教育目標之中邊一個</a:t>
            </a:r>
            <a:br>
              <a:rPr sz="2400"/>
            </a:b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最重要？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20574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47720" y="234648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回答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523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0720" y="2135160"/>
          <a:ext cx="8232840" cy="33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720" y="2135160"/>
                    <a:ext cx="823284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Rectangle 10"/>
          <p:cNvSpPr/>
          <p:nvPr/>
        </p:nvSpPr>
        <p:spPr>
          <a:xfrm>
            <a:off x="1447920" y="53308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ccecff"/>
                </a:solidFill>
                <a:latin typeface="細明體"/>
                <a:ea typeface="標楷體"/>
              </a:rPr>
              <a:t>幫助學生在德、智、體、群、美的發展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6172200" y="533412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ccecff"/>
                </a:solidFill>
                <a:latin typeface="標楷體"/>
                <a:ea typeface="標楷體"/>
              </a:rPr>
              <a:t>培養學生創新思考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3809880" y="533412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ccecff"/>
                </a:solidFill>
                <a:latin typeface="細明體"/>
                <a:ea typeface="標楷體"/>
              </a:rPr>
              <a:t>提高思考分析能力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2590920" y="533412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ccecff"/>
                </a:solidFill>
                <a:latin typeface="細明體"/>
                <a:ea typeface="標楷體"/>
              </a:rPr>
              <a:t>培養學生主動學習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5029200" y="53341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ccecff"/>
                </a:solidFill>
                <a:latin typeface="細明體"/>
                <a:ea typeface="標楷體"/>
              </a:rPr>
              <a:t>提升英語能力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7391520" y="533412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ccecff"/>
                </a:solidFill>
                <a:latin typeface="標楷體"/>
                <a:ea typeface="標楷體"/>
              </a:rPr>
              <a:t>鼓勵學生追求卓越成就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85160" y="6442200"/>
            <a:ext cx="228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* </a:t>
            </a:r>
            <a:r>
              <a:rPr b="0" lang="zh-TW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因篇幅所限，只列出</a:t>
            </a:r>
            <a:r>
              <a:rPr b="0" lang="zh-TW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2%</a:t>
            </a:r>
            <a:r>
              <a:rPr b="0" lang="zh-TW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或以上的答案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76201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Q8.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你認為母語教學定係英語教學對達到基礎教育目標更加有效？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20574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47720" y="234648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回答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524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96720" y="2371680"/>
          <a:ext cx="8348760" cy="407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2371680"/>
                    <a:ext cx="8348760" cy="40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Q9. 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我地想再問一次，你有幾支持或者反對呢個「微調中學教學語言方案」？如果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0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分代表完全反對，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100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分代表完全支持，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50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分代表一半半，你有幾支持或者反對「微調方案」？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19051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76320" y="2590920"/>
          <a:ext cx="8712000" cy="372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2590920"/>
                    <a:ext cx="8712000" cy="37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Rectangle 8"/>
          <p:cNvSpPr/>
          <p:nvPr/>
        </p:nvSpPr>
        <p:spPr>
          <a:xfrm>
            <a:off x="1219320" y="61722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0-49</a:t>
            </a:r>
            <a:r>
              <a:rPr b="0" lang="zh-TW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分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2743200" y="61722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50</a:t>
            </a:r>
            <a:r>
              <a:rPr b="0" lang="zh-TW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分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4419720" y="617220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51-100</a:t>
            </a:r>
            <a:r>
              <a:rPr b="0" lang="zh-TW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分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5638680" y="609588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標楷體"/>
                <a:ea typeface="標楷體"/>
              </a:rPr>
              <a:t>唔清楚微調方案內容，不能評分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" name="Rectangle 12"/>
          <p:cNvSpPr/>
          <p:nvPr/>
        </p:nvSpPr>
        <p:spPr>
          <a:xfrm>
            <a:off x="7315200" y="61722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標楷體"/>
                <a:ea typeface="標楷體"/>
              </a:rPr>
              <a:t>唔知／難講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94480" y="211788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回答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523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486400" y="2133720"/>
          <a:ext cx="3200400" cy="1476360"/>
        </p:xfrm>
        <a:graphic>
          <a:graphicData uri="http://schemas.openxmlformats.org/drawingml/2006/table">
            <a:tbl>
              <a:tblPr/>
              <a:tblGrid>
                <a:gridCol w="1117440"/>
                <a:gridCol w="1016280"/>
                <a:gridCol w="1066680"/>
              </a:tblGrid>
              <a:tr h="3715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Q1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Q9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平均分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53.0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55.1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標準誤差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1.3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1.1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評分人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370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475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Q10.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有意見認為，「微調方案」應該盡快推行。但又有意見認為，「微調方案」應該等到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3-3-4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學制全面落實，即幾年之後至推行。你傾向贊成邊種講法？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90720" y="198108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47720" y="265104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回答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520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84120" y="2847960"/>
          <a:ext cx="8394840" cy="3019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2847960"/>
                    <a:ext cx="839484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Rectangle 10"/>
          <p:cNvSpPr/>
          <p:nvPr/>
        </p:nvSpPr>
        <p:spPr>
          <a:xfrm>
            <a:off x="1905120" y="57150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ccecff"/>
                </a:solidFill>
                <a:latin typeface="細明體"/>
                <a:ea typeface="標楷體"/>
              </a:rPr>
              <a:t>傾向贊成盡快推行「微調方案」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9" name="Rectangle 11"/>
          <p:cNvSpPr/>
          <p:nvPr/>
        </p:nvSpPr>
        <p:spPr>
          <a:xfrm>
            <a:off x="4114800" y="57150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ccecff"/>
                </a:solidFill>
                <a:latin typeface="標楷體"/>
                <a:ea typeface="標楷體"/>
              </a:rPr>
              <a:t> </a:t>
            </a:r>
            <a:r>
              <a:rPr b="0" lang="zh-TW" sz="1600" spc="-1" strike="noStrike">
                <a:solidFill>
                  <a:srgbClr val="ccecff"/>
                </a:solidFill>
                <a:latin typeface="標楷體"/>
                <a:ea typeface="標楷體"/>
              </a:rPr>
              <a:t>傾向贊成幾年之後至推行「微調方案」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0" name="Rectangle 12"/>
          <p:cNvSpPr/>
          <p:nvPr/>
        </p:nvSpPr>
        <p:spPr>
          <a:xfrm>
            <a:off x="6553080" y="57150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ccecff"/>
                </a:solidFill>
                <a:latin typeface="標楷體"/>
                <a:ea typeface="標楷體"/>
              </a:rPr>
              <a:t>唔知道／唔清楚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ffff"/>
                </a:solidFill>
                <a:latin typeface="Times New Roman"/>
                <a:ea typeface="標楷體"/>
              </a:rPr>
              <a:t>被訪者背景資料</a:t>
            </a:r>
            <a:br>
              <a:rPr sz="4400"/>
            </a:br>
            <a:r>
              <a:rPr b="0" lang="zh-TW" sz="4400" spc="-1" strike="noStrike">
                <a:solidFill>
                  <a:srgbClr val="ccffff"/>
                </a:solidFill>
                <a:latin typeface="Times New Roman"/>
                <a:ea typeface="標楷體"/>
              </a:rPr>
              <a:t>(</a:t>
            </a:r>
            <a:r>
              <a:rPr b="0" lang="zh-TW" sz="4400" spc="-1" strike="noStrike">
                <a:solidFill>
                  <a:srgbClr val="ccffff"/>
                </a:solidFill>
                <a:latin typeface="Times New Roman"/>
                <a:ea typeface="標楷體"/>
              </a:rPr>
              <a:t>部份題目</a:t>
            </a:r>
            <a:r>
              <a:rPr b="0" lang="zh-TW" sz="4400" spc="-1" strike="noStrike">
                <a:solidFill>
                  <a:srgbClr val="ccffff"/>
                </a:solidFill>
                <a:latin typeface="Times New Roman"/>
                <a:ea typeface="標楷體"/>
              </a:rPr>
              <a:t>)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23960" y="1522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ccffff"/>
                </a:solidFill>
                <a:latin typeface="Times New Roman"/>
                <a:ea typeface="標楷體"/>
              </a:rPr>
              <a:t>性別</a:t>
            </a:r>
            <a:endParaRPr b="0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90720" y="14479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33520" y="152388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回答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524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66560" y="2028960"/>
          <a:ext cx="8363160" cy="44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2028960"/>
                    <a:ext cx="836316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23960" y="1522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ccffff"/>
                </a:solidFill>
                <a:latin typeface="Times New Roman"/>
                <a:ea typeface="標楷體"/>
              </a:rPr>
              <a:t>年齡</a:t>
            </a:r>
            <a:endParaRPr b="0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14479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33520" y="152388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回答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517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09520" y="1838160"/>
          <a:ext cx="8791560" cy="476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838160"/>
                    <a:ext cx="8791560" cy="476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23960" y="1522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ccffff"/>
                </a:solidFill>
                <a:latin typeface="Times New Roman"/>
                <a:ea typeface="標楷體"/>
              </a:rPr>
              <a:t>教育程度</a:t>
            </a:r>
            <a:endParaRPr b="0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14479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33520" y="152388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回答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523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781200" y="2419200"/>
          <a:ext cx="7581600" cy="34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2419200"/>
                    <a:ext cx="7581600" cy="34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23960" y="1522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ccffff"/>
                </a:solidFill>
                <a:latin typeface="Times New Roman"/>
                <a:ea typeface="標楷體"/>
              </a:rPr>
              <a:t>職業</a:t>
            </a:r>
            <a:endParaRPr b="0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90720" y="14479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33520" y="152388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回答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520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66560" y="2286000"/>
          <a:ext cx="8363160" cy="41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2286000"/>
                    <a:ext cx="8363160" cy="41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ecff"/>
                </a:solidFill>
                <a:latin typeface="標楷體"/>
                <a:ea typeface="標楷體"/>
              </a:rPr>
              <a:t>研究背景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1760" y="2060640"/>
            <a:ext cx="754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-374760">
              <a:lnSpc>
                <a:spcPct val="110000"/>
              </a:lnSpc>
              <a:spcBef>
                <a:spcPts val="700"/>
              </a:spcBef>
              <a:spcAft>
                <a:spcPts val="1749"/>
              </a:spcAft>
              <a:buClr>
                <a:srgbClr val="ccec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標楷體"/>
                <a:ea typeface="標楷體"/>
              </a:rPr>
              <a:t>調查目的：探討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一般家長對香港中學教學語言「微調方案」的意見</a:t>
            </a:r>
            <a:r>
              <a:rPr b="1" lang="zh-TW" sz="2800" spc="-1" strike="noStrike">
                <a:solidFill>
                  <a:srgbClr val="ccecff"/>
                </a:solidFill>
                <a:latin typeface="標楷體"/>
                <a:ea typeface="標楷體"/>
              </a:rPr>
              <a:t>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spcBef>
                <a:spcPts val="700"/>
              </a:spcBef>
              <a:spcAft>
                <a:spcPts val="1749"/>
              </a:spcAft>
              <a:buClr>
                <a:srgbClr val="ccec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標楷體"/>
                <a:ea typeface="標楷體"/>
              </a:rPr>
              <a:t>調查問卷由港大民研計劃諮詢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田北辰先生</a:t>
            </a:r>
            <a:r>
              <a:rPr b="1" lang="zh-TW" sz="2800" spc="-1" strike="noStrike">
                <a:solidFill>
                  <a:srgbClr val="ccecff"/>
                </a:solidFill>
                <a:latin typeface="標楷體"/>
                <a:ea typeface="標楷體"/>
              </a:rPr>
              <a:t>後獨立設計，所有操作、數據收集及分析由民研計劃獨立進行，結果亦由民研計劃全面負責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spcBef>
                <a:spcPts val="700"/>
              </a:spcBef>
              <a:spcAft>
                <a:spcPts val="1749"/>
              </a:spcAft>
              <a:buClr>
                <a:srgbClr val="ccec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標楷體"/>
                <a:ea typeface="標楷體"/>
              </a:rPr>
              <a:t>調查方法和結果全面公開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198108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15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你既仔女現正就讀幾多年級？</a:t>
            </a:r>
            <a:br>
              <a:rPr sz="2400"/>
            </a:b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【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可選多項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】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33520" y="220968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回答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516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593640" y="2228760"/>
          <a:ext cx="805968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2228760"/>
                    <a:ext cx="80596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990720" y="20574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185160" y="6442200"/>
            <a:ext cx="228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* </a:t>
            </a:r>
            <a:r>
              <a:rPr b="0" lang="zh-TW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因篇幅所限，只列出</a:t>
            </a:r>
            <a:r>
              <a:rPr b="0" lang="zh-TW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2%</a:t>
            </a:r>
            <a:r>
              <a:rPr b="0" lang="zh-TW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或以上的答案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你有冇仔女現正就讀以下類別既學校？ </a:t>
            </a:r>
            <a:br>
              <a:rPr sz="2400"/>
            </a:b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【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可選多項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】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20574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147720" y="234648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回答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518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95400" y="2190600"/>
          <a:ext cx="8962920" cy="431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" y="2190600"/>
                    <a:ext cx="8962920" cy="43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6185160" y="6442200"/>
            <a:ext cx="228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* </a:t>
            </a:r>
            <a:r>
              <a:rPr b="0" lang="zh-TW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因篇幅所限，只列出</a:t>
            </a:r>
            <a:r>
              <a:rPr b="0" lang="zh-TW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2%</a:t>
            </a:r>
            <a:r>
              <a:rPr b="0" lang="zh-TW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或以上的答案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你有冇仔女現正就讀中文中學或英文中學？</a:t>
            </a:r>
            <a:br>
              <a:rPr sz="2400"/>
            </a:b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【可選多項】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90720" y="20574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57200" y="213372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回答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522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76320" y="2362320"/>
          <a:ext cx="8743680" cy="420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2362320"/>
                    <a:ext cx="8743680" cy="42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標楷體"/>
                <a:ea typeface="標楷體"/>
              </a:rPr>
              <a:t>總結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152388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是次調查是政府公佈中學教學語言「微調方案」以來，比較深入和</a:t>
            </a:r>
            <a:r>
              <a:rPr b="0" lang="zh-TW" sz="2400" spc="-1" strike="noStrike" u="sng">
                <a:solidFill>
                  <a:srgbClr val="ffff66"/>
                </a:solidFill>
                <a:uFillTx/>
                <a:latin typeface="Times New Roman"/>
                <a:ea typeface="標楷體"/>
              </a:rPr>
              <a:t>具代表性的家長意見</a:t>
            </a:r>
            <a:r>
              <a:rPr b="0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調查。結果顯示，大約三至四成家長對「微調方案」表示支持，約三分一至四分一表示「一半半」。至於認識程度方面，</a:t>
            </a:r>
            <a:r>
              <a:rPr b="0" lang="zh-TW" sz="2400" spc="-1" strike="noStrike" u="sng">
                <a:solidFill>
                  <a:srgbClr val="ffff66"/>
                </a:solidFill>
                <a:uFillTx/>
                <a:latin typeface="Times New Roman"/>
                <a:ea typeface="標楷體"/>
              </a:rPr>
              <a:t>過半受訪家長表示對方案認識「幾少」或「很少」</a:t>
            </a:r>
            <a:r>
              <a:rPr b="0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。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受訪家長之中，雖然半數知道「微調方案」容許部份而非所有中學開設「彈性班」來自行決定教學語言，但就只有四成知道方案容許部份而非所有達標學生就讀「彈性班」。關於取消「中文中學」及「英文中學」二分法的主要建議，就只有不足三成家長知道。換言之，</a:t>
            </a:r>
            <a:r>
              <a:rPr b="0" lang="zh-TW" sz="2400" spc="-1" strike="noStrike" u="sng">
                <a:solidFill>
                  <a:srgbClr val="ffff66"/>
                </a:solidFill>
                <a:uFillTx/>
                <a:latin typeface="Times New Roman"/>
                <a:ea typeface="標楷體"/>
              </a:rPr>
              <a:t>家長對「微調方案」的認識只屬一般</a:t>
            </a:r>
            <a:r>
              <a:rPr b="0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。 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標楷體"/>
                <a:ea typeface="標楷體"/>
              </a:rPr>
              <a:t>總結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152388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就基礎教育目標方面，在調查提及的六個目標之中，</a:t>
            </a:r>
            <a:r>
              <a:rPr b="0" lang="zh-TW" sz="2400" spc="-1" strike="noStrike" u="sng">
                <a:solidFill>
                  <a:srgbClr val="ffff66"/>
                </a:solidFill>
                <a:uFillTx/>
                <a:latin typeface="Times New Roman"/>
                <a:ea typeface="標楷體"/>
              </a:rPr>
              <a:t>最多家長選擇「幫助學生在德、智、體、群、美的發展」為主要目標</a:t>
            </a:r>
            <a:r>
              <a:rPr b="0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，約佔三分一。認為「提升英語能力」最重要者，不足一成。不過，就有四成半家長表示認為英語教學能夠更加有效達到基礎教育目標，明顯超過母語教學。這個結果，似乎與政府倡議母語教學的目標不太吻合。</a:t>
            </a:r>
            <a:r>
              <a:rPr b="0" lang="zh-TW" sz="2400" spc="-1" strike="noStrike" u="sng">
                <a:solidFill>
                  <a:srgbClr val="ffff66"/>
                </a:solidFill>
                <a:uFillTx/>
                <a:latin typeface="Times New Roman"/>
                <a:ea typeface="標楷體"/>
              </a:rPr>
              <a:t>「微調方案」可以如何配合教學語言政策，似乎是一個值得討論的課題</a:t>
            </a:r>
            <a:r>
              <a:rPr b="0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在家長對「微調方案」的認識只屬一般的情況下，究竟有關方案應該何時推行？調查顯示，</a:t>
            </a:r>
            <a:r>
              <a:rPr b="0" lang="zh-TW" sz="2400" spc="-1" strike="noStrike" u="sng">
                <a:solidFill>
                  <a:srgbClr val="ffff66"/>
                </a:solidFill>
                <a:uFillTx/>
                <a:latin typeface="Times New Roman"/>
                <a:ea typeface="標楷體"/>
              </a:rPr>
              <a:t>希望盡快推行和在</a:t>
            </a:r>
            <a:r>
              <a:rPr b="0" lang="zh-TW" sz="2400" spc="-1" strike="noStrike" u="sng">
                <a:solidFill>
                  <a:srgbClr val="ffff66"/>
                </a:solidFill>
                <a:uFillTx/>
                <a:latin typeface="Times New Roman"/>
                <a:ea typeface="標楷體"/>
              </a:rPr>
              <a:t>3-3-4</a:t>
            </a:r>
            <a:r>
              <a:rPr b="0" lang="zh-TW" sz="2400" spc="-1" strike="noStrike" u="sng">
                <a:solidFill>
                  <a:srgbClr val="ffff66"/>
                </a:solidFill>
                <a:uFillTx/>
                <a:latin typeface="Times New Roman"/>
                <a:ea typeface="標楷體"/>
              </a:rPr>
              <a:t>學制全面落實後才推行的家長，比例相當接近</a:t>
            </a:r>
            <a:r>
              <a:rPr b="0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ccecff"/>
                </a:solidFill>
                <a:latin typeface="標楷體"/>
                <a:ea typeface="標楷體"/>
              </a:rPr>
              <a:t>報 告 完 畢</a:t>
            </a:r>
            <a:endParaRPr b="0" lang="en-US" sz="6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0" y="3809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ecff"/>
                </a:solidFill>
                <a:latin typeface="標楷體"/>
                <a:ea typeface="標楷體"/>
              </a:rPr>
              <a:t>詳細報告結果，請瀏覽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ecff"/>
                </a:solidFill>
                <a:latin typeface="Times New Roman"/>
                <a:ea typeface="標楷體"/>
              </a:rPr>
              <a:t>http://hkupop.hku.hk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3520" y="3276720"/>
            <a:ext cx="80769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90720" y="32767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600" spc="-1" strike="noStrike">
                <a:solidFill>
                  <a:srgbClr val="ccffff"/>
                </a:solidFill>
                <a:latin typeface="標楷體"/>
                <a:ea typeface="標楷體"/>
              </a:rPr>
              <a:t>樣本資料</a:t>
            </a:r>
            <a:endParaRPr b="0" lang="en-US" sz="4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198108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032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訪問日期：  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2009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年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5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月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5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至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12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日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訪問對象：  有子女即將入學（包括剛出生子女），或子女正在就讀本港或外地幼稚園、小學、中學、大學、或者其他教育機構的本港家長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調查方法：   由訪問員直接進行電話訪問，訪問員在成功接觸目標住戶後，再從住戶內找出符合條件的人接受訪問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樣本數目：   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524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個成功個案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有效回應比率：  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58.5%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抽樣誤差：   少於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+/- 4.4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個百分比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(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於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95%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置信水平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ffff"/>
                </a:solidFill>
                <a:latin typeface="Times New Roman"/>
                <a:ea typeface="標楷體"/>
              </a:rPr>
              <a:t>調查結果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100" spc="-1" strike="noStrike">
                <a:solidFill>
                  <a:srgbClr val="ccecff"/>
                </a:solidFill>
                <a:latin typeface="Times New Roman"/>
                <a:ea typeface="標楷體"/>
              </a:rPr>
              <a:t>Q1. </a:t>
            </a:r>
            <a:r>
              <a:rPr b="1" lang="zh-TW" sz="2100" spc="-1" strike="noStrike">
                <a:solidFill>
                  <a:srgbClr val="ccecff"/>
                </a:solidFill>
                <a:latin typeface="Times New Roman"/>
                <a:ea typeface="標楷體"/>
              </a:rPr>
              <a:t>教育局正就微調中學教學語言進行諮詢。作為家長，請問你有幾支持或者反對呢個「微調方案」？如果</a:t>
            </a:r>
            <a:r>
              <a:rPr b="1" lang="zh-TW" sz="2100" spc="-1" strike="noStrike">
                <a:solidFill>
                  <a:srgbClr val="ccecff"/>
                </a:solidFill>
                <a:latin typeface="Times New Roman"/>
                <a:ea typeface="標楷體"/>
              </a:rPr>
              <a:t>0</a:t>
            </a:r>
            <a:r>
              <a:rPr b="1" lang="zh-TW" sz="2100" spc="-1" strike="noStrike">
                <a:solidFill>
                  <a:srgbClr val="ccecff"/>
                </a:solidFill>
                <a:latin typeface="Times New Roman"/>
                <a:ea typeface="標楷體"/>
              </a:rPr>
              <a:t>分代表完全反對，</a:t>
            </a:r>
            <a:r>
              <a:rPr b="1" lang="zh-TW" sz="2100" spc="-1" strike="noStrike">
                <a:solidFill>
                  <a:srgbClr val="ccecff"/>
                </a:solidFill>
                <a:latin typeface="Times New Roman"/>
                <a:ea typeface="標楷體"/>
              </a:rPr>
              <a:t>100</a:t>
            </a:r>
            <a:r>
              <a:rPr b="1" lang="zh-TW" sz="2100" spc="-1" strike="noStrike">
                <a:solidFill>
                  <a:srgbClr val="ccecff"/>
                </a:solidFill>
                <a:latin typeface="Times New Roman"/>
                <a:ea typeface="標楷體"/>
              </a:rPr>
              <a:t>分代表完全支持，</a:t>
            </a:r>
            <a:r>
              <a:rPr b="1" lang="zh-TW" sz="2100" spc="-1" strike="noStrike">
                <a:solidFill>
                  <a:srgbClr val="ccecff"/>
                </a:solidFill>
                <a:latin typeface="Times New Roman"/>
                <a:ea typeface="標楷體"/>
              </a:rPr>
              <a:t>50</a:t>
            </a:r>
            <a:r>
              <a:rPr b="1" lang="zh-TW" sz="2100" spc="-1" strike="noStrike">
                <a:solidFill>
                  <a:srgbClr val="ccecff"/>
                </a:solidFill>
                <a:latin typeface="Times New Roman"/>
                <a:ea typeface="標楷體"/>
              </a:rPr>
              <a:t>分代表一半半，你有幾支持或者反對「微調方案」？</a:t>
            </a:r>
            <a:endParaRPr b="0" lang="en-US" sz="21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8" name="Line 4"/>
          <p:cNvSpPr/>
          <p:nvPr/>
        </p:nvSpPr>
        <p:spPr>
          <a:xfrm>
            <a:off x="609480" y="1523880"/>
            <a:ext cx="8001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828800" y="1676520"/>
          <a:ext cx="2666880" cy="1139760"/>
        </p:xfrm>
        <a:graphic>
          <a:graphicData uri="http://schemas.openxmlformats.org/drawingml/2006/table">
            <a:tbl>
              <a:tblPr/>
              <a:tblGrid>
                <a:gridCol w="1066680"/>
                <a:gridCol w="1600200"/>
              </a:tblGrid>
              <a:tr h="3715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平均分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53.0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標準誤差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1.3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評分人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370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266760" y="2657520"/>
          <a:ext cx="8610480" cy="381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760" y="2657520"/>
                    <a:ext cx="8610480" cy="38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Rectangle 8"/>
          <p:cNvSpPr/>
          <p:nvPr/>
        </p:nvSpPr>
        <p:spPr>
          <a:xfrm>
            <a:off x="1371600" y="61722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0-49</a:t>
            </a:r>
            <a:r>
              <a:rPr b="0" lang="zh-TW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分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" name="Rectangle 9"/>
          <p:cNvSpPr/>
          <p:nvPr/>
        </p:nvSpPr>
        <p:spPr>
          <a:xfrm>
            <a:off x="2819520" y="617220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50</a:t>
            </a:r>
            <a:r>
              <a:rPr b="0" lang="zh-TW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分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4495680" y="61722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51-100</a:t>
            </a:r>
            <a:r>
              <a:rPr b="0" lang="zh-TW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分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Rectangle 11"/>
          <p:cNvSpPr/>
          <p:nvPr/>
        </p:nvSpPr>
        <p:spPr>
          <a:xfrm>
            <a:off x="5715000" y="617220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標楷體"/>
                <a:ea typeface="標楷體"/>
              </a:rPr>
              <a:t>唔清楚微調方案內容，不能評分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Rectangle 12"/>
          <p:cNvSpPr/>
          <p:nvPr/>
        </p:nvSpPr>
        <p:spPr>
          <a:xfrm>
            <a:off x="7315200" y="61722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標楷體"/>
                <a:ea typeface="標楷體"/>
              </a:rPr>
              <a:t>唔知／難講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04920" y="167652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回答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523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Q2.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你認為你對呢個「微調方案」認識幾多？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20574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07800" y="2343240"/>
          <a:ext cx="8421840" cy="4095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7800" y="2343240"/>
                    <a:ext cx="8421840" cy="40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6199920" y="220968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回答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524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Q3.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就你所知，「微調方案」有冇建議取消「中文中學」同埋「英文中學」既劃分方法？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0720" y="20574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47720" y="234648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回答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523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14280" y="2532240"/>
          <a:ext cx="8467920" cy="327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2532240"/>
                    <a:ext cx="8467920" cy="32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Rectangle 10"/>
          <p:cNvSpPr/>
          <p:nvPr/>
        </p:nvSpPr>
        <p:spPr>
          <a:xfrm>
            <a:off x="1676520" y="563868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ccecff"/>
                </a:solidFill>
                <a:latin typeface="細明體"/>
                <a:ea typeface="標楷體"/>
              </a:rPr>
              <a:t>有建議取消「中中」、「英中」二分法</a:t>
            </a:r>
            <a:br>
              <a:rPr sz="1600"/>
            </a:br>
            <a:r>
              <a:rPr b="0" lang="zh-TW" sz="1600" spc="-1" strike="noStrike">
                <a:solidFill>
                  <a:srgbClr val="ccecff"/>
                </a:solidFill>
                <a:latin typeface="細明體"/>
                <a:ea typeface="標楷體"/>
              </a:rPr>
              <a:t>(</a:t>
            </a:r>
            <a:r>
              <a:rPr b="0" lang="zh-TW" sz="1600" spc="-1" strike="noStrike">
                <a:solidFill>
                  <a:srgbClr val="ccecff"/>
                </a:solidFill>
                <a:latin typeface="細明體"/>
                <a:ea typeface="標楷體"/>
              </a:rPr>
              <a:t>正確答案</a:t>
            </a:r>
            <a:r>
              <a:rPr b="0" lang="zh-TW" sz="1600" spc="-1" strike="noStrike">
                <a:solidFill>
                  <a:srgbClr val="ccecff"/>
                </a:solidFill>
                <a:latin typeface="細明體"/>
                <a:ea typeface="標楷體"/>
              </a:rPr>
              <a:t>)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4038480" y="5638680"/>
            <a:ext cx="175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ccecff"/>
                </a:solidFill>
                <a:latin typeface="標楷體"/>
                <a:ea typeface="標楷體"/>
              </a:rPr>
              <a:t>冇建議取消「中中」、「英中」二分法</a:t>
            </a:r>
            <a:br>
              <a:rPr sz="1600"/>
            </a:br>
            <a:r>
              <a:rPr b="0" lang="zh-TW" sz="1600" spc="-1" strike="noStrike">
                <a:solidFill>
                  <a:srgbClr val="ccecff"/>
                </a:solidFill>
                <a:latin typeface="標楷體"/>
                <a:ea typeface="標楷體"/>
              </a:rPr>
              <a:t>(</a:t>
            </a:r>
            <a:r>
              <a:rPr b="0" lang="zh-TW" sz="1600" spc="-1" strike="noStrike">
                <a:solidFill>
                  <a:srgbClr val="ccecff"/>
                </a:solidFill>
                <a:latin typeface="標楷體"/>
                <a:ea typeface="標楷體"/>
              </a:rPr>
              <a:t>錯誤答案</a:t>
            </a:r>
            <a:r>
              <a:rPr b="0" lang="zh-TW" sz="1600" spc="-1" strike="noStrike">
                <a:solidFill>
                  <a:srgbClr val="ccecff"/>
                </a:solidFill>
                <a:latin typeface="標楷體"/>
                <a:ea typeface="標楷體"/>
              </a:rPr>
              <a:t>)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Rectangle 12"/>
          <p:cNvSpPr/>
          <p:nvPr/>
        </p:nvSpPr>
        <p:spPr>
          <a:xfrm>
            <a:off x="6629400" y="57913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ccecff"/>
                </a:solidFill>
                <a:latin typeface="標楷體"/>
                <a:ea typeface="標楷體"/>
              </a:rPr>
              <a:t>唔知道／唔清楚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Q4.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就你所知，「微調方案」係容許所有定係部份中學開設「彈性班」，自行決定教學語言？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0574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47720" y="234648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回答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523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61800" y="2508120"/>
          <a:ext cx="8401320" cy="3359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1800" y="2508120"/>
                    <a:ext cx="8401320" cy="33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Rectangle 10"/>
          <p:cNvSpPr/>
          <p:nvPr/>
        </p:nvSpPr>
        <p:spPr>
          <a:xfrm>
            <a:off x="1828800" y="579132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ccecff"/>
                </a:solidFill>
                <a:latin typeface="細明體"/>
                <a:ea typeface="標楷體"/>
              </a:rPr>
              <a:t>容許所有中學開設「彈性班」</a:t>
            </a:r>
            <a:br>
              <a:rPr sz="1600"/>
            </a:br>
            <a:r>
              <a:rPr b="0" lang="zh-TW" sz="1600" spc="-1" strike="noStrike">
                <a:solidFill>
                  <a:srgbClr val="ccecff"/>
                </a:solidFill>
                <a:latin typeface="細明體"/>
                <a:ea typeface="標楷體"/>
              </a:rPr>
              <a:t>(</a:t>
            </a:r>
            <a:r>
              <a:rPr b="0" lang="zh-TW" sz="1600" spc="-1" strike="noStrike">
                <a:solidFill>
                  <a:srgbClr val="ccecff"/>
                </a:solidFill>
                <a:latin typeface="細明體"/>
                <a:ea typeface="標楷體"/>
              </a:rPr>
              <a:t>錯誤答案</a:t>
            </a:r>
            <a:r>
              <a:rPr b="0" lang="zh-TW" sz="1600" spc="-1" strike="noStrike">
                <a:solidFill>
                  <a:srgbClr val="ccecff"/>
                </a:solidFill>
                <a:latin typeface="細明體"/>
                <a:ea typeface="標楷體"/>
              </a:rPr>
              <a:t>)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Rectangle 11"/>
          <p:cNvSpPr/>
          <p:nvPr/>
        </p:nvSpPr>
        <p:spPr>
          <a:xfrm>
            <a:off x="4114800" y="579132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ccecff"/>
                </a:solidFill>
                <a:latin typeface="標楷體"/>
                <a:ea typeface="標楷體"/>
              </a:rPr>
              <a:t>容許部份中學開設「彈性班」</a:t>
            </a:r>
            <a:br>
              <a:rPr sz="1600"/>
            </a:br>
            <a:r>
              <a:rPr b="0" lang="zh-TW" sz="1600" spc="-1" strike="noStrike">
                <a:solidFill>
                  <a:srgbClr val="ccecff"/>
                </a:solidFill>
                <a:latin typeface="細明體"/>
                <a:ea typeface="標楷體"/>
              </a:rPr>
              <a:t>(</a:t>
            </a:r>
            <a:r>
              <a:rPr b="0" lang="zh-TW" sz="1600" spc="-1" strike="noStrike">
                <a:solidFill>
                  <a:srgbClr val="ccecff"/>
                </a:solidFill>
                <a:latin typeface="細明體"/>
                <a:ea typeface="標楷體"/>
              </a:rPr>
              <a:t>正確答案</a:t>
            </a:r>
            <a:r>
              <a:rPr b="0" lang="zh-TW" sz="1600" spc="-1" strike="noStrike">
                <a:solidFill>
                  <a:srgbClr val="ccecff"/>
                </a:solidFill>
                <a:latin typeface="細明體"/>
                <a:ea typeface="標楷體"/>
              </a:rPr>
              <a:t>)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Rectangle 12"/>
          <p:cNvSpPr/>
          <p:nvPr/>
        </p:nvSpPr>
        <p:spPr>
          <a:xfrm>
            <a:off x="6629400" y="591336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ccecff"/>
                </a:solidFill>
                <a:latin typeface="標楷體"/>
                <a:ea typeface="標楷體"/>
              </a:rPr>
              <a:t>唔知道／唔清楚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58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Q5.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有意見認為，學校開設「彈性班」，可以增加教學語言模式多樣化，應該推行。但又有意見認為，開設「彈性班」會令學校出現英文班、彈性班及中文班三種，產生不良標籤效應，所以反對推行。你傾向贊成邊種講法？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22860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47720" y="295596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回答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523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84120" y="2971800"/>
          <a:ext cx="8394840" cy="32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2971800"/>
                    <a:ext cx="839484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Rectangle 10"/>
          <p:cNvSpPr/>
          <p:nvPr/>
        </p:nvSpPr>
        <p:spPr>
          <a:xfrm>
            <a:off x="1905120" y="59720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ccecff"/>
                </a:solidFill>
                <a:latin typeface="細明體"/>
                <a:ea typeface="標楷體"/>
              </a:rPr>
              <a:t>傾向支持開設「彈性班」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4114800" y="597204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ccecff"/>
                </a:solidFill>
                <a:latin typeface="標楷體"/>
                <a:ea typeface="標楷體"/>
              </a:rPr>
              <a:t>傾向反對開設「彈性班」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Rectangle 12"/>
          <p:cNvSpPr/>
          <p:nvPr/>
        </p:nvSpPr>
        <p:spPr>
          <a:xfrm>
            <a:off x="6553080" y="597204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ccecff"/>
                </a:solidFill>
                <a:latin typeface="標楷體"/>
                <a:ea typeface="標楷體"/>
              </a:rPr>
              <a:t>唔知道／唔清楚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frank</cp:lastModifiedBy>
  <cp:lastPrinted>2001-04-04T10:00:24Z</cp:lastPrinted>
  <dcterms:modified xsi:type="dcterms:W3CDTF">2009-05-18T03:36:27Z</dcterms:modified>
  <cp:revision>1500</cp:revision>
  <dc:subject/>
  <dc:title>無投影片標題</dc:title>
</cp:coreProperties>
</file>