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6E7E-28A3-4423-9BC8-0929A9998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EC2D-1AAF-49C8-B5F4-301B0C45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F649-930F-4A5F-A9B0-04496068C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CEEB-5F98-46BD-B4F3-771094EC9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E760-7F83-4A64-B75C-D5F485F1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EE1D-F387-4212-AE2E-E55B724A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738A-D224-4725-83F9-DB04D284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C770-11D2-4E0E-BCC9-DBF475D7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6A17-5159-4E5A-BF6E-9F32D82A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DA82-A24F-4039-B14F-ADD23B55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ECC7-E2ED-42F5-83B4-7326A74D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C54A-AAA1-4D69-AC8B-BEBFCC04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5FA5-BFEC-4DD9-8F7D-C0882D00A255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細明體"/>
                <a:ea typeface="標楷體"/>
              </a:rPr>
              <a:t>「回歸十年風雲人物選舉」</a:t>
            </a:r>
            <a:br>
              <a:rPr sz="3600"/>
            </a:br>
            <a:br>
              <a:rPr sz="2400"/>
            </a:br>
            <a:br>
              <a:rPr sz="2400"/>
            </a:br>
            <a:r>
              <a:rPr b="1" lang="zh-TW" sz="3200" spc="-1" strike="noStrike">
                <a:solidFill>
                  <a:srgbClr val="ffff99"/>
                </a:solidFill>
                <a:latin typeface="Times New Roman"/>
                <a:ea typeface="標楷體"/>
              </a:rPr>
              <a:t>專家評選結果簡報</a:t>
            </a:r>
            <a:br>
              <a:rPr sz="2400"/>
            </a:br>
            <a:br>
              <a:rPr sz="2400"/>
            </a:b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鍾庭耀博士</a:t>
            </a:r>
            <a:br>
              <a:rPr sz="2400"/>
            </a:br>
            <a:br>
              <a:rPr sz="2400"/>
            </a:br>
            <a:r>
              <a:rPr b="1" i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2007</a:t>
            </a:r>
            <a:r>
              <a:rPr b="1" i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年</a:t>
            </a:r>
            <a:r>
              <a:rPr b="1" i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5</a:t>
            </a:r>
            <a:r>
              <a:rPr b="1" i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月</a:t>
            </a:r>
            <a:r>
              <a:rPr b="1" i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23</a:t>
            </a:r>
            <a:r>
              <a:rPr b="1" i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日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793800"/>
            <a:ext cx="46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香港大學民意研究計劃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905120" y="838080"/>
          <a:ext cx="117000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838080"/>
                    <a:ext cx="1170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457200" y="2590920"/>
            <a:ext cx="82296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3962520"/>
            <a:ext cx="822960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二十位風雲人物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43200" y="4648320"/>
            <a:ext cx="3048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62120" y="1447920"/>
          <a:ext cx="7848360" cy="5018040"/>
        </p:xfrm>
        <a:graphic>
          <a:graphicData uri="http://schemas.openxmlformats.org/drawingml/2006/table">
            <a:tbl>
              <a:tblPr/>
              <a:tblGrid>
                <a:gridCol w="1066680"/>
                <a:gridCol w="1752480"/>
                <a:gridCol w="1067040"/>
                <a:gridCol w="1981080"/>
                <a:gridCol w="198108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排名 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人物 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頻數 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佔答案百分比</a:t>
                      </a:r>
                      <a:br>
                        <a:rPr sz="2000"/>
                      </a:b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=916) 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佔樣本百分比</a:t>
                      </a:r>
                      <a:br>
                        <a:rPr sz="2000"/>
                      </a:b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=53) 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梁愛詩</a:t>
                      </a: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9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5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李國章</a:t>
                      </a: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7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1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唐英年</a:t>
                      </a: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7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楊永強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7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任志剛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5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羅范椒芬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3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鄭經翰</a:t>
                      </a: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2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田北俊</a:t>
                      </a: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0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李國能</a:t>
                      </a: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0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謝婉雯</a:t>
                      </a: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8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762120" y="1143000"/>
            <a:ext cx="78483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Times New Roman"/>
                <a:ea typeface="標楷體"/>
              </a:rPr>
              <a:t>專家評選結果 </a:t>
            </a:r>
            <a:br>
              <a:rPr sz="4800"/>
            </a:b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標楷體"/>
              </a:rPr>
              <a:t>(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標楷體"/>
              </a:rPr>
              <a:t>人物類別分析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標楷體"/>
              </a:rPr>
              <a:t>)</a:t>
            </a:r>
            <a:r>
              <a:rPr b="1" lang="zh-TW" sz="48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政治範疇，權力建制內 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(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前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5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名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)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648320"/>
            <a:ext cx="3048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066680" y="2209680"/>
          <a:ext cx="7010280" cy="3657600"/>
        </p:xfrm>
        <a:graphic>
          <a:graphicData uri="http://schemas.openxmlformats.org/drawingml/2006/table">
            <a:tbl>
              <a:tblPr/>
              <a:tblGrid>
                <a:gridCol w="2144520"/>
                <a:gridCol w="2390760"/>
                <a:gridCol w="2475000"/>
              </a:tblGrid>
              <a:tr h="89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人物 </a:t>
                      </a:r>
                      <a:endParaRPr b="0" lang="en-US" sz="3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分類排名 </a:t>
                      </a:r>
                      <a:endParaRPr b="0" lang="en-US" sz="3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總排名 </a:t>
                      </a:r>
                      <a:endParaRPr b="0" lang="en-US" sz="3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曾蔭權</a:t>
                      </a: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董建華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陳方安生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葉劉淑儀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梁家傑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609480" y="1676520"/>
            <a:ext cx="784872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6172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上榜人數：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33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政治範疇，權力建制外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(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前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5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名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)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43200" y="4648320"/>
            <a:ext cx="3048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143000" y="1828800"/>
          <a:ext cx="7010280" cy="3657600"/>
        </p:xfrm>
        <a:graphic>
          <a:graphicData uri="http://schemas.openxmlformats.org/drawingml/2006/table">
            <a:tbl>
              <a:tblPr/>
              <a:tblGrid>
                <a:gridCol w="2144520"/>
                <a:gridCol w="2390760"/>
                <a:gridCol w="2475000"/>
              </a:tblGrid>
              <a:tr h="89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人物 </a:t>
                      </a:r>
                      <a:endParaRPr b="0" lang="en-US" sz="3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分類排名 </a:t>
                      </a:r>
                      <a:endParaRPr b="0" lang="en-US" sz="3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總排名 </a:t>
                      </a:r>
                      <a:endParaRPr b="0" lang="en-US" sz="3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陳方安生</a:t>
                      </a: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*</a:t>
                      </a: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陳馮富珍</a:t>
                      </a: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*</a:t>
                      </a: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李國能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程翔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鍾庭耀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990720" y="5638680"/>
            <a:ext cx="7467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*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陳方安生及陳馮富珍先後於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2001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年辭職及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2003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年離任，所以二人在辭職或離任後被列為權力建制外的人物。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523880"/>
            <a:ext cx="784872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72200" y="6172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上榜人數：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9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經濟範疇，權力建制內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(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前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5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名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)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4648320"/>
            <a:ext cx="3048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143000" y="2286000"/>
          <a:ext cx="7010280" cy="3657600"/>
        </p:xfrm>
        <a:graphic>
          <a:graphicData uri="http://schemas.openxmlformats.org/drawingml/2006/table">
            <a:tbl>
              <a:tblPr/>
              <a:tblGrid>
                <a:gridCol w="2144520"/>
                <a:gridCol w="2390760"/>
                <a:gridCol w="2475000"/>
              </a:tblGrid>
              <a:tr h="89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人物 </a:t>
                      </a:r>
                      <a:endParaRPr b="0" lang="en-US" sz="3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分類排名 </a:t>
                      </a:r>
                      <a:endParaRPr b="0" lang="en-US" sz="3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總排名 </a:t>
                      </a:r>
                      <a:endParaRPr b="0" lang="en-US" sz="3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曾蔭權</a:t>
                      </a: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董建華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梁錦松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唐英年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任志剛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685800" y="1752480"/>
            <a:ext cx="784872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43600" y="6172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上榜人數：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11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經濟範疇，權力建制外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(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前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5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名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)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4648320"/>
            <a:ext cx="3048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143000" y="2209680"/>
          <a:ext cx="7010280" cy="3657600"/>
        </p:xfrm>
        <a:graphic>
          <a:graphicData uri="http://schemas.openxmlformats.org/drawingml/2006/table">
            <a:tbl>
              <a:tblPr/>
              <a:tblGrid>
                <a:gridCol w="2144520"/>
                <a:gridCol w="2390760"/>
                <a:gridCol w="2475000"/>
              </a:tblGrid>
              <a:tr h="89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人物 </a:t>
                      </a:r>
                      <a:endParaRPr b="0" lang="en-US" sz="3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分類排名 </a:t>
                      </a:r>
                      <a:endParaRPr b="0" lang="en-US" sz="3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總排名 </a:t>
                      </a:r>
                      <a:endParaRPr b="0" lang="en-US" sz="3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李嘉誠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李澤楷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盧少蘭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林行止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梁伯韜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1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685800" y="1752480"/>
            <a:ext cx="784872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6172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上榜人數：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8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民生範疇，權力建制內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(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前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5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名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)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4648320"/>
            <a:ext cx="3048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143000" y="2209680"/>
          <a:ext cx="7010280" cy="3657600"/>
        </p:xfrm>
        <a:graphic>
          <a:graphicData uri="http://schemas.openxmlformats.org/drawingml/2006/table">
            <a:tbl>
              <a:tblPr/>
              <a:tblGrid>
                <a:gridCol w="2144520"/>
                <a:gridCol w="2390760"/>
                <a:gridCol w="2475000"/>
              </a:tblGrid>
              <a:tr h="89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人物 </a:t>
                      </a:r>
                      <a:endParaRPr b="0" lang="en-US" sz="3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分類排名 </a:t>
                      </a:r>
                      <a:endParaRPr b="0" lang="en-US" sz="3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總排名 </a:t>
                      </a:r>
                      <a:endParaRPr b="0" lang="en-US" sz="3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曾蔭權</a:t>
                      </a: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董建華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陳方安生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葉劉淑儀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陳馮富珍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685800" y="1752480"/>
            <a:ext cx="784872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6172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上榜人數：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2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民生範疇，權力建制外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(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前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5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名</a:t>
            </a: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)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4648320"/>
            <a:ext cx="3048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981080"/>
          <a:ext cx="7010280" cy="3657600"/>
        </p:xfrm>
        <a:graphic>
          <a:graphicData uri="http://schemas.openxmlformats.org/drawingml/2006/table">
            <a:tbl>
              <a:tblPr/>
              <a:tblGrid>
                <a:gridCol w="2144520"/>
                <a:gridCol w="2390760"/>
                <a:gridCol w="2475000"/>
              </a:tblGrid>
              <a:tr h="89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人物 </a:t>
                      </a:r>
                      <a:endParaRPr b="0" lang="en-US" sz="3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分類排名 </a:t>
                      </a:r>
                      <a:endParaRPr b="0" lang="en-US" sz="3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總排名 </a:t>
                      </a:r>
                      <a:endParaRPr b="0" lang="en-US" sz="3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陳日君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李澤楷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鄭經翰</a:t>
                      </a: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*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謝婉雯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黎智英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838080" y="56386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*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鄭經翰於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2004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年當選為立法會議員，故在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04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年或之前他被列為權力建制外的人物。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676520"/>
            <a:ext cx="784872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43600" y="6172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上榜人數：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17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人物類別分析 – 綜合結果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4648320"/>
            <a:ext cx="3048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38080" y="2666880"/>
          <a:ext cx="7467840" cy="2819520"/>
        </p:xfrm>
        <a:graphic>
          <a:graphicData uri="http://schemas.openxmlformats.org/drawingml/2006/table">
            <a:tbl>
              <a:tblPr/>
              <a:tblGrid>
                <a:gridCol w="2210040"/>
                <a:gridCol w="1295280"/>
                <a:gridCol w="1295280"/>
                <a:gridCol w="1295640"/>
                <a:gridCol w="1371600"/>
              </a:tblGrid>
              <a:tr h="72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政治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經濟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民生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280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合計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權力建制內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280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0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權力建制外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381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381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381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280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381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381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合計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381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381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381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3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28080">
                      <a:solidFill>
                        <a:srgbClr val="ccecff"/>
                      </a:solidFill>
                    </a:lnR>
                    <a:lnT w="381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4*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381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685800" y="1676520"/>
            <a:ext cx="784872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198108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風雲人物數目總表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563868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*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由於部分關鍵人物會在不同事件中出現多次，因此，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104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是專家評選結果的總人次而非總人數。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總結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7524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30360" indent="-1530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 algn="just">
              <a:lnSpc>
                <a:spcPct val="90000"/>
              </a:lnSpc>
              <a:spcBef>
                <a:spcPts val="17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「回歸十年風雲人物選舉」的設計，是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結合專家評審和巿民意見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的一種方法。由專家提名到民意評分，再以一人一票方式決定結果，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是民主程序的縮影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 algn="just">
              <a:lnSpc>
                <a:spcPct val="90000"/>
              </a:lnSpc>
              <a:spcBef>
                <a:spcPts val="17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民研計劃所設計的遴選機制，希望有助坊間形形種種選舉工作的未來發展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 algn="just">
              <a:lnSpc>
                <a:spcPct val="90000"/>
              </a:lnSpc>
              <a:spcBef>
                <a:spcPts val="17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析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53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位專家的提名結果，權力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建制內人士的影響力明顯較大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，內外人數比例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2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：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1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。當中又以建制內政治人物的影響力最大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 algn="just">
              <a:lnSpc>
                <a:spcPct val="90000"/>
              </a:lnSpc>
              <a:spcBef>
                <a:spcPts val="17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巿民與專家意見的異同，下一階段將有分曉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1371600"/>
            <a:ext cx="78483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ff00"/>
                </a:solidFill>
                <a:latin typeface="Times New Roman"/>
                <a:ea typeface="標楷體"/>
              </a:rPr>
              <a:t>研究背景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1828800"/>
            <a:ext cx="7467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17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「回歸十年風雲人物選舉」由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香港電台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、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明報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及香港大學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民意研究計劃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合辦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 algn="just">
              <a:spcBef>
                <a:spcPts val="17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目的：選出在回歸後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影響香港發展至深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的本地人物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 algn="just">
              <a:spcBef>
                <a:spcPts val="17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整個的選舉共分四個階段進行：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1574640" indent="-533160" algn="just">
              <a:lnSpc>
                <a:spcPct val="100000"/>
              </a:lnSpc>
              <a:spcBef>
                <a:spcPts val="99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1574640" indent="-533160" algn="just">
              <a:lnSpc>
                <a:spcPct val="100000"/>
              </a:lnSpc>
              <a:spcBef>
                <a:spcPts val="300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第一階段—基礎研究，編寫大事年表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1574640" indent="-533160" algn="just">
              <a:lnSpc>
                <a:spcPct val="100000"/>
              </a:lnSpc>
              <a:spcBef>
                <a:spcPts val="300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第二階段—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專家評選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，選出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20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人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1574640" indent="-533160" algn="just">
              <a:lnSpc>
                <a:spcPct val="100000"/>
              </a:lnSpc>
              <a:spcBef>
                <a:spcPts val="300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第三階段—巿民評分調查，排名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1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至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2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1574640" indent="-533160" algn="just">
              <a:lnSpc>
                <a:spcPct val="100000"/>
              </a:lnSpc>
              <a:spcBef>
                <a:spcPts val="300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第四階段—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巿民遴選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調查，三選一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523880"/>
            <a:ext cx="784872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00"/>
                </a:solidFill>
                <a:latin typeface="Times New Roman"/>
                <a:ea typeface="標楷體"/>
              </a:rPr>
              <a:t>報 告 完 畢</a:t>
            </a:r>
            <a:endParaRPr b="0" lang="en-US" sz="6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0" y="34290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  <a:ea typeface="標楷體"/>
              </a:rPr>
              <a:t>詳細報告結果，請瀏覽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  <a:ea typeface="標楷體"/>
              </a:rPr>
              <a:t>http://hkupop.hku.hk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ff00"/>
                </a:solidFill>
                <a:latin typeface="Times New Roman"/>
                <a:ea typeface="標楷體"/>
              </a:rPr>
              <a:t>第一階段研究設計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30360" indent="-153036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7524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30360" indent="-15303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5238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30360" indent="-15303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190512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民研計劃於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2007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年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4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月中，根據明報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過去十年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每日刊登的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頭版頭條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新聞，透過電腦程式點算連續兩天重復出現的關鍵詞彙，運算各則頭條新聞的分數，並以每半年為一個運算區間，得出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每半年分數最高的十則重點新聞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，編入大事年表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 algn="just">
              <a:spcBef>
                <a:spcPts val="17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研究隊員又根據自己的判斷，從餘下比較高分的重點新聞中，增補平均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3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則但不多於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6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則新聞進入大事年表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1600200"/>
            <a:ext cx="784872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ff00"/>
                </a:solidFill>
                <a:latin typeface="Times New Roman"/>
                <a:ea typeface="標楷體"/>
              </a:rPr>
              <a:t>第一階段研究設計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30360" indent="-153036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7524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30360" indent="-15303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5238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30360" indent="-15303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1828800"/>
            <a:ext cx="75438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在編制事件敍列時，研究隊員會在各樁事件配上關鍵人物，並把有關人物分為政治、經濟、民生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三個範疇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，以及權力建制內外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兩個層次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 algn="just">
              <a:spcBef>
                <a:spcPts val="17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由於如何界定每則重點新聞是屬於政治、經濟或民生範疇有一定困難，而部分關鍵人物又會在不同事件中出現多次，加上部分人物亦會在十年內出入於權力建制，因此，有關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事件和人物的分類，純屬參考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。對評選過程結果完全沒有影響。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1600200"/>
            <a:ext cx="78483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ff00"/>
                </a:solidFill>
                <a:latin typeface="Times New Roman"/>
                <a:ea typeface="標楷體"/>
              </a:rPr>
              <a:t>第二階段</a:t>
            </a:r>
            <a:r>
              <a:rPr b="1" lang="zh-TW" sz="4600" spc="-1" strike="noStrike">
                <a:solidFill>
                  <a:srgbClr val="ffff00"/>
                </a:solidFill>
                <a:latin typeface="Times New Roman"/>
                <a:ea typeface="標楷體"/>
              </a:rPr>
              <a:t>研究設計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05740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35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專家名單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由明報及香港電台提供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，共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59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人。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 algn="just">
              <a:spcBef>
                <a:spcPts val="35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民研計劃透過傳真及電子郵件向專家發出問卷，每卷提名最多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20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人，可按大事年表選擇，亦可自由提名。獲最多專家提名的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20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人編入第三階段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巿民評分調查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 algn="just">
              <a:spcBef>
                <a:spcPts val="35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53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份有效問卷中，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2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份出現了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21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個提名，民研計劃已按照問卷所列規矩，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隨機刪去超額提名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，每卷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1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人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78483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ff00"/>
                </a:solidFill>
                <a:latin typeface="Times New Roman"/>
                <a:ea typeface="標楷體"/>
              </a:rPr>
              <a:t>第二階段研究設計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1981080"/>
            <a:ext cx="75438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35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專家以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傳真方式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交回問卷。每份問卷均印有編號以便追收，及防止重複遞交問卷。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 algn="just">
              <a:spcBef>
                <a:spcPts val="35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問卷截收日期初擬為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5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月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3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日，基於部分專家的要求，最後延遲至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5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月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11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日，總共收回問卷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53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份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，回應比率為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89.8%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 algn="just">
              <a:spcBef>
                <a:spcPts val="35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民研計劃在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5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月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15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日再收到一份問卷，但已無法把資料納入評選結果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1600200"/>
            <a:ext cx="762012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19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ff00"/>
                </a:solidFill>
                <a:latin typeface="Times New Roman"/>
                <a:ea typeface="標楷體"/>
              </a:rPr>
              <a:t>民意評選設計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205740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523880"/>
            <a:ext cx="78483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1981080"/>
            <a:ext cx="7619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90000"/>
              </a:lnSpc>
              <a:spcBef>
                <a:spcPts val="17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民意評審調查會分兩個階段，分別會在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5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月下旬及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6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月中以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電話調查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進行，訪問對象為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18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歲或以上本港居民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17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第三階段調查會就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20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位風雲人物逐個評分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，就他們在回歸後影響香港發展的程度排名，最高分數三人進入最後階段遴選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17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第四階段調查會要求市民以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一人一票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方式，在三名最後入圍人士中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選出一個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歸十年風雲人物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Times New Roman"/>
                <a:ea typeface="標楷體"/>
              </a:rPr>
              <a:t>專家評選結果 </a:t>
            </a:r>
            <a:br>
              <a:rPr sz="4800"/>
            </a:b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標楷體"/>
              </a:rPr>
              <a:t>(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標楷體"/>
              </a:rPr>
              <a:t>二十位風雲人物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標楷體"/>
              </a:rPr>
              <a:t>)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二十位風雲人物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43200" y="4648320"/>
            <a:ext cx="3048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62120" y="1447920"/>
          <a:ext cx="7848360" cy="5018040"/>
        </p:xfrm>
        <a:graphic>
          <a:graphicData uri="http://schemas.openxmlformats.org/drawingml/2006/table">
            <a:tbl>
              <a:tblPr/>
              <a:tblGrid>
                <a:gridCol w="838080"/>
                <a:gridCol w="1905120"/>
                <a:gridCol w="914400"/>
                <a:gridCol w="2133360"/>
                <a:gridCol w="20574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排名 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人物 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頻數 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佔答案百分比</a:t>
                      </a:r>
                      <a:br>
                        <a:rPr sz="2000"/>
                      </a:b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=916) 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佔樣本百分比</a:t>
                      </a:r>
                      <a:br>
                        <a:rPr sz="2000"/>
                      </a:b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=53) 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曾蔭權</a:t>
                      </a: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3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%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 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董建華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9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93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陳方安生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85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葉劉淑儀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9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4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梁家傑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8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李嘉誠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4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梁錦松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2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陳日君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2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李澤楷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0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  <a:ea typeface="標楷體"/>
                        </a:rPr>
                        <a:t>陳馮富珍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0%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762120" y="1143000"/>
            <a:ext cx="78483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7-05-23T07:11:37Z</dcterms:modified>
  <cp:revision>1034</cp:revision>
  <dc:subject/>
  <dc:title>無投影片標題</dc:title>
</cp:coreProperties>
</file>