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89AF34-BD01-4526-886B-000356FDDA3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E30-E4E8-444E-8956-66813B09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CC8-5DB1-40E7-B20E-60F68B3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9E6-E6E7-47D7-A9AB-E12796F4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4E4-0EFE-424B-A55F-92D6E9E3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F36-07EB-4BA8-9641-F065879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0F0-47C6-4A2E-81E6-82B12A8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FED-ECE6-49EA-92F8-4304569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169-4BF0-4DCE-B465-6920B8A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91D-1F8F-4CD8-B0BA-7900722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AE1-F39C-4189-942A-878E2E7E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917-5574-4A96-A4FF-9111A76B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827-2494-4336-B1C9-070B0AC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25C-53C2-492E-883A-A3A872087F9B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低工資及標準工時意見調查</a:t>
            </a:r>
            <a:br>
              <a:rPr sz="4800"/>
            </a:br>
            <a:br>
              <a:rPr sz="24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結果簡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8380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685800"/>
          <a:ext cx="1609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1609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98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立法，最低工資應該是多少？ </a:t>
            </a:r>
            <a:br>
              <a:rPr sz="3600"/>
            </a:b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（以每天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小時，每月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76320" y="1857240"/>
          <a:ext cx="9220320" cy="41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857240"/>
                    <a:ext cx="92203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238880" y="6019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53080" y="3352680"/>
          <a:ext cx="2057400" cy="15242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6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97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6)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最低工資應否與入息中位數掛勾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609480" y="1825560"/>
          <a:ext cx="9982080" cy="48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825560"/>
                    <a:ext cx="998208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858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如果要立法，哪種最低工資模式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較適合香港目前的情況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609480" y="2133720"/>
          <a:ext cx="99820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133720"/>
                    <a:ext cx="9982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934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選擇個別行業試行最低工資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制度，哪類行業最需要優先處理？ </a:t>
            </a:r>
            <a:br>
              <a:rPr sz="3600"/>
            </a:br>
            <a:br>
              <a:rPr sz="1800"/>
            </a:b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（佔回答人數百分比）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320" y="1600200"/>
          <a:ext cx="89913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8991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086600" y="51055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5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4792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-7632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有否聽過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「就業貧窮」？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-609480" y="1828800"/>
          <a:ext cx="998208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828800"/>
                    <a:ext cx="99820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70102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5238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訂定最低工資是否減少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「就業貧窮」的有效方法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533520" y="2206800"/>
          <a:ext cx="998244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206800"/>
                    <a:ext cx="998244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78168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被訪者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高工時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-76320" y="5335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香港人超時工作問題是否嚴重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-533520" y="2206800"/>
          <a:ext cx="998244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206800"/>
                    <a:ext cx="998244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16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合理的每週最高工時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1600200"/>
          <a:ext cx="86104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10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705720" y="1905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7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95880" y="3581280"/>
          <a:ext cx="2362320" cy="18288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34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小時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4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144792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-76320" y="53352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被訪者對立法訂定最高工時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609480" y="2206800"/>
          <a:ext cx="998208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6800"/>
                    <a:ext cx="99820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70572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676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簡報大綱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調查方法及樣本資料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被訪者對立法訂定最低工資的意見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被訪者對立法訂定最高工時的意見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</a:rPr>
              <a:t>總結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如果要立法，每週最高工時應該是多少？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600200"/>
          <a:ext cx="85345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345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086600" y="1752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5880" y="3581280"/>
          <a:ext cx="2362320" cy="182880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41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小時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對最低工資及最高工時的取態 – 綜合數據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1143000" y="1295280"/>
          <a:ext cx="113536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295280"/>
                    <a:ext cx="113536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0102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0642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包括於其中一項，或兩項均選答「一半半」或「唔知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/</a:t>
            </a:r>
            <a:r>
              <a:rPr b="1" i="1" lang="zh-TW" sz="1400" spc="-1" strike="noStrike">
                <a:solidFill>
                  <a:srgbClr val="ccecff"/>
                </a:solidFill>
                <a:latin typeface="Times New Roman"/>
              </a:rPr>
              <a:t>難講」的被訪者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結語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本民意調查由香港大學民意研究計劃獨立進行及全權負責，與樂施會立場無關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關心最低工資討論的巿民只屬少數，制定政策前需要更多理性討論，以掌握關乎各界利益的數據和論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普遍支持立法訂定最低工資及最高工時，但亦普遍認為應該根據不同工種行業分開處理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倘若立法訂定最低工資及最高工時，巿民傾向接受比較嚴格的立法標準，即規管最低工資的水平比最低工資的合理水平略低，而規管最高工時的水平則比最高工時的合理水平略高 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114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請瀏覽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962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調查方法及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828800"/>
            <a:ext cx="7010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7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對象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歲或以上操粵語的香港市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：由訪問員直接進行電話訪問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5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61.7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被訪者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最低工資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對本地最低工資消息的關心程度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609480" y="1574640"/>
          <a:ext cx="9982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574640"/>
                    <a:ext cx="9982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01028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被訪者對立法訂定最低工資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1447920" y="1417680"/>
          <a:ext cx="11430000" cy="52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1417680"/>
                    <a:ext cx="114300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01028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4479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立法訂定最低工資的好處 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3800" y="996840"/>
          <a:ext cx="8591760" cy="55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996840"/>
                    <a:ext cx="859176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308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5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立法訂定最低工資的壞處 </a:t>
            </a:r>
            <a:br>
              <a:rPr sz="3600"/>
            </a:br>
            <a:br>
              <a:rPr sz="20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3800" y="1112760"/>
          <a:ext cx="859176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112760"/>
                    <a:ext cx="859176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2520" y="1905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= 5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0666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被訪者認為合理的最低月薪</a:t>
            </a:r>
            <a:br>
              <a:rPr sz="3600"/>
            </a:br>
            <a:r>
              <a:rPr b="1" lang="zh-TW" sz="20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（以每天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小時，每月工作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-76320" y="1785960"/>
          <a:ext cx="922032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785960"/>
                    <a:ext cx="9220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7238880" y="6019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= 507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705720" y="2362320"/>
          <a:ext cx="1981080" cy="18288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平均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4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3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眾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位數：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$8,00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：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79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8-18T08:21:10Z</dcterms:modified>
  <cp:revision>739</cp:revision>
  <dc:subject/>
  <dc:title>無投影片標題</dc:title>
</cp:coreProperties>
</file>