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18.gif" ContentType="image/gif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54C-C6A7-4632-A028-497806B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D49-D674-4BB2-846B-384F97B7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78B-FDAA-4D6A-956B-87E8B9CA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086-95C7-4C54-850E-FE8A33E6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6B4-D01A-481A-B464-2BE4EF7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8BC-B7FF-42E3-9103-5B37B7A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433-8EEE-4353-9C2A-F28D1EE9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F442-1874-4170-9F20-B7CB9BB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0D1-4974-41E1-A7DA-6B4E905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644-DFE1-44C1-8697-4CFB6AE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336F-67FA-47FE-95B3-6CFCF64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B2B-4CD5-4C9A-9DE7-6E008157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5041-1F15-42CB-A081-FBE7BC5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EC5-B883-46E0-A534-B52F439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78D7-8B0D-40CB-ACFB-F8C00D8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B426-5A15-473E-8AE6-AD0B3698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217A-7D57-4A06-8041-A68D1A78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E7258-4286-4DE3-93B5-CDE39A9721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5C9B6-9B12-4069-8865-4E88781221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8A6D2-B830-416A-8644-2DBB28BB80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0F43D-85EB-4F61-BB21-5A4061435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0BC27-716A-4E59-9004-6B9FF2603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103-449A-49B6-8CE4-28575E2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BCE0-A83F-4983-98A8-351BC2C884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F6E14-4EB0-4395-997F-FB049DF562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CFDCD-57A0-47FD-AE97-46C4079B4F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EFE84-8D42-4869-AE45-ADB5B2F177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ED674-32E0-420F-AE45-8DC1C522CA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78F57-1D48-46F6-8134-111D4FF68F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37777-AA4F-4214-A824-562D173DF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4FE-24BC-4123-A789-C1075853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3E4-1B38-402E-98C4-832ADEB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A5F-11EC-41EC-B0F9-2F30E60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313-4073-4A8D-A453-FA15D81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ADC-1EE2-4B2D-B68A-AAED69A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57C-812D-4711-A3C5-768E08A0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15F-4280-4DB8-9FF5-3EA49B3CF6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7F4-054C-4261-98C2-2A8F586525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05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11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E8D8-03FB-4494-BC50-D54C85DE8C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101.pair.com/msdb/C-screamingpottybab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143920" cy="26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本港幼兒便秘的普遍性及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家長對幼兒便秘的認知調查</a:t>
            </a:r>
            <a:br>
              <a:rPr sz="4400"/>
            </a:br>
            <a:br>
              <a:rPr sz="4000"/>
            </a:br>
            <a:r>
              <a:rPr b="0" lang="zh-TW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新聞發布會</a:t>
            </a:r>
            <a:endParaRPr b="0" lang="en-US" sz="32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5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8134-1F87-49A6-89C4-C303A1739B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142800" y="4142880"/>
            <a:ext cx="5457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日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: 2009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27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日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42520" y="2571840"/>
            <a:ext cx="701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幼兒患上便秘的情況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是否普遍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?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3BB-050D-42B8-A0EB-819EA55573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9720" y="85716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Georgia"/>
                <a:ea typeface="新細明體"/>
              </a:rPr>
              <a:t>過去三個月認為幼兒出現便秘的次數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11" name="內容版面配置區 3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7643880" cy="4921200"/>
          </a:xfrm>
          <a:prstGeom prst="rect">
            <a:avLst/>
          </a:prstGeom>
          <a:ln w="0">
            <a:noFill/>
          </a:ln>
        </p:spPr>
      </p:pic>
      <p:sp>
        <p:nvSpPr>
          <p:cNvPr id="212" name="文字方塊 4"/>
          <p:cNvSpPr/>
          <p:nvPr/>
        </p:nvSpPr>
        <p:spPr>
          <a:xfrm>
            <a:off x="785880" y="542916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六成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家長認為其子女於過去三個月曾出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一至三次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字方塊 6"/>
          <p:cNvSpPr/>
          <p:nvPr/>
        </p:nvSpPr>
        <p:spPr>
          <a:xfrm>
            <a:off x="7929720" y="16527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E4A-C61B-4CFF-AD40-38FF03B487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橢圓 9"/>
          <p:cNvSpPr/>
          <p:nvPr/>
        </p:nvSpPr>
        <p:spPr>
          <a:xfrm>
            <a:off x="4643280" y="2786040"/>
            <a:ext cx="2286000" cy="15001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572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Georgia"/>
                <a:ea typeface="新細明體"/>
              </a:rPr>
              <a:t>最近一次認為幼兒出現便秘時的徵狀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17" name="內容版面配置區 3" descr=""/>
          <p:cNvPicPr/>
          <p:nvPr/>
        </p:nvPicPr>
        <p:blipFill>
          <a:blip r:embed="rId1"/>
          <a:stretch/>
        </p:blipFill>
        <p:spPr>
          <a:xfrm>
            <a:off x="-357120" y="1643040"/>
            <a:ext cx="8929800" cy="4822920"/>
          </a:xfrm>
          <a:prstGeom prst="rect">
            <a:avLst/>
          </a:prstGeom>
          <a:ln w="0">
            <a:noFill/>
          </a:ln>
        </p:spPr>
      </p:pic>
      <p:sp>
        <p:nvSpPr>
          <p:cNvPr id="218" name="文字方塊 5"/>
          <p:cNvSpPr/>
          <p:nvPr/>
        </p:nvSpPr>
        <p:spPr>
          <a:xfrm>
            <a:off x="6072120" y="30099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% (1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字方塊 5"/>
          <p:cNvSpPr/>
          <p:nvPr/>
        </p:nvSpPr>
        <p:spPr>
          <a:xfrm>
            <a:off x="5143680" y="336708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% (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字方塊 5"/>
          <p:cNvSpPr/>
          <p:nvPr/>
        </p:nvSpPr>
        <p:spPr>
          <a:xfrm>
            <a:off x="4572000" y="378612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% (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字方塊 5"/>
          <p:cNvSpPr/>
          <p:nvPr/>
        </p:nvSpPr>
        <p:spPr>
          <a:xfrm>
            <a:off x="3286080" y="450072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% (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字方塊 5"/>
          <p:cNvSpPr/>
          <p:nvPr/>
        </p:nvSpPr>
        <p:spPr>
          <a:xfrm>
            <a:off x="3286080" y="485784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%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字方塊 5"/>
          <p:cNvSpPr/>
          <p:nvPr/>
        </p:nvSpPr>
        <p:spPr>
          <a:xfrm>
            <a:off x="3286080" y="52149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% (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字方塊 5"/>
          <p:cNvSpPr/>
          <p:nvPr/>
        </p:nvSpPr>
        <p:spPr>
          <a:xfrm>
            <a:off x="4572000" y="413388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% (6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字方塊 18"/>
          <p:cNvSpPr/>
          <p:nvPr/>
        </p:nvSpPr>
        <p:spPr>
          <a:xfrm>
            <a:off x="8001000" y="10717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多項選擇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字方塊 20"/>
          <p:cNvSpPr/>
          <p:nvPr/>
        </p:nvSpPr>
        <p:spPr>
          <a:xfrm>
            <a:off x="1476360" y="1052640"/>
            <a:ext cx="78588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字方塊 21"/>
          <p:cNvSpPr/>
          <p:nvPr/>
        </p:nvSpPr>
        <p:spPr>
          <a:xfrm>
            <a:off x="2556000" y="981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符合國際臨床標準的便秘定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投影片編號版面配置區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C12-1CCF-47C5-8EB5-E1B75D5A0B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1428840" y="1785960"/>
            <a:ext cx="1512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1487520" y="3286080"/>
            <a:ext cx="1512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1571760" y="4357800"/>
            <a:ext cx="1512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1571760" y="5500800"/>
            <a:ext cx="1512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285840" y="2500200"/>
            <a:ext cx="277164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1042920" y="981000"/>
            <a:ext cx="1513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字方塊 21"/>
          <p:cNvSpPr/>
          <p:nvPr/>
        </p:nvSpPr>
        <p:spPr>
          <a:xfrm>
            <a:off x="4929120" y="6286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頻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42520" y="2571840"/>
            <a:ext cx="701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那個年紀的小朋友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較容易患上便秘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?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5DA-5BC9-4DA2-930A-E9C27BE86B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內容版面配置區 6"/>
          <p:cNvGraphicFramePr/>
          <p:nvPr/>
        </p:nvGraphicFramePr>
        <p:xfrm>
          <a:off x="928800" y="1643040"/>
          <a:ext cx="79293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內容版面配置區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929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2DC-127F-4724-9268-97B5CF263C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0"/>
          <p:cNvSpPr/>
          <p:nvPr/>
        </p:nvSpPr>
        <p:spPr>
          <a:xfrm>
            <a:off x="2928960" y="1357200"/>
            <a:ext cx="586908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字方塊 6"/>
          <p:cNvSpPr/>
          <p:nvPr/>
        </p:nvSpPr>
        <p:spPr>
          <a:xfrm>
            <a:off x="2428920" y="3429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字方塊 7"/>
          <p:cNvSpPr/>
          <p:nvPr/>
        </p:nvSpPr>
        <p:spPr>
          <a:xfrm>
            <a:off x="4572000" y="2347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字方塊 8"/>
          <p:cNvSpPr/>
          <p:nvPr/>
        </p:nvSpPr>
        <p:spPr>
          <a:xfrm>
            <a:off x="3500280" y="20620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字方塊 9"/>
          <p:cNvSpPr/>
          <p:nvPr/>
        </p:nvSpPr>
        <p:spPr>
          <a:xfrm>
            <a:off x="5643720" y="27050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字方塊 10"/>
          <p:cNvSpPr/>
          <p:nvPr/>
        </p:nvSpPr>
        <p:spPr>
          <a:xfrm>
            <a:off x="6786720" y="22766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字方塊 11"/>
          <p:cNvSpPr/>
          <p:nvPr/>
        </p:nvSpPr>
        <p:spPr>
          <a:xfrm>
            <a:off x="7786800" y="263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標題 1"/>
          <p:cNvSpPr/>
          <p:nvPr/>
        </p:nvSpPr>
        <p:spPr>
          <a:xfrm>
            <a:off x="857160" y="785880"/>
            <a:ext cx="8286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Georgia"/>
              </a:rPr>
              <a:t>出現最少一種醫學確認的便秘徵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字方塊 12"/>
          <p:cNvSpPr/>
          <p:nvPr/>
        </p:nvSpPr>
        <p:spPr>
          <a:xfrm>
            <a:off x="428760" y="59292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個月以上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幼兒出現</a:t>
            </a:r>
            <a:r>
              <a:rPr b="1" lang="zh-TW" sz="2400" spc="-1" strike="noStrike">
                <a:solidFill>
                  <a:srgbClr val="000000"/>
                </a:solidFill>
                <a:latin typeface="Georgia"/>
              </a:rPr>
              <a:t>便秘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比率遠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月以下的幼兒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字方塊 12"/>
          <p:cNvSpPr/>
          <p:nvPr/>
        </p:nvSpPr>
        <p:spPr>
          <a:xfrm>
            <a:off x="4714920" y="550080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年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42520" y="2571840"/>
            <a:ext cx="701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家長對幼兒便秘的認知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和處理方法</a:t>
            </a: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?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8E2-5FA1-41FF-8B14-5B46FF6CB1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8176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家長認為導致幼兒便秘的原因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54" name="內容版面配置區 3" descr=""/>
          <p:cNvPicPr/>
          <p:nvPr/>
        </p:nvPicPr>
        <p:blipFill>
          <a:blip r:embed="rId1"/>
          <a:stretch/>
        </p:blipFill>
        <p:spPr>
          <a:xfrm>
            <a:off x="71280" y="1440000"/>
            <a:ext cx="8786880" cy="520380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3"/>
          <p:cNvSpPr/>
          <p:nvPr/>
        </p:nvSpPr>
        <p:spPr>
          <a:xfrm>
            <a:off x="8001000" y="172404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5%(3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字方塊 14"/>
          <p:cNvSpPr/>
          <p:nvPr/>
        </p:nvSpPr>
        <p:spPr>
          <a:xfrm>
            <a:off x="6357960" y="20811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2% (26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字方塊 15"/>
          <p:cNvSpPr/>
          <p:nvPr/>
        </p:nvSpPr>
        <p:spPr>
          <a:xfrm>
            <a:off x="4714920" y="247824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8% (1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字方塊 16"/>
          <p:cNvSpPr/>
          <p:nvPr/>
        </p:nvSpPr>
        <p:spPr>
          <a:xfrm>
            <a:off x="3214800" y="29383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% (3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字方塊 17"/>
          <p:cNvSpPr/>
          <p:nvPr/>
        </p:nvSpPr>
        <p:spPr>
          <a:xfrm>
            <a:off x="3214800" y="33656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% (3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字方塊 18"/>
          <p:cNvSpPr/>
          <p:nvPr/>
        </p:nvSpPr>
        <p:spPr>
          <a:xfrm>
            <a:off x="3143160" y="37148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%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字方塊 19"/>
          <p:cNvSpPr/>
          <p:nvPr/>
        </p:nvSpPr>
        <p:spPr>
          <a:xfrm>
            <a:off x="3071880" y="41432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% (2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字方塊 20"/>
          <p:cNvSpPr/>
          <p:nvPr/>
        </p:nvSpPr>
        <p:spPr>
          <a:xfrm>
            <a:off x="3000240" y="457200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% (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字方塊 21"/>
          <p:cNvSpPr/>
          <p:nvPr/>
        </p:nvSpPr>
        <p:spPr>
          <a:xfrm>
            <a:off x="2857680" y="49784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%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字方塊 22"/>
          <p:cNvSpPr/>
          <p:nvPr/>
        </p:nvSpPr>
        <p:spPr>
          <a:xfrm>
            <a:off x="2857680" y="53578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%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字方塊 24"/>
          <p:cNvSpPr/>
          <p:nvPr/>
        </p:nvSpPr>
        <p:spPr>
          <a:xfrm>
            <a:off x="7929720" y="10717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多項選擇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投影片編號版面配置區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805-700C-452B-AED2-4B6B6DDCE9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826920" y="1341360"/>
            <a:ext cx="2665440" cy="1444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字方塊 17"/>
          <p:cNvSpPr/>
          <p:nvPr/>
        </p:nvSpPr>
        <p:spPr>
          <a:xfrm>
            <a:off x="5072040" y="62150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頻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2680" y="917640"/>
            <a:ext cx="90010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家長怎樣處理便秘問題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70" name="內容版面配置區 3" descr=""/>
          <p:cNvPicPr/>
          <p:nvPr/>
        </p:nvPicPr>
        <p:blipFill>
          <a:blip r:embed="rId1"/>
          <a:stretch/>
        </p:blipFill>
        <p:spPr>
          <a:xfrm>
            <a:off x="0" y="1584360"/>
            <a:ext cx="9001080" cy="4830840"/>
          </a:xfrm>
          <a:prstGeom prst="rect">
            <a:avLst/>
          </a:prstGeom>
          <a:ln w="0">
            <a:noFill/>
          </a:ln>
        </p:spPr>
      </p:pic>
      <p:sp>
        <p:nvSpPr>
          <p:cNvPr id="271" name="文字方塊 4"/>
          <p:cNvSpPr/>
          <p:nvPr/>
        </p:nvSpPr>
        <p:spPr>
          <a:xfrm>
            <a:off x="7143840" y="17146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9% (4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字方塊 5"/>
          <p:cNvSpPr/>
          <p:nvPr/>
        </p:nvSpPr>
        <p:spPr>
          <a:xfrm>
            <a:off x="6072120" y="207180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1% (25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字方塊 6"/>
          <p:cNvSpPr/>
          <p:nvPr/>
        </p:nvSpPr>
        <p:spPr>
          <a:xfrm>
            <a:off x="4786200" y="250020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5% (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字方塊 7"/>
          <p:cNvSpPr/>
          <p:nvPr/>
        </p:nvSpPr>
        <p:spPr>
          <a:xfrm>
            <a:off x="4643280" y="286704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% (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字方塊 8"/>
          <p:cNvSpPr/>
          <p:nvPr/>
        </p:nvSpPr>
        <p:spPr>
          <a:xfrm>
            <a:off x="4500720" y="3214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% (5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字方塊 9"/>
          <p:cNvSpPr/>
          <p:nvPr/>
        </p:nvSpPr>
        <p:spPr>
          <a:xfrm>
            <a:off x="4500720" y="36529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% (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字方塊 10"/>
          <p:cNvSpPr/>
          <p:nvPr/>
        </p:nvSpPr>
        <p:spPr>
          <a:xfrm>
            <a:off x="4429080" y="40006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% (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字方塊 11"/>
          <p:cNvSpPr/>
          <p:nvPr/>
        </p:nvSpPr>
        <p:spPr>
          <a:xfrm>
            <a:off x="4357800" y="4357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% (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字方塊 12"/>
          <p:cNvSpPr/>
          <p:nvPr/>
        </p:nvSpPr>
        <p:spPr>
          <a:xfrm>
            <a:off x="4286160" y="479592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% (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字方塊 14"/>
          <p:cNvSpPr/>
          <p:nvPr/>
        </p:nvSpPr>
        <p:spPr>
          <a:xfrm>
            <a:off x="7929720" y="10717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多項選擇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286160" y="51436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% (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字方塊 17"/>
          <p:cNvSpPr/>
          <p:nvPr/>
        </p:nvSpPr>
        <p:spPr>
          <a:xfrm>
            <a:off x="4214880" y="5500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%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投影片編號版面配置區 1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8B1-EBF5-4B96-82CC-0BE126382B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928800" y="4643280"/>
            <a:ext cx="5143320" cy="128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字方塊 17"/>
          <p:cNvSpPr/>
          <p:nvPr/>
        </p:nvSpPr>
        <p:spPr>
          <a:xfrm>
            <a:off x="6286680" y="628668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頻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1125000"/>
            <a:ext cx="66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第二部份 </a:t>
            </a:r>
            <a:r>
              <a:rPr b="1" lang="en-US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- </a:t>
            </a: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認識幼兒便秘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33E-63B3-4346-971D-B7F2C9429A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標題 2"/>
          <p:cNvSpPr/>
          <p:nvPr/>
        </p:nvSpPr>
        <p:spPr>
          <a:xfrm>
            <a:off x="1285920" y="2643120"/>
            <a:ext cx="69292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兒科專科醫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譚一翔醫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14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Arial"/>
                <a:ea typeface="新細明體"/>
              </a:rPr>
              <a:t>國際醫學研究報告對便秘的定義</a:t>
            </a:r>
            <a:endParaRPr b="0" lang="en-US" sz="41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4871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每星期排便次數少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次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排便的次數比平常明顯減少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例如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次變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次，或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次變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次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因排便問題引起哭泣、腹痛、腹脹或肛裂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排便時特別用力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  <a:ea typeface="新細明體"/>
              </a:rPr>
              <a:t>費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排出波子</a:t>
            </a:r>
            <a:r>
              <a:rPr b="0" lang="zh-TW" sz="2500" spc="-1" strike="noStrike">
                <a:solidFill>
                  <a:srgbClr val="000000"/>
                </a:solidFill>
                <a:latin typeface="Verdana"/>
                <a:ea typeface="新細明體"/>
              </a:rPr>
              <a:t>般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AEB-B27C-4850-BDF1-B0F5A7D7AD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baby+crying+02"/>
          <p:cNvPicPr/>
          <p:nvPr/>
        </p:nvPicPr>
        <p:blipFill>
          <a:blip r:embed="rId1"/>
          <a:stretch/>
        </p:blipFill>
        <p:spPr>
          <a:xfrm>
            <a:off x="5832360" y="2147760"/>
            <a:ext cx="3025800" cy="328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560" y="463680"/>
            <a:ext cx="7072200" cy="18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第一部份</a:t>
            </a:r>
            <a:r>
              <a:rPr b="1" lang="en-US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 </a:t>
            </a:r>
            <a:r>
              <a:rPr b="1" lang="en-US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- </a:t>
            </a: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調查結果發布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3CD9-F880-49E6-B9E0-1C847ACD8C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42520" y="3048120"/>
            <a:ext cx="701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大學民意研究計劃助理總監</a:t>
            </a:r>
            <a:endParaRPr b="0" lang="en-US" sz="36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彭嘉麗女士</a:t>
            </a:r>
            <a:endParaRPr b="0" lang="en-US" sz="36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Georgia"/>
                <a:ea typeface="新細明體"/>
              </a:rPr>
              <a:t>甚麼不是便秘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7160" y="185724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呈糊狀或牙膏狀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質地軟，但未必每天都有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糞便體積及排便模式因人而異，粒粒狀的糞便不一定是便秘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吃人奶每星期排便一次仍屬正常情況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過臭和顏色異常不一定便秘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時用力以至滿臉通紅不一定是便秘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便時不暢順但糞便為軟身就不被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視為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便秘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5" name="Picture 7" descr="300px-Bristol_Stool_Chart"/>
          <p:cNvPicPr/>
          <p:nvPr/>
        </p:nvPicPr>
        <p:blipFill>
          <a:blip r:embed="rId1"/>
          <a:stretch/>
        </p:blipFill>
        <p:spPr>
          <a:xfrm>
            <a:off x="5724360" y="1557360"/>
            <a:ext cx="3056040" cy="4500720"/>
          </a:xfrm>
          <a:prstGeom prst="rect">
            <a:avLst/>
          </a:prstGeom>
          <a:ln w="0">
            <a:noFill/>
          </a:ln>
        </p:spPr>
      </p:pic>
      <p:sp>
        <p:nvSpPr>
          <p:cNvPr id="29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4329-30D6-47A6-9082-BE9B9BCC85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774360"/>
            <a:ext cx="74678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Georgia"/>
                <a:ea typeface="新細明體"/>
              </a:rPr>
              <a:t>功能性便秘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10920" y="1557000"/>
            <a:ext cx="583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與飲食習慣、腸道蠕動受阻或缺乏運動的生活習慣有關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0000"/>
                </a:solidFill>
                <a:latin typeface="Verdana"/>
                <a:ea typeface="新細明體"/>
              </a:rPr>
              <a:t>大部份兒童便秘屬功能性便秘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新細明體"/>
              </a:rPr>
              <a:t>: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飲食習慣改變，如開始轉食稀飯、肉粥等半固體食物 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奶粉和水的調較份量不合乎比例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食物中所含的纖維不足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飲水不足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腸胃不適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生活環境及生活習慣突然改變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家長時常強制如廁形成嬰幼兒如廁恐懼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  <a:ea typeface="新細明體"/>
              </a:rPr>
              <a:t>情緒問題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E0C-1257-4882-A91D-6A72DD7A10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C-screamingpottyba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6880" y="2205000"/>
            <a:ext cx="26971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器質性便秘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452916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新細明體"/>
              </a:rPr>
              <a:t>極少部份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的便秘是由非功能性的問題所引致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器質性便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腸出現結構上的異常或病變而引起的便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先天性巨結腸症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腸塞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先天性肛門狹窄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甲狀腺素過低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先天性膽囊纖維化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AC0-B24D-4A42-8926-411C33C22E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1407_1"/>
          <p:cNvPicPr/>
          <p:nvPr/>
        </p:nvPicPr>
        <p:blipFill>
          <a:blip r:embed="rId1"/>
          <a:stretch/>
        </p:blipFill>
        <p:spPr>
          <a:xfrm>
            <a:off x="5643720" y="3141720"/>
            <a:ext cx="3143160" cy="2913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內容版面配置區 6" descr=""/>
          <p:cNvPicPr/>
          <p:nvPr/>
        </p:nvPicPr>
        <p:blipFill>
          <a:blip r:embed="rId1"/>
          <a:stretch/>
        </p:blipFill>
        <p:spPr>
          <a:xfrm>
            <a:off x="928800" y="1557360"/>
            <a:ext cx="7572240" cy="4371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680" y="592200"/>
            <a:ext cx="8572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調查顯示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: 6</a:t>
            </a:r>
            <a:r>
              <a:rPr b="1" lang="zh-TW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個月以上幼兒較容易出現便秘徵狀</a:t>
            </a:r>
            <a:endParaRPr b="0" lang="en-US" sz="32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963-63F2-40C3-AF74-E6D0DEF866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3132000" y="1557360"/>
            <a:ext cx="5297760" cy="1442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6"/>
          <p:cNvSpPr/>
          <p:nvPr/>
        </p:nvSpPr>
        <p:spPr>
          <a:xfrm>
            <a:off x="2286000" y="30909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7"/>
          <p:cNvSpPr/>
          <p:nvPr/>
        </p:nvSpPr>
        <p:spPr>
          <a:xfrm>
            <a:off x="4427640" y="21528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字方塊 8"/>
          <p:cNvSpPr/>
          <p:nvPr/>
        </p:nvSpPr>
        <p:spPr>
          <a:xfrm>
            <a:off x="3357720" y="1935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字方塊 9"/>
          <p:cNvSpPr/>
          <p:nvPr/>
        </p:nvSpPr>
        <p:spPr>
          <a:xfrm>
            <a:off x="5429160" y="24382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字方塊 10"/>
          <p:cNvSpPr/>
          <p:nvPr/>
        </p:nvSpPr>
        <p:spPr>
          <a:xfrm>
            <a:off x="6500880" y="21528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字方塊 11"/>
          <p:cNvSpPr/>
          <p:nvPr/>
        </p:nvSpPr>
        <p:spPr>
          <a:xfrm>
            <a:off x="7500960" y="2367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字方塊 13"/>
          <p:cNvSpPr/>
          <p:nvPr/>
        </p:nvSpPr>
        <p:spPr>
          <a:xfrm>
            <a:off x="714240" y="5643720"/>
            <a:ext cx="798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月以上的幼兒開始餵半固體食物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，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稀飯、肉粥時，排便的習慣及糞便形狀可能因此而改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字方塊 14"/>
          <p:cNvSpPr/>
          <p:nvPr/>
        </p:nvSpPr>
        <p:spPr>
          <a:xfrm>
            <a:off x="4500720" y="5214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年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10001442"/>
          <p:cNvPicPr/>
          <p:nvPr/>
        </p:nvPicPr>
        <p:blipFill>
          <a:blip r:embed="rId1"/>
          <a:stretch/>
        </p:blipFill>
        <p:spPr>
          <a:xfrm>
            <a:off x="2268360" y="2606760"/>
            <a:ext cx="4932720" cy="3497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1376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預防方法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(</a:t>
            </a:r>
            <a:r>
              <a:rPr b="1" lang="zh-TW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六個月以上</a:t>
            </a:r>
            <a:r>
              <a:rPr b="1" lang="zh-HK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幼兒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)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233880" y="1700280"/>
            <a:ext cx="298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000" spc="-1" strike="noStrike">
                <a:solidFill>
                  <a:srgbClr val="3333cc"/>
                </a:solidFill>
                <a:latin typeface="Arial"/>
              </a:rPr>
              <a:t>剛戒奶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HK" sz="3000" spc="-1" strike="noStrike">
                <a:solidFill>
                  <a:srgbClr val="3333cc"/>
                </a:solidFill>
                <a:latin typeface="Arial"/>
              </a:rPr>
              <a:t>開始進食固體食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42560" y="1628280"/>
            <a:ext cx="4969080" cy="46580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由飲人奶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奶粉轉食固體食物時，家長可逐漸增加固體食物的份量，使小朋友的腸胃能慢慢適應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可於日常生活中，給予幼兒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充足開水或稀釋的果汁</a:t>
            </a:r>
            <a:r>
              <a:rPr b="0" lang="zh-HK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特別是西梅汁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可準備一些高纖維水果及榖類食物，包括蘋果、桃、提子、香蕉、搗碎的西梅及漿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不是整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等，這些食物所含的纖維能有效促進腸道蠕動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不應強迫幼兒進食不喜歡的食物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4019-A0E6-4E69-ACD3-0167047ECA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字方塊 4"/>
          <p:cNvSpPr/>
          <p:nvPr/>
        </p:nvSpPr>
        <p:spPr>
          <a:xfrm>
            <a:off x="1357200" y="635796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NHS Institute for Innovation and Improv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461240" y="649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</a:rPr>
              <a:t>飲食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istockphoto_3167564-baby-and-fruit"/>
          <p:cNvPicPr/>
          <p:nvPr/>
        </p:nvPicPr>
        <p:blipFill>
          <a:blip r:embed="rId1"/>
          <a:stretch/>
        </p:blipFill>
        <p:spPr>
          <a:xfrm>
            <a:off x="6162840" y="2809800"/>
            <a:ext cx="2409840" cy="3619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fruit_kebabs_125x125"/>
          <p:cNvPicPr/>
          <p:nvPr/>
        </p:nvPicPr>
        <p:blipFill>
          <a:blip r:embed="rId2"/>
          <a:stretch/>
        </p:blipFill>
        <p:spPr>
          <a:xfrm>
            <a:off x="6084720" y="6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58560" y="1699920"/>
            <a:ext cx="6769080" cy="1873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適度的活動或運動可有效促進腸道蠕動，防止幼兒便秘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應鼓勵幼兒養成良好排便習慣，但不可太早進行排便訓練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5D0-2962-4593-A1AD-176F4B3A8F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字方塊 5"/>
          <p:cNvSpPr/>
          <p:nvPr/>
        </p:nvSpPr>
        <p:spPr>
          <a:xfrm>
            <a:off x="1357200" y="6000840"/>
            <a:ext cx="500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ealth.vic.gov.au/edfactshe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BabyWeights"/>
          <p:cNvPicPr/>
          <p:nvPr/>
        </p:nvPicPr>
        <p:blipFill>
          <a:blip r:embed="rId1"/>
          <a:stretch/>
        </p:blipFill>
        <p:spPr>
          <a:xfrm>
            <a:off x="4929120" y="3645000"/>
            <a:ext cx="3387960" cy="264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"/>
          <p:cNvSpPr/>
          <p:nvPr/>
        </p:nvSpPr>
        <p:spPr>
          <a:xfrm>
            <a:off x="1739880" y="627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</a:rPr>
              <a:t>其他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1376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預防方法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(</a:t>
            </a:r>
            <a:r>
              <a:rPr b="1" lang="zh-TW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六個月以下</a:t>
            </a:r>
            <a:r>
              <a:rPr b="1" lang="zh-HK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幼兒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新細明體"/>
              </a:rPr>
              <a:t>)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916360" y="1557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Arial"/>
              </a:rPr>
              <a:t>未戒奶</a:t>
            </a:r>
            <a:r>
              <a:rPr b="1" lang="zh-HK" sz="3600" spc="-1" strike="noStrike">
                <a:solidFill>
                  <a:srgbClr val="3333cc"/>
                </a:solidFill>
                <a:latin typeface="Arial"/>
              </a:rPr>
              <a:t>幼兒</a:t>
            </a:r>
            <a:r>
              <a:rPr b="1" lang="zh-TW" sz="3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0" descr="r9621ThirstyBabyPosters"/>
          <p:cNvPicPr/>
          <p:nvPr/>
        </p:nvPicPr>
        <p:blipFill>
          <a:blip r:embed="rId1"/>
          <a:srcRect l="4550" t="12851" r="7382" b="25223"/>
          <a:stretch/>
        </p:blipFill>
        <p:spPr>
          <a:xfrm>
            <a:off x="5110200" y="2909880"/>
            <a:ext cx="2890800" cy="2519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breastfeeding"/>
          <p:cNvPicPr/>
          <p:nvPr/>
        </p:nvPicPr>
        <p:blipFill>
          <a:blip r:embed="rId2"/>
          <a:stretch/>
        </p:blipFill>
        <p:spPr>
          <a:xfrm>
            <a:off x="1571760" y="2909880"/>
            <a:ext cx="3508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71720" y="1785600"/>
            <a:ext cx="5040000" cy="4102200"/>
          </a:xfrm>
          <a:prstGeom prst="rect">
            <a:avLst/>
          </a:prstGeom>
          <a:solidFill>
            <a:srgbClr val="ffcc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飲用配方奶粉的</a:t>
            </a:r>
            <a:r>
              <a:rPr b="0" lang="zh-HK" sz="2200" spc="-1" strike="noStrike">
                <a:solidFill>
                  <a:srgbClr val="000000"/>
                </a:solidFill>
                <a:latin typeface="Arial"/>
                <a:ea typeface="新細明體"/>
              </a:rPr>
              <a:t>幼兒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，家長必須跟從包裝指示沖調正確分量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飲用配方奶粉的</a:t>
            </a:r>
            <a:r>
              <a:rPr b="0" lang="zh-HK" sz="2200" spc="-1" strike="noStrike">
                <a:solidFill>
                  <a:srgbClr val="000000"/>
                </a:solidFill>
                <a:latin typeface="Arial"/>
                <a:ea typeface="新細明體"/>
              </a:rPr>
              <a:t>幼兒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甚少會因為其所含的牛奶成份而造成便秘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母乳喂哺甚少機會導致便秘，如出現此情況，應考慮是否屬器質性便秘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E403-841E-4EE6-9615-7BC5249A28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字方塊 4"/>
          <p:cNvSpPr/>
          <p:nvPr/>
        </p:nvSpPr>
        <p:spPr>
          <a:xfrm>
            <a:off x="857160" y="635796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NHS Institute for Innovation and Improv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146124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</a:rPr>
              <a:t>飲食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9" descr="willing%20water%20color"/>
          <p:cNvPicPr/>
          <p:nvPr/>
        </p:nvPicPr>
        <p:blipFill>
          <a:blip r:embed="rId1"/>
          <a:stretch/>
        </p:blipFill>
        <p:spPr>
          <a:xfrm>
            <a:off x="6300720" y="2433600"/>
            <a:ext cx="24386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Georgia"/>
                <a:ea typeface="新細明體"/>
              </a:rPr>
              <a:t>母乳餵哺相對奶粉餵哺的排便情况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1720" y="1773360"/>
            <a:ext cx="7500960" cy="3798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6600ff"/>
                </a:solidFill>
                <a:latin typeface="Arial"/>
                <a:ea typeface="新細明體"/>
              </a:rPr>
              <a:t>母乳</a:t>
            </a:r>
            <a:r>
              <a:rPr b="1" lang="en-US" sz="2500" spc="-1" strike="noStrike">
                <a:solidFill>
                  <a:srgbClr val="6600ff"/>
                </a:solidFill>
                <a:latin typeface="Arial"/>
                <a:ea typeface="新細明體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500" spc="-1" strike="noStrike">
                <a:solidFill>
                  <a:srgbClr val="000000"/>
                </a:solidFill>
                <a:latin typeface="Arial"/>
                <a:ea typeface="新細明體"/>
              </a:rPr>
              <a:t>大便有較多水份、次數亦較多；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6600ff"/>
                </a:solidFill>
                <a:latin typeface="Arial"/>
                <a:ea typeface="新細明體"/>
              </a:rPr>
              <a:t>奶粉</a:t>
            </a:r>
            <a:r>
              <a:rPr b="1" lang="en-US" sz="2500" spc="-1" strike="noStrike">
                <a:solidFill>
                  <a:srgbClr val="6600ff"/>
                </a:solidFill>
                <a:latin typeface="Arial"/>
                <a:ea typeface="新細明體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500" spc="-1" strike="noStrike">
                <a:solidFill>
                  <a:srgbClr val="000000"/>
                </a:solidFill>
                <a:latin typeface="Arial"/>
                <a:ea typeface="新細明體"/>
              </a:rPr>
              <a:t>大便相對較硬、次數亦可能減少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51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近年配方奶粉含乳清蛋白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ALPHA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蛋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一種易被消化吸收的優質乳清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、植物脂肪、適當份量的鏻、鈣質和鐡質、調較了奶粉中的電解質含量、令大便質地較軟及更容易被兒童腸胃消化及吸收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4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ECB-92BD-4229-972D-58D3501715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調查目的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瞭解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  <a:p>
            <a:pPr marL="457200" indent="-4572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家長對幼兒便秘的憂慮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  <a:p>
            <a:pPr marL="457200" indent="-4572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幼兒便秘問題的普遍性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  <a:p>
            <a:pPr marL="457200" indent="-4572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家長對幼兒便秘的認知和處理方法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  <a:p>
            <a:pPr marL="457200" indent="-4572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6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2E6-70FA-4C78-B896-F89644E7A6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116000" y="1557000"/>
            <a:ext cx="4741920" cy="3443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500" spc="-1" strike="noStrike">
                <a:solidFill>
                  <a:srgbClr val="000000"/>
                </a:solidFill>
                <a:latin typeface="Arial"/>
                <a:ea typeface="新細明體"/>
              </a:rPr>
              <a:t>家長可為幼兒進行適量的腹部按摩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500" spc="-1" strike="noStrike">
                <a:solidFill>
                  <a:srgbClr val="000000"/>
                </a:solidFill>
                <a:latin typeface="Arial"/>
                <a:ea typeface="新細明體"/>
              </a:rPr>
              <a:t>讓幼兒平躺</a:t>
            </a: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新細明體"/>
              </a:rPr>
              <a:t>然後前後拉動其雙腳，做出踏單車動作</a:t>
            </a:r>
            <a:r>
              <a:rPr b="0" lang="zh-HK" sz="2500" spc="-1" strike="noStrike">
                <a:solidFill>
                  <a:srgbClr val="000000"/>
                </a:solidFill>
                <a:latin typeface="Arial"/>
                <a:ea typeface="新細明體"/>
              </a:rPr>
              <a:t>或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500" spc="-1" strike="noStrike">
                <a:solidFill>
                  <a:srgbClr val="000000"/>
                </a:solidFill>
                <a:latin typeface="Arial"/>
                <a:ea typeface="新細明體"/>
              </a:rPr>
              <a:t>暖水浴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482-487A-4FBA-9FCB-3838F6686A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字方塊 4"/>
          <p:cNvSpPr/>
          <p:nvPr/>
        </p:nvSpPr>
        <p:spPr>
          <a:xfrm>
            <a:off x="1357200" y="6000840"/>
            <a:ext cx="500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ealth.vic.gov.au/edfactshe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1" descr="20300968"/>
          <p:cNvPicPr/>
          <p:nvPr/>
        </p:nvPicPr>
        <p:blipFill>
          <a:blip r:embed="rId1"/>
          <a:stretch/>
        </p:blipFill>
        <p:spPr>
          <a:xfrm>
            <a:off x="5857920" y="1571760"/>
            <a:ext cx="2952720" cy="22366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2"/>
          <p:cNvSpPr/>
          <p:nvPr/>
        </p:nvSpPr>
        <p:spPr>
          <a:xfrm>
            <a:off x="1379520" y="65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</a:rPr>
              <a:t>其他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mothercare_supabath"/>
          <p:cNvPicPr/>
          <p:nvPr/>
        </p:nvPicPr>
        <p:blipFill>
          <a:blip r:embed="rId2"/>
          <a:stretch/>
        </p:blipFill>
        <p:spPr>
          <a:xfrm>
            <a:off x="5796000" y="3643200"/>
            <a:ext cx="2952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828684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Georgia"/>
                <a:ea typeface="新細明體"/>
              </a:rPr>
              <a:t>調查結果顯示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5280" y="1557000"/>
            <a:ext cx="61736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  <a:ea typeface="新細明體"/>
              </a:rPr>
              <a:t>家長</a:t>
            </a:r>
            <a:r>
              <a:rPr b="0" lang="zh-TW" sz="2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擔心便秘會影響幼兒健康</a:t>
            </a: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  <a:ea typeface="新細明體"/>
              </a:rPr>
              <a:t>出現便秘徵狀並不等於便秘</a:t>
            </a:r>
            <a:r>
              <a:rPr b="0" lang="zh-TW" sz="23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</a:t>
            </a:r>
            <a:r>
              <a:rPr b="0" lang="zh-TW" sz="2300" spc="-1" strike="noStrike">
                <a:solidFill>
                  <a:srgbClr val="000000"/>
                </a:solidFill>
                <a:latin typeface="Verdana"/>
                <a:ea typeface="新細明體"/>
              </a:rPr>
              <a:t>大部份幼兒只出現一種醫學確認的便秘徵狀</a:t>
            </a: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家長普遍理解便秘的成因及處理方法，但卻可能使用錯誤的方法來自行解決問題</a:t>
            </a: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r>
              <a:rPr b="0" lang="zh-TW" sz="2300" spc="-1" strike="noStrike">
                <a:solidFill>
                  <a:srgbClr val="000000"/>
                </a:solidFill>
                <a:latin typeface="Arial"/>
                <a:ea typeface="新細明體"/>
              </a:rPr>
              <a:t>個月以上幼兒出現便秘徵狀的比率遠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r>
              <a:rPr b="0" lang="zh-TW" sz="2300" spc="-1" strike="noStrike">
                <a:solidFill>
                  <a:srgbClr val="000000"/>
                </a:solidFill>
                <a:latin typeface="Arial"/>
                <a:ea typeface="新細明體"/>
              </a:rPr>
              <a:t>個月以下幼兒為高</a:t>
            </a: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5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12B-2D33-40C9-B909-184B9E66E5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worry"/>
          <p:cNvPicPr/>
          <p:nvPr/>
        </p:nvPicPr>
        <p:blipFill>
          <a:blip r:embed="rId1"/>
          <a:stretch/>
        </p:blipFill>
        <p:spPr>
          <a:xfrm>
            <a:off x="6804000" y="4076640"/>
            <a:ext cx="20588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Georgia"/>
                <a:ea typeface="新細明體"/>
              </a:rPr>
              <a:t>總結及建議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71280" y="1628640"/>
            <a:ext cx="698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個月以上的幼兒開始轉變飲食習慣，較容易出現便秘徵狀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大部份兒童幼兒便秘屬功能性便秘，與飲食習慣和生活習慣改變的關係密切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不建議自行解決問題如將奶粉沖淡或轉奶粉等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如持續出現便秘徵狀，家長應咨詢醫生意見及解決方法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5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1C67-4514-4052-B690-FC2FE05C31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ont_worry_be_happy"/>
          <p:cNvPicPr/>
          <p:nvPr/>
        </p:nvPicPr>
        <p:blipFill>
          <a:blip r:embed="rId1"/>
          <a:stretch/>
        </p:blipFill>
        <p:spPr>
          <a:xfrm>
            <a:off x="6715080" y="4357800"/>
            <a:ext cx="187164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20001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Verdana"/>
                <a:ea typeface="新細明體"/>
              </a:rPr>
              <a:t>個案分享</a:t>
            </a:r>
            <a:endParaRPr b="0" lang="en-US" sz="6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Verdana"/>
                <a:ea typeface="新細明體"/>
              </a:rPr>
              <a:t>及</a:t>
            </a:r>
            <a:endParaRPr b="0" lang="en-US" sz="6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Verdana"/>
                <a:ea typeface="新細明體"/>
              </a:rPr>
              <a:t>問答時間</a:t>
            </a:r>
            <a:endParaRPr b="0" lang="en-US" sz="6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6A70-E014-4C8C-8105-8D1E256FD5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調查設計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85920" y="167148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調查機構：香港大學民意研究計劃 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訪問日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008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6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日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日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調查方法：電話訪問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調查對象：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現時育有最少一位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歲或以下幼兒的家長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幼兒在訪問前</a:t>
            </a:r>
            <a:r>
              <a:rPr b="0" lang="en-US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月內，懷疑曾出現便秘徵狀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成功訪問人數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50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人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67" name="文字方塊 4"/>
          <p:cNvSpPr/>
          <p:nvPr/>
        </p:nvSpPr>
        <p:spPr>
          <a:xfrm>
            <a:off x="642960" y="5572080"/>
            <a:ext cx="7786800" cy="642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新細明體"/>
              </a:rPr>
              <a:t>整體有效回應比率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4F5-0636-4FB0-8C32-CF294DC9D4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Georgia"/>
                <a:ea typeface="新細明體"/>
              </a:rPr>
              <a:t>受訪家長的子女年齡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70" name="內容版面配置區 4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8302680" cy="6215040"/>
          </a:xfrm>
          <a:prstGeom prst="rect">
            <a:avLst/>
          </a:prstGeom>
          <a:ln w="0">
            <a:noFill/>
          </a:ln>
        </p:spPr>
      </p:pic>
      <p:sp>
        <p:nvSpPr>
          <p:cNvPr id="17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75C-5484-4A1C-B3FA-99936307D0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字方塊 1"/>
          <p:cNvSpPr/>
          <p:nvPr/>
        </p:nvSpPr>
        <p:spPr>
          <a:xfrm>
            <a:off x="1571760" y="3714840"/>
            <a:ext cx="928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% (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字方塊 1"/>
          <p:cNvSpPr/>
          <p:nvPr/>
        </p:nvSpPr>
        <p:spPr>
          <a:xfrm>
            <a:off x="2786040" y="1928880"/>
            <a:ext cx="9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1% (1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字方塊 1"/>
          <p:cNvSpPr/>
          <p:nvPr/>
        </p:nvSpPr>
        <p:spPr>
          <a:xfrm>
            <a:off x="3929040" y="2857680"/>
            <a:ext cx="9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% (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字方塊 1"/>
          <p:cNvSpPr/>
          <p:nvPr/>
        </p:nvSpPr>
        <p:spPr>
          <a:xfrm>
            <a:off x="5143680" y="2928960"/>
            <a:ext cx="928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% (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字方塊 1"/>
          <p:cNvSpPr/>
          <p:nvPr/>
        </p:nvSpPr>
        <p:spPr>
          <a:xfrm>
            <a:off x="6286680" y="2786040"/>
            <a:ext cx="928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% (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字方塊 1"/>
          <p:cNvSpPr/>
          <p:nvPr/>
        </p:nvSpPr>
        <p:spPr>
          <a:xfrm>
            <a:off x="7500960" y="3500280"/>
            <a:ext cx="928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% (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字方塊 6"/>
          <p:cNvSpPr/>
          <p:nvPr/>
        </p:nvSpPr>
        <p:spPr>
          <a:xfrm>
            <a:off x="7572240" y="10717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其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個沒有資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字方塊 11"/>
          <p:cNvSpPr/>
          <p:nvPr/>
        </p:nvSpPr>
        <p:spPr>
          <a:xfrm rot="16200000">
            <a:off x="184320" y="3173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頻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42520" y="2571840"/>
            <a:ext cx="701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家長是否擔心幼兒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患上便秘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新細明體"/>
              </a:rPr>
              <a:t>?</a:t>
            </a:r>
            <a:endParaRPr b="0" lang="en-US" sz="4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55DB-19B1-429C-88FF-833082D26F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d0d0d"/>
                </a:solidFill>
                <a:latin typeface="Georgia"/>
                <a:ea typeface="新細明體"/>
              </a:rPr>
              <a:t>家長對幼兒患便秘的擔心程度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83" name="內容版面配置區 3" descr=""/>
          <p:cNvPicPr/>
          <p:nvPr/>
        </p:nvPicPr>
        <p:blipFill>
          <a:blip r:embed="rId1"/>
          <a:stretch/>
        </p:blipFill>
        <p:spPr>
          <a:xfrm>
            <a:off x="1000080" y="1362240"/>
            <a:ext cx="8715600" cy="4562280"/>
          </a:xfrm>
          <a:prstGeom prst="rect">
            <a:avLst/>
          </a:prstGeom>
          <a:ln w="0">
            <a:noFill/>
          </a:ln>
        </p:spPr>
      </p:pic>
      <p:sp>
        <p:nvSpPr>
          <p:cNvPr id="184" name="文字方塊 4"/>
          <p:cNvSpPr/>
          <p:nvPr/>
        </p:nvSpPr>
        <p:spPr>
          <a:xfrm>
            <a:off x="971640" y="5783400"/>
            <a:ext cx="72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超過九成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家長對幼兒便秘表現不同程度的擔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只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%</a:t>
            </a: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家長表示「完全不擔心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字方塊 5"/>
          <p:cNvSpPr/>
          <p:nvPr/>
        </p:nvSpPr>
        <p:spPr>
          <a:xfrm>
            <a:off x="7715160" y="16527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51E0-09E2-4504-93B5-27BBCDC692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214800" y="1500120"/>
            <a:ext cx="1365120" cy="1071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33560" y="714240"/>
            <a:ext cx="771048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Georgia"/>
                <a:ea typeface="新細明體"/>
              </a:rPr>
              <a:t>家長擔心的原因</a:t>
            </a: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89" name="內容版面配置區 3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010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文字方塊 5"/>
          <p:cNvSpPr/>
          <p:nvPr/>
        </p:nvSpPr>
        <p:spPr>
          <a:xfrm>
            <a:off x="7786800" y="17859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3%  (2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字方塊 6"/>
          <p:cNvSpPr/>
          <p:nvPr/>
        </p:nvSpPr>
        <p:spPr>
          <a:xfrm>
            <a:off x="7715160" y="2357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2%  (25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字方塊 7"/>
          <p:cNvSpPr/>
          <p:nvPr/>
        </p:nvSpPr>
        <p:spPr>
          <a:xfrm>
            <a:off x="5500800" y="285768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6%  (1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字方塊 8"/>
          <p:cNvSpPr/>
          <p:nvPr/>
        </p:nvSpPr>
        <p:spPr>
          <a:xfrm>
            <a:off x="3857760" y="33764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%  (2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9"/>
          <p:cNvSpPr/>
          <p:nvPr/>
        </p:nvSpPr>
        <p:spPr>
          <a:xfrm>
            <a:off x="3429000" y="38768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% 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字方塊 10"/>
          <p:cNvSpPr/>
          <p:nvPr/>
        </p:nvSpPr>
        <p:spPr>
          <a:xfrm>
            <a:off x="3429000" y="44290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% 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字方塊 11"/>
          <p:cNvSpPr/>
          <p:nvPr/>
        </p:nvSpPr>
        <p:spPr>
          <a:xfrm>
            <a:off x="3429000" y="50007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% 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字方塊 12"/>
          <p:cNvSpPr/>
          <p:nvPr/>
        </p:nvSpPr>
        <p:spPr>
          <a:xfrm>
            <a:off x="3429000" y="550080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1% 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字方塊 13"/>
          <p:cNvSpPr/>
          <p:nvPr/>
        </p:nvSpPr>
        <p:spPr>
          <a:xfrm>
            <a:off x="7786800" y="10717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多項選擇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投影片編號版面配置區 14"/>
          <p:cNvSpPr/>
          <p:nvPr/>
        </p:nvSpPr>
        <p:spPr>
          <a:xfrm>
            <a:off x="6939000" y="6257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099-076C-4BFC-B5CA-DBA04B23BB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0" y="1500120"/>
            <a:ext cx="4140360" cy="1857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字方塊 15"/>
          <p:cNvSpPr/>
          <p:nvPr/>
        </p:nvSpPr>
        <p:spPr>
          <a:xfrm>
            <a:off x="5715000" y="6286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頻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9720" y="70308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d0d0d"/>
                </a:solidFill>
                <a:latin typeface="Georgia"/>
                <a:ea typeface="新細明體"/>
              </a:rPr>
              <a:t>認為幼兒排便情況與其健康的關係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文字方塊 5"/>
          <p:cNvSpPr/>
          <p:nvPr/>
        </p:nvSpPr>
        <p:spPr>
          <a:xfrm>
            <a:off x="7786800" y="16527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基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字方塊 11"/>
          <p:cNvSpPr/>
          <p:nvPr/>
        </p:nvSpPr>
        <p:spPr>
          <a:xfrm>
            <a:off x="642960" y="57150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八成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受訪家長認為幼兒的排便情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與其健康有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6653-52A6-4B9B-A846-6E8496182D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內容版面配置區 11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715080" cy="4119480"/>
          </a:xfrm>
          <a:prstGeom prst="rect">
            <a:avLst/>
          </a:prstGeom>
          <a:ln w="0">
            <a:noFill/>
          </a:ln>
        </p:spPr>
      </p:pic>
      <p:sp>
        <p:nvSpPr>
          <p:cNvPr id="207" name="文字方塊 12"/>
          <p:cNvSpPr/>
          <p:nvPr/>
        </p:nvSpPr>
        <p:spPr>
          <a:xfrm>
            <a:off x="5076720" y="29973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1% (2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非常有關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07:02:51Z</dcterms:created>
  <dc:creator>User</dc:creator>
  <dc:description/>
  <cp:keywords/>
  <dc:language>en-US</dc:language>
  <cp:lastModifiedBy>winnie</cp:lastModifiedBy>
  <dcterms:modified xsi:type="dcterms:W3CDTF">2009-04-27T02:53:26Z</dcterms:modified>
  <cp:revision>571</cp:revision>
  <dc:subject/>
  <dc:title>OPE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33</vt:lpwstr>
  </property>
</Properties>
</file>