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A64-059F-4F41-AAD3-A094457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B4B-41A1-43FC-8EB7-B97AD338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683-2966-4B71-A5F8-839ABA00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A05-0061-4E0A-BF06-7DBFE28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C2B-587E-4F46-B660-89CC5930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34F-53C6-40C3-8042-DDD43D97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4F6-4870-46D7-8AE4-07E58EF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083-A281-41F4-8658-A0A0AB3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61F-DC50-4032-A586-3634660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177-DB0F-4A11-B96F-C6E17D7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DDB-9CC2-477E-B7CE-DCD3EE2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3AF-0C1E-45FF-BDA2-CFDBE19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58A-36FD-4FBE-9B32-35171DC309F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的慈善捐款行為意見調查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8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8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7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80960"/>
          <a:ext cx="914400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0960"/>
                    <a:ext cx="914400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066400" y="5519880"/>
            <a:ext cx="1239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7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6200" y="5519880"/>
            <a:ext cx="1239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信譽好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7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8800" y="5486400"/>
            <a:ext cx="12391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解決社會現時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的急切需要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7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68560" y="5524560"/>
            <a:ext cx="12391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73600" y="5524560"/>
            <a:ext cx="12391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朋友的呼籲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9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94160" y="167652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7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905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1360" y="5514840"/>
            <a:ext cx="1239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行政費用合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9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4800" y="6477120"/>
            <a:ext cx="37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5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；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3040" y="6477120"/>
            <a:ext cx="57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 08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新增項目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295280"/>
          <a:ext cx="908676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086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哪種情況會令你考慮再次捐錢給同一間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4160" y="167652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4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902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善款被妥善運用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受惠人的情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6386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慈善項目的工作進度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563868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再次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更方便的捐款方法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特別原因／只想繼續支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5638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6386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行政費用合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5638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唔知／難講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640080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6240" y="6400800"/>
            <a:ext cx="57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 08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新增項目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你為什麼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捐錢給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457280"/>
          <a:ext cx="93726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57280"/>
                    <a:ext cx="93726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117840" y="181296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22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102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676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能力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67684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收到／遇上慈善機構的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676840"/>
            <a:ext cx="11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任何原因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56768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工作太忙／沒有時間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6768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不方便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興趣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將來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504800"/>
          <a:ext cx="899172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04800"/>
                    <a:ext cx="899172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838080" y="5353200"/>
            <a:ext cx="99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9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365800"/>
            <a:ext cx="15238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信譽好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3200"/>
            <a:ext cx="15238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解決社會現時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的急切需要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9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00760" y="5356080"/>
            <a:ext cx="90432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9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5353200"/>
            <a:ext cx="11430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或朋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8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4160" y="160020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29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102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353200"/>
            <a:ext cx="990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了解慈善機構的工作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9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5353200"/>
            <a:ext cx="1295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31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353200"/>
            <a:ext cx="990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行政費用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合理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34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13440" y="6477120"/>
            <a:ext cx="57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^ 08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新增項目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問所有被訪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沒有為未來一年訂下慈善捐款的預算呢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665440"/>
          <a:ext cx="8399520" cy="35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5440"/>
                    <a:ext cx="839952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780880" y="1905120"/>
            <a:ext cx="30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2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1,007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9480" y="640080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四川今年發生大地震，鼓動了很多香港巿民參與賑災和捐獻工作。調查顯示，以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4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香港巿民計，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5%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曾經捐助四川地震的救援及重建工作，直接把在過去一年曾經捐助慈善團體的比率，由去年的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77%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提升到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0%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升幅非常明顯 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於捐款的渠道和方式，則以「透過銀行」或「商店內或街頭捐款箱」捐款者明顯增加，「買旗」者相對減少。款額方面，以認捐人士一年捐款計，平均款項亦由去年為約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,600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元增加至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,600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元。撇除通脹後，升幅亦達五成左右 。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沒有四川地震、內地雪災或緬甸風災等，又或者當有關災難漸漸過去後，巿民會否減少捐款，是個值得思考的問題。調查顯示，八成曾經捐款給四川地震、內地雪災和緬甸風災的人士，其實沒有減少捐助本地的慈善項目。究竟四川地震有否改變巿民的捐款習慣，抑或只是產生短暫影響，仍有待研究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香港巿民的慈善捐款行為似乎相當理智。連續兩年的調查都顯示，慈善機構的信譽和透明度，都是他們捐款與否的重要考慮，亦明顯較去年同期的調查重要。項目是否急切需要及其他人士的呼籲，則屬次要考慮。換言之，慈善機構在推動慈善活動的時候，最好能夠同時發放更多數據和資訊，讓巿民安心應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市民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對慈善捐款的習慣、對象及選擇因素等意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社會服務聯會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 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(2007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年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06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0.5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 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(2008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年</a:t>
            </a:r>
            <a:r>
              <a:rPr b="1" lang="zh-TW" sz="3200" spc="-1" strike="noStrike">
                <a:solidFill>
                  <a:srgbClr val="cc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07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9.4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請問你有沒有捐錢給慈善團體？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任何渠道或方式，但不包括宗教奉獻，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：添香油、祈福、做法事等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920" y="2135160"/>
          <a:ext cx="8829720" cy="413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135160"/>
                    <a:ext cx="882972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933520" y="1889280"/>
            <a:ext cx="30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6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1,007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56040" y="6324480"/>
            <a:ext cx="1473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通常透過什麼渠道或方式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作出捐款？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-66600" y="1447920"/>
          <a:ext cx="92106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600" y="1447920"/>
                    <a:ext cx="92106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520" y="5638680"/>
            <a:ext cx="1295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旗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4120" y="5638680"/>
            <a:ext cx="1447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定期自動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5624640"/>
            <a:ext cx="8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獎劵／電影籌款門券／餐舞會門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52600" y="5627520"/>
            <a:ext cx="762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商店內／街頭捐款箱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5619600"/>
            <a:ext cx="838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郵寄單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61492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電視／電台籌款節目／特備節目／廣告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7840" y="167652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1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901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56293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自己直接捐款給慈善機構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5619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網上捐款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6560" y="6477120"/>
            <a:ext cx="35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；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5629320"/>
            <a:ext cx="12956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透過銀行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7440" y="5627520"/>
            <a:ext cx="14479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透過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工作機構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集體捐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5676840"/>
            <a:ext cx="1447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學校籌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款活動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通常用於哪類慈善項目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捐款對象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514520"/>
          <a:ext cx="9906120" cy="43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4520"/>
                    <a:ext cx="990612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194160" y="1676520"/>
            <a:ext cx="28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5 (2007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br>
              <a:rPr sz="2000"/>
            </a:b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902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668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長者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638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健康與醫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5668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兒童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668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殘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668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扶貧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60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中國內地社區發展項目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5668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5638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唔知／無所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48720" y="6400800"/>
            <a:ext cx="35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；</a:t>
            </a: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6847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四川地震之救援及重建工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60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內地雪災之救援及重建工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55785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地區之災害救援及重建工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者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過去一年計，你大約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總共捐多少錢給慈善機構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?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57240" y="1905120"/>
          <a:ext cx="98107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905120"/>
                    <a:ext cx="9810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867280" y="1752480"/>
          <a:ext cx="3089520" cy="175284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  <a:gridCol w="1032120"/>
              </a:tblGrid>
              <a:tr h="434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007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,62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,569*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3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3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737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729120" y="6400800"/>
            <a:ext cx="14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5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4a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中回答「四川地震／內地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災／緬甸風災／其他地區之救災工作」者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沒有因為過去一年多捐錢給救災工作，而相對地減少捐錢給本地慈善項目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 (0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新增題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2836800"/>
          <a:ext cx="822960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36800"/>
                    <a:ext cx="82296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134400" y="2346480"/>
            <a:ext cx="26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67 (200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8-11-26T05:57:48Z</dcterms:modified>
  <cp:revision>1335</cp:revision>
  <dc:subject/>
  <dc:title>無投影片標題</dc:title>
</cp:coreProperties>
</file>