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714-3969-4212-BECF-3D3587EE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1C1-1D60-48CA-99FC-A6FE4977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F01-0780-460A-A948-92049C3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E73-A469-423B-B9C3-E584C659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FDA-EFFA-4F61-BC47-A1520DF4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2DF-DFE0-487C-8975-4F86CB8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BD3-F620-4FED-98D1-015E4ACD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437-EED3-418B-AFC4-B9443DBF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750-83D2-4486-8FDF-6D0644A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6C7-242F-42D0-BC06-564C490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706-A54F-40A0-A9BA-8A21F7E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81A-3BDC-41FA-A1E2-97604ED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3256-4A03-4C05-B0A9-43BAEA44D988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的慈善捐款行為意見調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8483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7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2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4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無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月內，你為什麼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捐錢給慈善機構呢？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480" y="1447920"/>
          <a:ext cx="887724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88772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22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150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能力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571500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收到／遇上慈善機構的呼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興趣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57150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工作太忙／沒有時間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57150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太多慈善機構，不清楚他們的工作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不方便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715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不知善款有沒有被妥善運用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57150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任何原因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無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逐一評價以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項因素對你將來決定捐助哪間慈善機構的重要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523880"/>
          <a:ext cx="900108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0010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981080" y="5334120"/>
            <a:ext cx="99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透明度高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19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334120"/>
            <a:ext cx="152388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信譽好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1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334120"/>
            <a:ext cx="152424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項目有助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解決社會現時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的急切需要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19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86680" y="5410080"/>
            <a:ext cx="90432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的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方便程度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1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5410080"/>
            <a:ext cx="11430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眾人物或朋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2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4160" y="16765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84-2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410080"/>
            <a:ext cx="990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了解慈善機構的工作</a:t>
            </a:r>
            <a:br>
              <a:rPr sz="1200"/>
            </a:b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0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5468760"/>
            <a:ext cx="1295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收到／遇上慈善機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0.23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13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9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問所有被訪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有沒有為未來一年訂下慈善捐款的預算呢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2084400"/>
          <a:ext cx="822960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84400"/>
                    <a:ext cx="82296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651320" y="19810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,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顯示，在香港成年巿民之中，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計，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5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在過去一年曾經以買旗方式捐助慈善團體，但就只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定期自動捐款。至於捐款對象方面，則相當分散。長者、醫療、兒童、殘障及賑災，都是比較熱門的項目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被訪者給予的答案而論，香港巿民的慈善捐款行為似乎相當理智，因為無論是否應捐者，都認為慈善機構的透明度和信譽，和善款是否得到妥善運用，是他們考慮捐款的重要考慮。相反，別人的呼籲和捐款的方便程度，都是次要考慮。換言之，慈善機構在推動慈善活動的時候，最好能夠同時發放更多數據和資訊，讓巿民安心應捐。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ecff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目的：探討市民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市民對慈善捐款的習慣、對象及選擇因素等意見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社會服務聯會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4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   由訪問員直接進行電話訪問，訪問員在成功接觸目標住戶後，再從住戶內找出符合條件的人接受訪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06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0.5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   少於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.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過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月內，請問你有沒有捐錢給慈善團體？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包括任何渠道或方式，但不包括宗教奉獻，</a:t>
            </a:r>
            <a:br>
              <a:rPr sz="2400"/>
            </a:b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如：添香油、祈福、做法事等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4000" y="2084400"/>
          <a:ext cx="899784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2084400"/>
                    <a:ext cx="89978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604200" y="18892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,0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 [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你通常透過什麼渠道或方式</a:t>
            </a:r>
            <a:br>
              <a:rPr sz="2600"/>
            </a:b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作出捐款？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552680"/>
          <a:ext cx="919152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2680"/>
                    <a:ext cx="91915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09480" y="5410080"/>
            <a:ext cx="12956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買旗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410080"/>
            <a:ext cx="1447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定期自動</a:t>
            </a: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5410080"/>
            <a:ext cx="83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買獎劵／電影籌款門券／餐舞會門劵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5410080"/>
            <a:ext cx="7621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商店內／街頭捐款箱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410080"/>
            <a:ext cx="838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郵寄單張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54100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電視／電台籌款節目／特備節目／廣告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(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無任何回贈的捐款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12840" y="5486400"/>
            <a:ext cx="363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其他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4100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自己直接捐款給慈善機構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5410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義買活動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5410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步行／馬拉松／競技／飢饉活動籌款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3. [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通常用於哪類慈善項目</a:t>
            </a:r>
            <a:br>
              <a:rPr sz="2600"/>
            </a:b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或捐款對象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: (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1752480"/>
          <a:ext cx="872496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72496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604920" y="18129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5715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長者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5715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健康與醫療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5745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兒童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5745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殘障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7150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國際災害救援及重建工作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715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扶貧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715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中國內地社區發展項目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5745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教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745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復康人士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5745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青少年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57452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5715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唔知／無所謂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5960" y="646740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 [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者」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過去一年計，你大約</a:t>
            </a:r>
            <a:br>
              <a:rPr sz="2800"/>
            </a:b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總共捐多少錢給慈善機構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?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760" y="1771560"/>
          <a:ext cx="833436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771560"/>
                    <a:ext cx="833436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1440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400800" y="1905120"/>
          <a:ext cx="2050920" cy="1371600"/>
        </p:xfrm>
        <a:graphic>
          <a:graphicData uri="http://schemas.openxmlformats.org/drawingml/2006/table">
            <a:tbl>
              <a:tblPr/>
              <a:tblGrid>
                <a:gridCol w="1025280"/>
                <a:gridCol w="1025640"/>
              </a:tblGrid>
              <a:tr h="4525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1,620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$232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回答人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5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請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0-10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逐一評價以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項因素對你決定捐助哪間慈善機構的重要性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581120"/>
          <a:ext cx="9001080" cy="47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1120"/>
                    <a:ext cx="90010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045440" y="5862600"/>
            <a:ext cx="13280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透明度高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19720" y="5867280"/>
            <a:ext cx="13280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機構信譽好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6880" y="5791320"/>
            <a:ext cx="1328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慈善項目有助解決社會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現時的急切需要</a:t>
            </a:r>
            <a:br>
              <a:rPr sz="1300"/>
            </a:br>
            <a:br>
              <a:rPr sz="8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91600" y="5791320"/>
            <a:ext cx="1328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捐款方法的</a:t>
            </a: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方便程度</a:t>
            </a:r>
            <a:br>
              <a:rPr sz="1300"/>
            </a:br>
            <a:br>
              <a:rPr sz="8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8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81280" y="5880240"/>
            <a:ext cx="13280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公眾人物或朋友的呼籲</a:t>
            </a:r>
            <a:br>
              <a:rPr sz="1300"/>
            </a:br>
            <a:br>
              <a:rPr sz="1300"/>
            </a:b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標準誤差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:0.09 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分</a:t>
            </a:r>
            <a:r>
              <a:rPr b="1" lang="zh-TW" sz="13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74160" y="16765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35-74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324080"/>
          <a:ext cx="900108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4080"/>
                    <a:ext cx="900108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135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. [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只問「有捐款者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]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下哪種情況會令你考慮再次捐錢給同一間慈善機構呢？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可答多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4920" y="16765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77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善款被妥善運用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受惠人的情況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56088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得悉慈善項目的工作進度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608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收到／遇上慈善機構再次呼籲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5638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更方便的捐款方法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608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沒有特別原因／只想繼續支持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5668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ccffff"/>
                </a:solidFill>
                <a:latin typeface="Times New Roman"/>
                <a:ea typeface="標楷體"/>
              </a:rPr>
              <a:t>其他</a:t>
            </a:r>
            <a:r>
              <a:rPr b="1" lang="zh-TW" sz="9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7-12-04T02:43:53Z</dcterms:modified>
  <cp:revision>1200</cp:revision>
  <dc:subject/>
  <dc:title>無投影片標題</dc:title>
</cp:coreProperties>
</file>