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E86-AF82-482E-A351-211106D2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7427-FDA5-4C43-9DAC-80AB664D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1AA4-3323-4C1A-A6BC-072B385A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ABF-FD5F-4F2A-A6A5-88B40A1A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5AE6-3221-4657-9EDC-F388F5BD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F9B-CA69-45F0-AE74-A96BE240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DEBA-D0B8-4085-A45B-31777E84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812-AD8F-45C5-83D2-C5D4427E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9385-285F-434E-9879-422FC705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E915-48E1-4364-B99B-2DF09199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69D1-5739-4347-AA1B-75411537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7608-0230-49F6-9D03-D1FF8E92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B2DB-2071-44A1-A2ED-9EAB12444AB1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1C2B-7068-4918-BE78-BFB2644F8084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295280" y="685800"/>
          <a:ext cx="1683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1683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脫髮與及早治療意見調查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4343400"/>
            <a:ext cx="78483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07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8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本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報告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內一切內容與香港大學立場無關，內容由民意研究計劃主任鍾庭耀博士負責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762120"/>
            <a:ext cx="70866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你現在有沒有脫髮的問題？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2120760"/>
          <a:ext cx="8721720" cy="389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20760"/>
                    <a:ext cx="8721720" cy="38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265880" y="556272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8C56-20B1-41DD-A8C5-15B9445764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915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同三年前比較，你的頭髮有沒有出現以下改變？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280" y="1562040"/>
          <a:ext cx="8788680" cy="430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62040"/>
                    <a:ext cx="878868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692000" y="1600200"/>
            <a:ext cx="23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5 (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可選多項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43000" y="5638680"/>
            <a:ext cx="7696080" cy="542160"/>
            <a:chOff x="1143000" y="5638680"/>
            <a:chExt cx="7696080" cy="542160"/>
          </a:xfrm>
        </p:grpSpPr>
        <p:sp>
          <p:nvSpPr>
            <p:cNvPr id="124" name=""/>
            <p:cNvSpPr/>
            <p:nvPr/>
          </p:nvSpPr>
          <p:spPr>
            <a:xfrm>
              <a:off x="1143000" y="5641560"/>
              <a:ext cx="106668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髮線位置</a:t>
              </a:r>
              <a:br>
                <a:rPr sz="1300"/>
              </a:b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後移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33720" y="5651280"/>
              <a:ext cx="91440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頭髮稀疏至可見頭皮／肉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0" y="5638680"/>
              <a:ext cx="9907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沒有改變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2400" y="5641560"/>
              <a:ext cx="106668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無留意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/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唔知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/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難講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67280" y="5638680"/>
              <a:ext cx="106704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其他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:</a:t>
              </a:r>
              <a:br>
                <a:rPr sz="1300"/>
              </a:b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白頭髮增加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52880" y="5638680"/>
              <a:ext cx="91440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頭頂髮旋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(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俗稱轉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)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變大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38480" y="5638680"/>
              <a:ext cx="9144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頭髮變幼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8120" y="5638680"/>
              <a:ext cx="10666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甩多左頭髮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2640-EE0B-4ED5-B622-75AF4E54639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當你的頭髮出現上述問題時，你會首先用什麼方法處理？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15238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523880"/>
          <a:ext cx="9207360" cy="408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207360" cy="40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80480" y="5943600"/>
            <a:ext cx="129024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20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只問頭髮出現改變者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914400" y="5334120"/>
            <a:ext cx="8153280" cy="529560"/>
            <a:chOff x="914400" y="5334120"/>
            <a:chExt cx="8153280" cy="529560"/>
          </a:xfrm>
        </p:grpSpPr>
        <p:sp>
          <p:nvSpPr>
            <p:cNvPr id="138" name=""/>
            <p:cNvSpPr/>
            <p:nvPr/>
          </p:nvSpPr>
          <p:spPr>
            <a:xfrm>
              <a:off x="914400" y="5334120"/>
              <a:ext cx="12952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轉換洗髮產品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57400" y="5334120"/>
              <a:ext cx="12193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改變生活習慣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00400" y="5334120"/>
              <a:ext cx="9144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改變髮型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01000" y="5334120"/>
              <a:ext cx="10666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唔知／難講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86600" y="5334120"/>
              <a:ext cx="91440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順其自然／不理會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19920" y="5334120"/>
              <a:ext cx="9144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其他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05520" y="5334120"/>
              <a:ext cx="9144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求醫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38480" y="5334120"/>
              <a:ext cx="12193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選用生髮產品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A248-AD8B-4D08-8B1F-79D76A4ECBF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你會等多久才採取行動？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0666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-685800" y="1371600"/>
          <a:ext cx="10210680" cy="49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5800" y="1371600"/>
                    <a:ext cx="102106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821520" y="6033960"/>
            <a:ext cx="16650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總基數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8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只問頭髮出現改變並會採取行動者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9760" y="259092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*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撇除「唔知／難講／唔記得」者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019920" y="1523880"/>
          <a:ext cx="2666520" cy="1051200"/>
        </p:xfrm>
        <a:graphic>
          <a:graphicData uri="http://schemas.openxmlformats.org/drawingml/2006/table">
            <a:tbl>
              <a:tblPr/>
              <a:tblGrid>
                <a:gridCol w="1515240"/>
                <a:gridCol w="1151280"/>
              </a:tblGrid>
              <a:tr h="3765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3.5</a:t>
                      </a: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月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0.9</a:t>
                      </a: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月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74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373-E757-472B-8CEB-2EEF2389B43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800100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假如你有需要選用生髮產品或療程，你會最主要考慮哪些因素？或者根據什麼準則去選擇？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2952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03040" y="1295280"/>
          <a:ext cx="8699760" cy="429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1295280"/>
                    <a:ext cx="869976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1692000" y="1447920"/>
            <a:ext cx="22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4 (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可選多項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838080" y="5334120"/>
            <a:ext cx="8001000" cy="605880"/>
            <a:chOff x="838080" y="5334120"/>
            <a:chExt cx="8001000" cy="605880"/>
          </a:xfrm>
        </p:grpSpPr>
        <p:sp>
          <p:nvSpPr>
            <p:cNvPr id="159" name=""/>
            <p:cNvSpPr/>
            <p:nvPr/>
          </p:nvSpPr>
          <p:spPr>
            <a:xfrm>
              <a:off x="838080" y="5334120"/>
              <a:ext cx="990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口碑：朋友／同事／其他人的推薦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76720" y="5410440"/>
              <a:ext cx="6858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價錢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38880" y="5410440"/>
              <a:ext cx="990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唔會使用生髮產品／療程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5410440"/>
              <a:ext cx="76176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唔知／</a:t>
              </a:r>
              <a:br>
                <a:rPr sz="1300"/>
              </a:b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難講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76520" y="5334120"/>
              <a:ext cx="99036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口碑：醫生／藥劑師／專業醫護人員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4600" y="5410440"/>
              <a:ext cx="8380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有醫學證明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05720" y="5410440"/>
              <a:ext cx="6858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其他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5410440"/>
              <a:ext cx="6858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品牌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34120" y="5410440"/>
              <a:ext cx="6858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成效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48320" y="5410440"/>
              <a:ext cx="6858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副作用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62520" y="5410440"/>
              <a:ext cx="6858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廣告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09200" y="6400800"/>
            <a:ext cx="197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* </a:t>
            </a:r>
            <a:r>
              <a:rPr b="0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因篇幅所限，只列出</a:t>
            </a:r>
            <a:r>
              <a:rPr b="0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3%</a:t>
            </a:r>
            <a:r>
              <a:rPr b="0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88C-BC39-415B-867D-84EC0908D0D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一般而論，當你選用一個生髮產品或療程，你預期什麼時候開始見效？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2952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" y="1676520"/>
          <a:ext cx="853452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7113600" y="160020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58D7-0745-4D9F-BE9A-C6B7C74AA59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915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如果你覺得所用的生髮產品或療程過了你預期的時間仍未見成效，你會：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14479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52280" y="1663560"/>
          <a:ext cx="8763120" cy="40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63560"/>
                    <a:ext cx="876312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7265880" y="175248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295280" y="5486400"/>
            <a:ext cx="7391520" cy="324360"/>
            <a:chOff x="1295280" y="5486400"/>
            <a:chExt cx="7391520" cy="324360"/>
          </a:xfrm>
        </p:grpSpPr>
        <p:sp>
          <p:nvSpPr>
            <p:cNvPr id="182" name=""/>
            <p:cNvSpPr/>
            <p:nvPr/>
          </p:nvSpPr>
          <p:spPr>
            <a:xfrm>
              <a:off x="1295280" y="5489280"/>
              <a:ext cx="7621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求醫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62320" y="5499000"/>
              <a:ext cx="9144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繼續使用並再觀察一段時間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20120" y="5489280"/>
              <a:ext cx="10666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唔知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/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難講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5486400"/>
              <a:ext cx="106704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其他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62720" y="5486400"/>
              <a:ext cx="9144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放棄治療脫髮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43400" y="5486400"/>
              <a:ext cx="12193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轉用其他產品／療程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52680" y="5486400"/>
              <a:ext cx="9907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立即停止使用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7FB-B1D8-4320-BE1B-E92F531FB8E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標楷體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121932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8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大部分有關男士都認為治療脫髮沒有迫切性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8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四分一的被訪者自稱出現脫髮問題，主要是髮線後移，其次是頭髮變得稀疏和增加脫落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8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超過半數自稱出現脫髮徵狀的被訪者謂會順其自然和不加理會。只有極少數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4%)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會首先選擇求醫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8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三成被訪者期望一個生髮產品或療程會於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3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個月內成效驟見。另共有兩成七預期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個月內，甚至一星期內見效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8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本調查所得數據和皮膚專科醫生的回應，或可對有關人士提供有用的知識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AD2-D9D0-4008-BF91-74322ABCDC3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  <a:ea typeface="標楷體"/>
              </a:rPr>
              <a:t>被訪者個人背景資料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0924-F77F-40F1-B81B-BF9DF2AD010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齡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55480" y="1447920"/>
          <a:ext cx="8033040" cy="448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1447920"/>
                    <a:ext cx="803304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762120" y="152388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3F4A-35B2-4658-A862-A1F17D0230E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ecff"/>
                </a:solidFill>
                <a:latin typeface="標楷體"/>
                <a:ea typeface="標楷體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標楷體"/>
                <a:ea typeface="標楷體"/>
              </a:rPr>
              <a:t>研究背景及調查方法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標楷體"/>
                <a:ea typeface="標楷體"/>
              </a:rPr>
              <a:t>調查結果：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標楷體"/>
                <a:ea typeface="標楷體"/>
              </a:rPr>
              <a:t>受訪者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對脫髮的認知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標楷體"/>
                <a:ea typeface="標楷體"/>
              </a:rPr>
              <a:t>他們脫髮的情況 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  <a:ea typeface="標楷體"/>
              </a:rPr>
              <a:t>他們處理脫髮問題的方法 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標楷體"/>
                <a:ea typeface="標楷體"/>
              </a:rPr>
              <a:t>簡單總結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E73-377C-4030-A587-22A97C90E34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教育程度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828800"/>
          <a:ext cx="8032680" cy="448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803268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838080" y="160020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D1BB-B53B-487F-A70C-2CC8E32F1EA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職業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91960" y="1905120"/>
          <a:ext cx="862344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1905120"/>
                    <a:ext cx="862344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838080" y="152388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CAB-5175-4B10-B77B-8173A89C4F9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每月個人收入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04920" y="1968480"/>
          <a:ext cx="867384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68480"/>
                    <a:ext cx="867384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838080" y="160020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4E3-458A-406F-82DE-346705F3FBD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cecff"/>
                </a:solidFill>
                <a:latin typeface="標楷體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標楷體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8C7-7852-4C42-9903-1AE883470D8E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ecff"/>
                </a:solidFill>
                <a:latin typeface="標楷體"/>
                <a:ea typeface="標楷體"/>
              </a:rPr>
              <a:t>研究背景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754380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110000"/>
              </a:lnSpc>
              <a:spcBef>
                <a:spcPts val="649"/>
              </a:spcBef>
              <a:spcAft>
                <a:spcPts val="1624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調查目的：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瞭解</a:t>
            </a:r>
            <a:r>
              <a:rPr b="1" lang="zh-TW" sz="2600" spc="-1" strike="noStrike">
                <a:solidFill>
                  <a:srgbClr val="ccecff"/>
                </a:solidFill>
                <a:latin typeface="新細明體"/>
                <a:ea typeface="標楷體"/>
              </a:rPr>
              <a:t>被訪者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對脫髮的認知</a:t>
            </a:r>
            <a:r>
              <a:rPr b="1" lang="zh-TW" sz="2600" spc="-1" strike="noStrike">
                <a:solidFill>
                  <a:srgbClr val="ccecff"/>
                </a:solidFill>
                <a:latin typeface="新細明體"/>
                <a:ea typeface="標楷體"/>
              </a:rPr>
              <a:t>、他們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脫髮的情況</a:t>
            </a:r>
            <a:r>
              <a:rPr b="1" lang="zh-TW" sz="2600" spc="-1" strike="noStrike">
                <a:solidFill>
                  <a:srgbClr val="ccecff"/>
                </a:solidFill>
                <a:latin typeface="新細明體"/>
                <a:ea typeface="標楷體"/>
              </a:rPr>
              <a:t>及其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處理脫髮問題的方法</a:t>
            </a: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 。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649"/>
              </a:spcBef>
              <a:spcAft>
                <a:spcPts val="1624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強生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(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香港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)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有限公司</a:t>
            </a: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後獨立設計，所有操作、數據收集及分析由民研計劃獨立進行，結果亦由民研計劃全面負責。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649"/>
              </a:spcBef>
              <a:spcAft>
                <a:spcPts val="1624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標楷體"/>
                <a:ea typeface="標楷體"/>
              </a:rPr>
              <a:t>調查方法和結果全面公開。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FBD4-2DC1-411A-9A21-F38E5A7D58B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ecff"/>
                </a:solidFill>
                <a:latin typeface="標楷體"/>
                <a:ea typeface="標楷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160020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03240" indent="-18032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訪問日期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：  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07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4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13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至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17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日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訪問對象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：  年齡介乎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25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至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49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歲，並操粵語的男士 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調查方法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：  由訪問員直接進行電話訪問，訪問員在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     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成功接觸目標住戶後，再從住戶內找出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                               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符合條件的人接受訪問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樣本數目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： 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505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個成功個案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有效回應比率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： 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77.8% </a:t>
            </a:r>
            <a:r>
              <a:rPr b="1" lang="zh-TW" sz="2200" spc="-1" strike="noStrike">
                <a:solidFill>
                  <a:srgbClr val="ccffff"/>
                </a:solidFill>
                <a:latin typeface="標楷體"/>
                <a:ea typeface="標楷體"/>
              </a:rPr>
              <a:t>(</a:t>
            </a:r>
            <a:r>
              <a:rPr b="1" lang="zh-TW" sz="2200" spc="-1" strike="noStrike">
                <a:solidFill>
                  <a:srgbClr val="ccffff"/>
                </a:solidFill>
                <a:latin typeface="標楷體"/>
                <a:ea typeface="標楷體"/>
              </a:rPr>
              <a:t>以符合資格的目標對象計算</a:t>
            </a:r>
            <a:r>
              <a:rPr b="1" lang="zh-TW" sz="2200" spc="-1" strike="noStrike">
                <a:solidFill>
                  <a:srgbClr val="ccffff"/>
                </a:solidFill>
                <a:latin typeface="標楷體"/>
                <a:ea typeface="標楷體"/>
              </a:rPr>
              <a:t>)</a:t>
            </a:r>
            <a:r>
              <a:rPr b="1" lang="zh-TW" sz="2600" spc="-1" strike="noStrike">
                <a:solidFill>
                  <a:srgbClr val="ffff99"/>
                </a:solidFill>
                <a:latin typeface="標楷體"/>
                <a:ea typeface="標楷體"/>
              </a:rPr>
              <a:t>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抽樣誤差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： 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少於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+/- 2.2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亦即在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95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下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                              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各個百分比的抽樣誤差為少於正負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4.4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                               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個百分比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295280"/>
            <a:ext cx="7848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A02-87C4-4AA0-A56C-03C4639097A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72520"/>
            <a:ext cx="8001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你認為脫髮最主要既原因是：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953560" cy="4762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12193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94480" y="152388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49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914400" y="5584680"/>
            <a:ext cx="8077320" cy="747360"/>
            <a:chOff x="914400" y="5584680"/>
            <a:chExt cx="8077320" cy="747360"/>
          </a:xfrm>
        </p:grpSpPr>
        <p:sp>
          <p:nvSpPr>
            <p:cNvPr id="64" name=""/>
            <p:cNvSpPr/>
            <p:nvPr/>
          </p:nvSpPr>
          <p:spPr>
            <a:xfrm>
              <a:off x="914400" y="5661000"/>
              <a:ext cx="9144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遺傳因素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19920" y="5661000"/>
              <a:ext cx="9144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電髮或染髮過度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81680" y="5661000"/>
              <a:ext cx="9144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過量使用定型啫喱、髮泥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96080" y="5661000"/>
              <a:ext cx="5335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其他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81880" y="5664240"/>
              <a:ext cx="60984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唔知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/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難講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57800" y="5661000"/>
              <a:ext cx="91440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使用不適合洗頭水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95680" y="5661000"/>
              <a:ext cx="9907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油性頭皮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33920" y="5661000"/>
              <a:ext cx="99036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營養不良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5661000"/>
              <a:ext cx="6094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年紀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62320" y="5584680"/>
              <a:ext cx="99036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生活習慣不當 （例如飲食及作息習慣） 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28800" y="5654520"/>
              <a:ext cx="6094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壓力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A79-2371-4322-BAB1-4675D768D8F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3152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你認為脫髮問題可否治療到？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5238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14400" y="1600200"/>
          <a:ext cx="7962840" cy="46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96284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7265880" y="556272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46C-1E03-41E8-BB21-9840FBE22CF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0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你認為治療脫髮是否有迫切性？請以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1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至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評價，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1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為完全沒有迫切性，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3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為一般／一半半，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代表非常有迫切性。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15238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6320" y="1143000"/>
          <a:ext cx="899136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43000"/>
                    <a:ext cx="8991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" name=""/>
          <p:cNvGrpSpPr/>
          <p:nvPr/>
        </p:nvGrpSpPr>
        <p:grpSpPr>
          <a:xfrm>
            <a:off x="1219320" y="5334120"/>
            <a:ext cx="7319520" cy="529560"/>
            <a:chOff x="1219320" y="5334120"/>
            <a:chExt cx="7319520" cy="529560"/>
          </a:xfrm>
        </p:grpSpPr>
        <p:sp>
          <p:nvSpPr>
            <p:cNvPr id="85" name=""/>
            <p:cNvSpPr/>
            <p:nvPr/>
          </p:nvSpPr>
          <p:spPr>
            <a:xfrm>
              <a:off x="1219320" y="5334120"/>
              <a:ext cx="96048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非常急切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(5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分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)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56000" y="5334120"/>
              <a:ext cx="8431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幾急切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(4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分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)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56440" y="5334120"/>
              <a:ext cx="12906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一般／一半半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(3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分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)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21640" y="5334120"/>
              <a:ext cx="96840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幾唔急切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(2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分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)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48520" y="5334120"/>
              <a:ext cx="103680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完全唔急切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(1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分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)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55400" y="5335920"/>
              <a:ext cx="88344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唔知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/  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難講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478560" y="19303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0" y="1722600"/>
          <a:ext cx="1905120" cy="1096920"/>
        </p:xfrm>
        <a:graphic>
          <a:graphicData uri="http://schemas.openxmlformats.org/drawingml/2006/table">
            <a:tbl>
              <a:tblPr/>
              <a:tblGrid>
                <a:gridCol w="1082880"/>
                <a:gridCol w="822240"/>
              </a:tblGrid>
              <a:tr h="3956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平均分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2.71</a:t>
                      </a: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0.05</a:t>
                      </a: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評分人數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ffff"/>
                          </a:solidFill>
                          <a:latin typeface="Times New Roman"/>
                          <a:ea typeface="標楷體"/>
                        </a:rPr>
                        <a:t>496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459000" y="609588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總基數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4174-A05F-47B6-8181-37959A95692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228240"/>
            <a:ext cx="81356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你認為以下哪些情況顯示一個人有脫髮問題呢？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371600"/>
          <a:ext cx="8991720" cy="491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99172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416640" y="1600200"/>
            <a:ext cx="22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5 (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可選多項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95400" y="5486400"/>
            <a:ext cx="7683480" cy="753480"/>
            <a:chOff x="995400" y="5486400"/>
            <a:chExt cx="7683480" cy="753480"/>
          </a:xfrm>
        </p:grpSpPr>
        <p:sp>
          <p:nvSpPr>
            <p:cNvPr id="100" name=""/>
            <p:cNvSpPr/>
            <p:nvPr/>
          </p:nvSpPr>
          <p:spPr>
            <a:xfrm>
              <a:off x="995400" y="5492520"/>
              <a:ext cx="909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頭髮稀疏至可見頭皮／肉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24440" y="5494320"/>
              <a:ext cx="57708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髮線位置</a:t>
              </a:r>
              <a:br>
                <a:rPr sz="1300"/>
              </a:b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後移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71800" y="5492520"/>
              <a:ext cx="9349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甩頭髮數量增加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5492520"/>
              <a:ext cx="101592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頭頂髮旋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(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俗稱轉</a:t>
              </a: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)</a:t>
              </a:r>
              <a:br>
                <a:rPr sz="1300"/>
              </a:b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變大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72040" y="5486400"/>
              <a:ext cx="6760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頭髮變幼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51360" y="5492520"/>
              <a:ext cx="10159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家族中有人有脫髮問題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15240" y="5492520"/>
              <a:ext cx="6760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以上皆否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903800" y="5492520"/>
              <a:ext cx="7750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ccecff"/>
                  </a:solidFill>
                  <a:latin typeface="Times New Roman"/>
                  <a:ea typeface="標楷體"/>
                </a:rPr>
                <a:t>唔知／難講 </a:t>
              </a:r>
              <a:endParaRPr b="0" lang="en-US" sz="13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0E35-65BD-4C0D-88EE-10381150A7E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  <a:ea typeface="標楷體"/>
              </a:rPr>
              <a:t>你會否留意著自己每日脫髮的數量是否有顯著改變？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447920" y="2235240"/>
          <a:ext cx="6602400" cy="37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35240"/>
                    <a:ext cx="660240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7342200" y="556272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A88-A3E3-4E4E-A5C2-DCC68A5C107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Alex Lin</cp:lastModifiedBy>
  <cp:lastPrinted>2001-04-04T10:00:24Z</cp:lastPrinted>
  <dcterms:modified xsi:type="dcterms:W3CDTF">2007-05-10T03:40:43Z</dcterms:modified>
  <cp:revision>1201</cp:revision>
  <dc:subject/>
  <dc:title>無投影片標題</dc:title>
</cp:coreProperties>
</file>