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EE5-565C-4741-A493-10DA6202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724-2CFD-4F4E-9993-ED864F64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57F-E240-499E-B339-9B2EECF5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43F-23AD-423F-966D-26195D2B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DC6-A2F5-4F32-99C6-504E2558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59E-54BE-41CD-B7DF-7AC9E522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CE8-1BC3-42A8-8CD5-6BBE1BC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16A-1C15-4018-A36F-38604259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648-A2D1-4A56-8291-39BEC8A9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C25-11BC-4787-A243-B689034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BF0-C991-4E6F-891A-4CE4C69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D43-B87D-448E-BDC5-804DAD7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MingLiU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2A37-1906-4543-BA56-1308CC9FF2B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cc00"/>
                </a:solidFill>
                <a:latin typeface="PMingLiU"/>
              </a:rPr>
              <a:t>脫髮</a:t>
            </a:r>
            <a:br>
              <a:rPr sz="4000"/>
            </a:br>
            <a:r>
              <a:rPr b="1" lang="ja-JP" sz="4400" spc="-1" strike="noStrike">
                <a:solidFill>
                  <a:srgbClr val="ff9900"/>
                </a:solidFill>
                <a:latin typeface="PMingLiU"/>
              </a:rPr>
              <a:t>成因及治療方法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PMingLiU"/>
              </a:rPr>
              <a:t>皮膚科專科何天儀醫生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2005</a:t>
            </a:r>
            <a:r>
              <a:rPr b="0" lang="ja-JP" sz="3200" spc="-1" strike="noStrike">
                <a:solidFill>
                  <a:srgbClr val="ffffff"/>
                </a:solidFill>
                <a:latin typeface="PMingLiU"/>
              </a:rPr>
              <a:t>年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7</a:t>
            </a:r>
            <a:r>
              <a:rPr b="0" lang="ja-JP" sz="3200" spc="-1" strike="noStrike">
                <a:solidFill>
                  <a:srgbClr val="ffffff"/>
                </a:solidFill>
                <a:latin typeface="PMingLiU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0</a:t>
            </a:r>
            <a:r>
              <a:rPr b="0" lang="ja-JP" sz="3200" spc="-1" strike="noStrike">
                <a:solidFill>
                  <a:srgbClr val="ffffff"/>
                </a:solidFill>
                <a:latin typeface="PMingLiU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42560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E90-B14D-4CDD-A53D-9FE506EBC4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5F807-D61A-4436-8537-976A056E904F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58840"/>
            <a:ext cx="8763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cc00"/>
                </a:solidFill>
                <a:latin typeface="PMingLiU"/>
              </a:rPr>
              <a:t>調查顯示超過四成</a:t>
            </a:r>
            <a:r>
              <a:rPr b="1" lang="zh-TW" sz="3800" spc="-1" strike="noStrike">
                <a:solidFill>
                  <a:srgbClr val="ffcc00"/>
                </a:solidFill>
                <a:latin typeface="PMingLiU"/>
              </a:rPr>
              <a:t>僱主表示</a:t>
            </a:r>
            <a:r>
              <a:rPr b="1" lang="zh-CN" sz="3800" spc="-1" strike="noStrike">
                <a:solidFill>
                  <a:srgbClr val="ffcc00"/>
                </a:solidFill>
                <a:latin typeface="PMingLiU"/>
              </a:rPr>
              <a:t>脫髮問題會影響求職者獲聘前線客戶服務工作機會</a:t>
            </a:r>
            <a:endParaRPr b="1" lang="en-US" sz="38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71480" y="2527200"/>
          <a:ext cx="738684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527200"/>
                    <a:ext cx="73868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74560" y="1636560"/>
            <a:ext cx="81694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PMingLiU"/>
                <a:ea typeface="PMingLiU"/>
              </a:rPr>
              <a:t>問：如果有兩位求職者同時應徵一份前線客戶服務工作，兩位的學歷、年資和能力都不相伯仲，其中一位有脫髮問題，而另外一位沒有，你認為一般僱主最後會僱用哪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25640" y="655164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有效樣本：</a:t>
            </a:r>
            <a:r>
              <a:rPr b="0" lang="en-US" sz="1400" spc="-1" strike="noStrike">
                <a:solidFill>
                  <a:srgbClr val="ffffff"/>
                </a:solidFill>
                <a:latin typeface="PMingLiU"/>
                <a:ea typeface="PMingLiU"/>
              </a:rPr>
              <a:t>113</a:t>
            </a: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頭髮的生長週期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有關脫髮／頭髮稀薄的對與錯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經常洗頭會導致脫髮？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洗頭跟大量脫髮是完全沒有</a:t>
            </a:r>
            <a:r>
              <a:rPr b="0" lang="ja-JP" sz="1800" spc="-1" strike="noStrike">
                <a:solidFill>
                  <a:srgbClr val="ffffff"/>
                </a:solidFill>
                <a:latin typeface="PMingLiU"/>
              </a:rPr>
              <a:t>關係</a:t>
            </a: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的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只有五十歲以上的女性才會頭髮稀薄？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少女及四十歲前的年輕女性均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有機會出現</a:t>
            </a: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頭髮稀薄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女性頭髮稀薄的發病率很低！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頭髮稀薄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問題影響超過三分之一</a:t>
            </a:r>
            <a:r>
              <a:rPr b="0" lang="en-US" sz="1800" spc="-1" strike="noStrike">
                <a:solidFill>
                  <a:srgbClr val="ffffff"/>
                </a:solidFill>
                <a:latin typeface="PMingLiU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至</a:t>
            </a:r>
            <a:r>
              <a:rPr b="0" lang="en-US" sz="1800" spc="-1" strike="noStrike">
                <a:solidFill>
                  <a:srgbClr val="ffffff"/>
                </a:solidFill>
                <a:latin typeface="PMingLiU"/>
              </a:rPr>
              <a:t>6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歲女性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女性頭髮稀薄由母系遺傳？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女性頭髮稀薄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是</a:t>
            </a: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由多元基因形成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</a:rPr>
              <a:t>患者不能使用噴髮膠，不能染髮，不適宜洗頭！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PMingLiU"/>
              </a:rPr>
              <a:t>患者使用噴髮膠，可染髮，可照常洗頭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77960" y="1679400"/>
          <a:ext cx="7908840" cy="445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679400"/>
                    <a:ext cx="7908840" cy="44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62120" y="1219320"/>
            <a:ext cx="785628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PMingLiU"/>
                <a:ea typeface="PMingLiU"/>
              </a:rPr>
              <a:t>問：假如你聽日要見一份好重要嘅工，你會做啲乜嘢處理脫髮或者頭髮稀疏嘅問題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67480" y="63658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有效樣本：</a:t>
            </a:r>
            <a:r>
              <a:rPr b="0" lang="en-US" sz="1400" spc="-1" strike="noStrike">
                <a:solidFill>
                  <a:srgbClr val="ffffff"/>
                </a:solidFill>
                <a:latin typeface="PMingLiU"/>
                <a:ea typeface="PMingLiU"/>
              </a:rPr>
              <a:t>104</a:t>
            </a: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男，</a:t>
            </a:r>
            <a:r>
              <a:rPr b="0" lang="en-US" sz="1400" spc="-1" strike="noStrike">
                <a:solidFill>
                  <a:srgbClr val="ffffff"/>
                </a:solidFill>
                <a:latin typeface="PMingLiU"/>
                <a:ea typeface="PMingLiU"/>
              </a:rPr>
              <a:t>42</a:t>
            </a:r>
            <a:r>
              <a:rPr b="0" lang="zh-CN" sz="1400" spc="-1" strike="noStrike">
                <a:solidFill>
                  <a:srgbClr val="ffffff"/>
                </a:solidFill>
                <a:latin typeface="PMingLiU"/>
                <a:ea typeface="PMingLiU"/>
              </a:rPr>
              <a:t>女（有脫髮問題人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6172200"/>
          <a:ext cx="928800" cy="638280"/>
        </p:xfrm>
        <a:graphic>
          <a:graphicData uri="http://schemas.openxmlformats.org/drawingml/2006/table">
            <a:tbl>
              <a:tblPr/>
              <a:tblGrid>
                <a:gridCol w="276120"/>
                <a:gridCol w="6526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99"/>
                        </a:gs>
                        <a:gs pos="50000">
                          <a:srgbClr val="ffffff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PMingLiU"/>
                          <a:ea typeface="PMingLiU"/>
                        </a:rPr>
                        <a:t>男性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PMingLiU"/>
                          <a:ea typeface="PMingLiU"/>
                        </a:rPr>
                        <a:t>女性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cc00"/>
                </a:solidFill>
                <a:latin typeface="PMingLiU"/>
              </a:rPr>
              <a:t>調查所顯示有脫髮問題的求職者於面試前的處理辦法</a:t>
            </a:r>
            <a:endParaRPr b="1" lang="en-US" sz="3800" spc="-1" strike="noStrike">
              <a:solidFill>
                <a:srgbClr val="ffcc00"/>
              </a:solidFill>
              <a:latin typeface="PMingLiU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治療的事實與謬誤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PMingLiU"/>
              </a:rPr>
              <a:t>手術</a:t>
            </a: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– </a:t>
            </a:r>
            <a:r>
              <a:rPr b="1" lang="zh-CN" sz="3200" spc="-1" strike="noStrike">
                <a:solidFill>
                  <a:srgbClr val="ffffff"/>
                </a:solidFill>
                <a:latin typeface="PMingLiU"/>
              </a:rPr>
              <a:t>拉頭皮手術 </a:t>
            </a: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Scalp reduction)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、植髮 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非常有效，但是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留有疤痕及手術風險，如傷口感染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仍需接受治療減少進一步脫髮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治療的事實與謬誤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中藥療法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中藥以保健爲原則，其治療脫髮之成效未獲得醫學證明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自然療法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自然療法産品所採用的成份，或對頭髮健康有輔助作用；但其治療脫髮之成效並未獲得醫學證明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治療的事實與謬誤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坊間秘方如塗白蘭地、以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生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薑磨擦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和號稱特效洗髮水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沒有科學根據，沒有成效，同時會延誤頭髮重生的機會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護髮中心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護髮中心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聲稱由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髮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理學家主理，然而醫學界及學術界均沒有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髮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理學家此一資歷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各種治療遺傳性脫髮的方案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600200"/>
          <a:ext cx="8382240" cy="4154400"/>
        </p:xfrm>
        <a:graphic>
          <a:graphicData uri="http://schemas.openxmlformats.org/drawingml/2006/table">
            <a:tbl>
              <a:tblPr/>
              <a:tblGrid>
                <a:gridCol w="2691000"/>
                <a:gridCol w="1154160"/>
                <a:gridCol w="1154160"/>
                <a:gridCol w="1384200"/>
                <a:gridCol w="922320"/>
                <a:gridCol w="1076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獲醫學實驗證明及認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抑制雄激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D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不會引起任何性功能障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適合男性使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適合女性使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西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Minoxid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Finaster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中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維生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含首烏成份的中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自然療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Zinc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棕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綠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維他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B6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芝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坊間秘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塗白蘭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以生薑在頭皮上磨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特效洗髮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手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植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目前只有</a:t>
            </a: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兩種獲醫學證明及認可的生髮藥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物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Minoxidil 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品牌名稱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: Regaine)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經美國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FDA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和香港衛生署認可的治療脫髮藥物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唯一一種經美國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FDA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和香港衛生署認可治療女性脫髮的藥物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形式：生髮水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分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2% 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兩種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Finasteride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經美國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FDA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和香港衛生署認可的治療脫髮藥物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形式：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口服藥物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只適用於男性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cc00"/>
                </a:solidFill>
                <a:latin typeface="PMingLiU"/>
              </a:rPr>
              <a:t>兩種獲醫學證明及認可的生髮藥</a:t>
            </a:r>
            <a:r>
              <a:rPr b="1" lang="zh-CN" sz="3800" spc="-1" strike="noStrike">
                <a:solidFill>
                  <a:srgbClr val="ffcc00"/>
                </a:solidFill>
                <a:latin typeface="PMingLiU"/>
              </a:rPr>
              <a:t>物</a:t>
            </a:r>
            <a:endParaRPr b="1" lang="en-US" sz="38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349280"/>
                <a:gridCol w="3382920"/>
                <a:gridCol w="3497400"/>
              </a:tblGrid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含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%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之生髮水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外用藥物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Finasteri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口服藥物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藥理作用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針對毛囊健康，令鉀管道開放，加速毛囊新陳代謝週期，令萎縮的毛囊重新擴大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將靜止期的頭髮轉回新生期，刺激頭髮再生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適用於男女及年長人士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唯一一種經美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FDA</a:t>
                      </a: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認可的治療女性脫髮藥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降低酵素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-Reductase</a:t>
                      </a: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的活躍程度，從而減低雄激素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DHT</a:t>
                      </a: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水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lnSpc>
                          <a:spcPct val="100000"/>
                        </a:lnSpc>
                        <a:spcBef>
                          <a:spcPts val="524"/>
                        </a:spcBef>
                        <a:buSzPct val="102757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1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只適用於男性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普遍嗎？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問題影響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50%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五十歲以下人士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男性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大多於青春期至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歲開始發生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女性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大多於青春期至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多歲開始發生，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多歲是另一發病高峰年齡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男、女性的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普遍程度相約，但形態和進程不同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香港約有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30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萬男士出現脫髮現象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而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四分一的女性均面對頭髮稀薄的問題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00"/>
                </a:solidFill>
                <a:latin typeface="PMingLiU"/>
              </a:rPr>
              <a:t>兩種獲醫學證明及認可的生髮藥</a:t>
            </a:r>
            <a:r>
              <a:rPr b="1" lang="zh-CN" sz="4000" spc="-1" strike="noStrike">
                <a:solidFill>
                  <a:srgbClr val="ffcc00"/>
                </a:solidFill>
                <a:latin typeface="PMingLiU"/>
              </a:rPr>
              <a:t>物</a:t>
            </a:r>
            <a:endParaRPr b="1" lang="en-US" sz="40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957920"/>
        </p:xfrm>
        <a:graphic>
          <a:graphicData uri="http://schemas.openxmlformats.org/drawingml/2006/table">
            <a:tbl>
              <a:tblPr/>
              <a:tblGrid>
                <a:gridCol w="1149480"/>
                <a:gridCol w="1660320"/>
                <a:gridCol w="2901960"/>
                <a:gridCol w="2517840"/>
              </a:tblGrid>
              <a:tr h="1022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含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%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 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之生髮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外用藥物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Finasterid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口服藥物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效力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頭髮生長數目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使用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2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個月後，於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吋直徑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的圓形範圍內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多長出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95 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頭髮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使用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2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個月後，於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吋直徑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的圓形範圍內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多長出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87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頭髮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頭髮再生所需之最早時間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8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星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2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星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1291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全程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不良藥物反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SzPct val="102985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極少數使用者出現皮膚敏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SzPct val="10298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絕不影響男性荷爾蒙的分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.8%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使用者出現性功能障礙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慰劑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.1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10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全措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SzPct val="10298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只適用於安全的頭皮上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SzPct val="102985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若頭皮出現敏感症狀，停止使用即可使症狀消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9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已懷孕及準備懷孕之女性不能接觸此藥物或藥物之碎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PMingLiU"/>
              </a:rPr>
              <a:t>男性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en-US" sz="4400" spc="-1" strike="noStrike">
                <a:solidFill>
                  <a:srgbClr val="ffcc00"/>
                </a:solidFill>
                <a:latin typeface="PMingLiU"/>
              </a:rPr>
              <a:t>(Alopecia)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治療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600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(Minoxidil) 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%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有效性和安全性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09" name=""/>
          <p:cNvSpPr/>
          <p:nvPr/>
        </p:nvSpPr>
        <p:spPr>
          <a:xfrm>
            <a:off x="663480" y="5559480"/>
            <a:ext cx="794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MingLiU"/>
                <a:ea typeface="PMingLiU"/>
              </a:rPr>
              <a:t>Reference: Olsen EA, Dunlap FE, Funicella T, Koperski JA, Swinehart JM, Tschen EH, et al.  A randomized clinical trial of 5% topical minoxidil versus 2% topical minoxidil and placebo in the treatment of androgenetic alopecia in men. J Am Acad Dermatol 2002;47:377-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研究目的和研究設計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目的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評估有效性和安全性：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2000" spc="-1" strike="noStrike">
                <a:solidFill>
                  <a:srgbClr val="ffffff"/>
                </a:solidFill>
                <a:latin typeface="PMingLiU"/>
              </a:rPr>
              <a:t>(Minoxidil) 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MingLiU"/>
              </a:rPr>
              <a:t>2%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2000" spc="-1" strike="noStrike">
                <a:solidFill>
                  <a:srgbClr val="ffffff"/>
                </a:solidFill>
                <a:latin typeface="PMingLiU"/>
              </a:rPr>
              <a:t>(Minoxidil) 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PMingLiU"/>
              </a:rPr>
              <a:t>安慰劑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12" name=""/>
          <p:cNvSpPr/>
          <p:nvPr/>
        </p:nvSpPr>
        <p:spPr>
          <a:xfrm>
            <a:off x="4562640" y="1628640"/>
            <a:ext cx="397008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  <a:ea typeface="PMingLiU"/>
              </a:rPr>
              <a:t>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隨機、雙盲、安慰劑控制組別，及多個臨床研究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393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名患有“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  <a:ea typeface="PMingLiU"/>
              </a:rPr>
              <a:t>雄激素禿頭症”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Androgenetic Alopecia)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的男性成功完成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每天使用兩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研究爲期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48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星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7720" y="23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頭髮數量數據</a:t>
            </a:r>
            <a:endParaRPr b="1" lang="en-US" sz="36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563480"/>
            <a:ext cx="76467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比較非絨毛頭髮數量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nonvellus hair)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的平均變化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（每平方釐米非絨毛頭髮數量）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2666880"/>
          <a:ext cx="7924680" cy="36576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17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星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13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14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慰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vehic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7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9.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4.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4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5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9.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5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18.6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12.7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3.9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頭髮數量</a:t>
            </a:r>
            <a:br>
              <a:rPr sz="3600"/>
            </a:br>
            <a:r>
              <a:rPr b="0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5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成效較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好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,</a:t>
            </a:r>
            <a:br>
              <a:rPr sz="2800"/>
            </a:b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而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較安慰劑好</a:t>
            </a:r>
            <a:endParaRPr b="1" lang="en-US" sz="28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30200" y="2503440"/>
            <a:ext cx="71294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Arial Unicode MS"/>
              </a:rPr>
              <a:t>米諾地爾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2%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均顯示能增加頭髮生長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頭髮早於第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星期再次生長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在第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48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星期，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5%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(Minoxidil)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令頭髮再次生長的成效高於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2%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(Minoxidil)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達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45% </a:t>
            </a:r>
            <a:r>
              <a:rPr b="0" lang="en-US" sz="1800" spc="-1" strike="noStrike">
                <a:solidFill>
                  <a:srgbClr val="ffffff"/>
                </a:solidFill>
                <a:latin typeface="PMingLiU"/>
              </a:rPr>
              <a:t>(P=0.0254)</a:t>
            </a:r>
            <a:endParaRPr b="0" lang="en-US" sz="1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在第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48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星期，令頭髮再次生長的成效是安慰劑的近五倍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p=0.0001)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PMingLiU"/>
              </a:rPr>
              <a:t>臨床研究證明安全</a:t>
            </a:r>
            <a:endParaRPr b="1" lang="en-US" sz="40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30200" y="2503440"/>
            <a:ext cx="71294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沒有任何嚴重臨床副作用如對血壓、脈搏、體重、心電圖，或實驗室檢測的影響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沒有影響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PMingLiU"/>
              </a:rPr>
              <a:t>性功能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沒有導致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PMingLiU"/>
              </a:rPr>
              <a:t>性慾下降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PMingLiU"/>
              </a:rPr>
              <a:t>女性</a:t>
            </a:r>
            <a:r>
              <a:rPr b="1" lang="zh-CN" sz="40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en-US" sz="4000" spc="-1" strike="noStrike">
                <a:solidFill>
                  <a:srgbClr val="ffcc00"/>
                </a:solidFill>
                <a:latin typeface="PMingLiU"/>
              </a:rPr>
              <a:t>(Female Pattern Hairloss)</a:t>
            </a:r>
            <a:r>
              <a:rPr b="1" lang="zh-CN" sz="4000" spc="-1" strike="noStrike">
                <a:solidFill>
                  <a:srgbClr val="ffcc00"/>
                </a:solidFill>
                <a:latin typeface="PMingLiU"/>
              </a:rPr>
              <a:t>治療</a:t>
            </a:r>
            <a:endParaRPr b="1" lang="en-US" sz="40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600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(Minoxidil) 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%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有效性和安全性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22" name=""/>
          <p:cNvSpPr/>
          <p:nvPr/>
        </p:nvSpPr>
        <p:spPr>
          <a:xfrm>
            <a:off x="663480" y="5514840"/>
            <a:ext cx="794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MingLiU"/>
                <a:ea typeface="PMingLiU"/>
              </a:rPr>
              <a:t>Reference: Lucky AW, Piancquadio DJ, Ditre CM, Dunlap F, Kantor I, Pandya AG, et al. A randomized, placebo-controlled trial of 5% and 2% topical minoxidil solutions in the treatment of female pattern hair loss. J Am Acad Dermatol 2004;50:541-5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研究目的和研究設計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目的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評估</a:t>
            </a:r>
            <a:r>
              <a:rPr b="1" lang="zh-TW" sz="24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有效性和安全性， 比較：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MingLiU"/>
              </a:rPr>
              <a:t>5%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2000" spc="-1" strike="noStrike">
                <a:solidFill>
                  <a:srgbClr val="ffffff"/>
                </a:solidFill>
                <a:latin typeface="PMingLiU"/>
              </a:rPr>
              <a:t>(Minoxidil) 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MingLiU"/>
              </a:rPr>
              <a:t>2% </a:t>
            </a:r>
            <a:r>
              <a:rPr b="1" lang="zh-TW" sz="2000" spc="-1" strike="noStrike">
                <a:solidFill>
                  <a:srgbClr val="ffffff"/>
                </a:solidFill>
                <a:latin typeface="PMingLiU"/>
              </a:rPr>
              <a:t>米諾地爾 </a:t>
            </a:r>
            <a:r>
              <a:rPr b="1" lang="en-US" sz="2000" spc="-1" strike="noStrike">
                <a:solidFill>
                  <a:srgbClr val="ffffff"/>
                </a:solidFill>
                <a:latin typeface="PMingLiU"/>
              </a:rPr>
              <a:t>(Minoxidil) 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PMingLiU"/>
              </a:rPr>
              <a:t>安慰劑</a:t>
            </a:r>
            <a:endParaRPr b="0" lang="en-US" sz="2000" spc="-1" strike="noStrike">
              <a:solidFill>
                <a:srgbClr val="ffffff"/>
              </a:solidFill>
              <a:latin typeface="PMingLiU"/>
            </a:endParaRPr>
          </a:p>
        </p:txBody>
      </p:sp>
      <p:sp>
        <p:nvSpPr>
          <p:cNvPr id="125" name=""/>
          <p:cNvSpPr/>
          <p:nvPr/>
        </p:nvSpPr>
        <p:spPr>
          <a:xfrm>
            <a:off x="4562640" y="1628640"/>
            <a:ext cx="4276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  <a:ea typeface="PMingLiU"/>
              </a:rPr>
              <a:t>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隨機、雙盲、安慰劑控制組別，及多個臨床研究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381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名患有“女性脫髮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(Female Pattern Hairloss)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的女性成功完成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每天使用兩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研究爲期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48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星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頭髮數量數據</a:t>
            </a:r>
            <a:endParaRPr b="1" lang="en-US" sz="36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比較非絨毛頭髮數量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nonvellus hair)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的平均變化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（每平方釐米非絨毛頭髮數量）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480" y="2666880"/>
          <a:ext cx="8077320" cy="36576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  <a:gridCol w="2019240"/>
                <a:gridCol w="2019240"/>
              </a:tblGrid>
              <a:tr h="15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星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1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米諾地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Minoxid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1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安慰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vehic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(n=7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2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1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2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2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99"/>
                          </a:solidFill>
                          <a:latin typeface="PMingLiU"/>
                          <a:ea typeface="PMingLiU"/>
                        </a:rPr>
                        <a:t>9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頭髮數量結果</a:t>
            </a:r>
            <a:br>
              <a:rPr sz="3600"/>
            </a:br>
            <a:r>
              <a:rPr b="0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5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成效較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好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,</a:t>
            </a:r>
            <a:br>
              <a:rPr sz="2800"/>
            </a:b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而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較安慰劑好</a:t>
            </a:r>
            <a:endParaRPr b="1" lang="en-US" sz="28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2503440"/>
            <a:ext cx="74689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於三項量度成效的標準上（包括頭髮數量、患者評估和研究人員評估），</a:t>
            </a:r>
            <a:r>
              <a:rPr b="1" lang="zh-TW" sz="3200" spc="-1" strike="noStrike">
                <a:solidFill>
                  <a:srgbClr val="ffffff"/>
                </a:solidFill>
                <a:latin typeface="PMingLiU"/>
                <a:ea typeface="Arial Unicode MS"/>
              </a:rPr>
              <a:t>米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  <a:ea typeface="Arial Unicode MS"/>
              </a:rPr>
              <a:t>諾地爾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5%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2%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的表現均比安慰劑優勝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於第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48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星期，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5%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Minoxidil)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比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2%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優勝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香港</a:t>
            </a:r>
            <a:r>
              <a:rPr b="1" lang="en-US" sz="4400" spc="-1" strike="noStrike">
                <a:solidFill>
                  <a:srgbClr val="ffcc00"/>
                </a:solidFill>
                <a:latin typeface="PMingLiU"/>
              </a:rPr>
              <a:t>25-54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歲男性</a:t>
            </a: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</a:t>
            </a: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髮情况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1600200"/>
          <a:ext cx="775512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75512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295280" y="6172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資訊來源</a:t>
            </a:r>
            <a:r>
              <a:rPr b="1" lang="zh-TW" sz="2400" spc="-1" strike="noStrike">
                <a:solidFill>
                  <a:srgbClr val="ffffff"/>
                </a:solidFill>
                <a:latin typeface="PMingLiU"/>
                <a:ea typeface="PMingLiU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1999</a:t>
            </a: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月香港大學社會科學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55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30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6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2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4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0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PMingLiU"/>
              </a:rPr>
              <a:t>臨床成效：改善女性患者對脫髮的心理觀感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5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成效較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好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,</a:t>
            </a:r>
            <a:br>
              <a:rPr sz="2800"/>
            </a:b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而</a:t>
            </a:r>
            <a:r>
              <a:rPr b="1" lang="zh-TW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米諾地爾</a:t>
            </a:r>
            <a:r>
              <a:rPr b="1" lang="en-US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(Minoxidil) 2%</a:t>
            </a:r>
            <a:r>
              <a:rPr b="1" lang="zh-CN" sz="2800" spc="-1" strike="noStrike">
                <a:solidFill>
                  <a:srgbClr val="ffcc00"/>
                </a:solidFill>
                <a:latin typeface="PMingLiU"/>
                <a:ea typeface="Arial Unicode MS"/>
              </a:rPr>
              <a:t>較安慰劑好</a:t>
            </a:r>
            <a:endParaRPr b="1" lang="en-US" sz="28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503440"/>
            <a:ext cx="74689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減少脫髮對生活的影響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減少脫髮對社交的影響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減少脫髮對工作的影響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增加自信心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感到能掌握脫髮問題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更易梳理髮型</a:t>
            </a:r>
            <a:endParaRPr b="0" lang="en-US" sz="24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臨床研究證明安全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30200" y="2707920"/>
            <a:ext cx="7129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empus Sans ITC"/>
              </a:rPr>
              <a:t>兩種濃度的外用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米諾地爾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(Minoxidil)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於女性患者上均耐受性極高，沒有證據顯示導致系統性副作用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PMingLiU"/>
              </a:rPr>
              <a:t>總結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7129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脫髮是可以治療的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目前已有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獲醫學證明的生髮藥</a:t>
            </a: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物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脫髮患者應及早接受治療，以免延誤病情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cc00"/>
                </a:solidFill>
                <a:latin typeface="PMingLiU"/>
              </a:rPr>
              <a:t>香港</a:t>
            </a:r>
            <a:r>
              <a:rPr b="1" lang="en-US" sz="4600" spc="-1" strike="noStrike">
                <a:solidFill>
                  <a:srgbClr val="ffcc00"/>
                </a:solidFill>
                <a:latin typeface="PMingLiU"/>
              </a:rPr>
              <a:t>20</a:t>
            </a:r>
            <a:r>
              <a:rPr b="1" lang="zh-CN" sz="4600" spc="-1" strike="noStrike">
                <a:solidFill>
                  <a:srgbClr val="ffcc00"/>
                </a:solidFill>
                <a:latin typeface="PMingLiU"/>
              </a:rPr>
              <a:t>至</a:t>
            </a:r>
            <a:r>
              <a:rPr b="1" lang="en-US" sz="4600" spc="-1" strike="noStrike">
                <a:solidFill>
                  <a:srgbClr val="ffcc00"/>
                </a:solidFill>
                <a:latin typeface="PMingLiU"/>
              </a:rPr>
              <a:t>60</a:t>
            </a:r>
            <a:r>
              <a:rPr b="1" lang="zh-CN" sz="4600" spc="-1" strike="noStrike">
                <a:solidFill>
                  <a:srgbClr val="ffcc00"/>
                </a:solidFill>
                <a:latin typeface="PMingLiU"/>
              </a:rPr>
              <a:t>歲女性</a:t>
            </a:r>
            <a:r>
              <a:rPr b="1" lang="zh-TW" sz="4600" spc="-1" strike="noStrike">
                <a:solidFill>
                  <a:srgbClr val="ffcc00"/>
                </a:solidFill>
                <a:latin typeface="PMingLiU"/>
              </a:rPr>
              <a:t>脫</a:t>
            </a:r>
            <a:r>
              <a:rPr b="1" lang="zh-CN" sz="4600" spc="-1" strike="noStrike">
                <a:solidFill>
                  <a:srgbClr val="ffcc00"/>
                </a:solidFill>
                <a:latin typeface="PMingLiU"/>
              </a:rPr>
              <a:t>髮情况</a:t>
            </a:r>
            <a:endParaRPr b="1" lang="en-US" sz="4600" spc="-1" strike="noStrike">
              <a:solidFill>
                <a:srgbClr val="ffcc00"/>
              </a:solidFill>
              <a:latin typeface="PMingLiU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816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295280" y="6172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資訊來源</a:t>
            </a:r>
            <a:r>
              <a:rPr b="1" lang="zh-TW" sz="2400" spc="-1" strike="noStrike">
                <a:solidFill>
                  <a:srgbClr val="ffffff"/>
                </a:solidFill>
                <a:latin typeface="PMingLiU"/>
                <a:ea typeface="PMingLiU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1997</a:t>
            </a: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Edelman</a:t>
            </a:r>
            <a:r>
              <a:rPr b="1" lang="zh-CN" sz="2400" spc="-1" strike="noStrike">
                <a:solidFill>
                  <a:srgbClr val="ffffff"/>
                </a:solidFill>
                <a:latin typeface="PMingLiU"/>
                <a:ea typeface="PMingLiU"/>
              </a:rPr>
              <a:t>調查資料</a:t>
            </a:r>
            <a:r>
              <a:rPr b="1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34.4%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2632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65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04080" y="1752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沒有</a:t>
            </a:r>
            <a:r>
              <a:rPr b="1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脫</a:t>
            </a:r>
            <a:r>
              <a:rPr b="1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髮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43120" y="2441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有輕微</a:t>
            </a:r>
            <a:r>
              <a:rPr b="1" lang="zh-TW" sz="2000" spc="-1" strike="noStrike">
                <a:solidFill>
                  <a:srgbClr val="000000"/>
                </a:solidFill>
                <a:latin typeface="PMingLiU"/>
                <a:ea typeface="PMingLiU"/>
              </a:rPr>
              <a:t>脫</a:t>
            </a:r>
            <a:r>
              <a:rPr b="1" lang="zh-CN" sz="2000" spc="-1" strike="noStrike">
                <a:solidFill>
                  <a:srgbClr val="000000"/>
                </a:solidFill>
                <a:latin typeface="PMingLiU"/>
                <a:ea typeface="PMingLiU"/>
              </a:rPr>
              <a:t>髮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ja-JP" sz="4400" spc="-1" strike="noStrike">
                <a:solidFill>
                  <a:srgbClr val="ffcc00"/>
                </a:solidFill>
                <a:latin typeface="PMingLiU"/>
              </a:rPr>
              <a:t>的成因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MingLiU"/>
              </a:rPr>
              <a:t>導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致脫髮的原因很多，包括：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遺傳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壓力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不適當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的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頭髮護理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疾病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藥物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營養不良等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5638680" y="3733920"/>
            <a:ext cx="243360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</a:t>
            </a:r>
            <a:r>
              <a:rPr b="1" lang="ja-JP" sz="4400" spc="-1" strike="noStrike">
                <a:solidFill>
                  <a:srgbClr val="ffcc00"/>
                </a:solidFill>
                <a:latin typeface="PMingLiU"/>
              </a:rPr>
              <a:t>的成因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最普遍的脫髮成因是「雄激素禿頭症」</a:t>
            </a: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(Androgenetic Alopecia)</a:t>
            </a:r>
            <a:r>
              <a:rPr b="0" lang="zh-TW" sz="3200" spc="-1" strike="noStrike">
                <a:solidFill>
                  <a:srgbClr val="ffffff"/>
                </a:solidFill>
                <a:latin typeface="PMingLiU"/>
              </a:rPr>
              <a:t>，一般稱作「遺傳性脫髮」</a:t>
            </a:r>
            <a:endParaRPr b="0" lang="en-US" sz="32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75%-95%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的脫髮均屬此類，主要因素是受遺傳影響，毛囊受男性荷爾蒙二氫睪酮（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DHT-Dihydrotestosterone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）影響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令某些仍處於新生期的毛囊提早萎縮，頭髮因而變的稀薄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的徵狀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ffffff"/>
                </a:solidFill>
                <a:latin typeface="PMingLiU"/>
              </a:rPr>
              <a:t>男性：首先出現「</a:t>
            </a:r>
            <a:r>
              <a:rPr b="0" lang="en-US" sz="3300" spc="-1" strike="noStrike">
                <a:solidFill>
                  <a:srgbClr val="ffffff"/>
                </a:solidFill>
                <a:latin typeface="PMingLiU"/>
              </a:rPr>
              <a:t>M</a:t>
            </a:r>
            <a:r>
              <a:rPr b="0" lang="zh-TW" sz="3300" spc="-1" strike="noStrike">
                <a:solidFill>
                  <a:srgbClr val="ffffff"/>
                </a:solidFill>
                <a:latin typeface="PMingLiU"/>
              </a:rPr>
              <a:t>字額」，頭頂變得稀薄，髮線慢慢向後移，頭頂出現俗稱的「地中海」，最後變成半禿頭</a:t>
            </a:r>
            <a:endParaRPr b="0" lang="en-US" sz="33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ffffff"/>
                </a:solidFill>
                <a:latin typeface="PMingLiU"/>
              </a:rPr>
              <a:t>女性：頭頂頭髮漸漸變得稀薄</a:t>
            </a:r>
            <a:endParaRPr b="0" lang="en-US" sz="3300" spc="-1" strike="noStrike">
              <a:solidFill>
                <a:srgbClr val="ffffff"/>
              </a:solidFill>
              <a:latin typeface="PMingLiU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4800" t="0" r="4800" b="5477"/>
          <a:stretch/>
        </p:blipFill>
        <p:spPr>
          <a:xfrm>
            <a:off x="3657600" y="4648320"/>
            <a:ext cx="266688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553080" y="3352680"/>
            <a:ext cx="2224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的階段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87600" y="1374840"/>
            <a:ext cx="625788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79680" y="3773520"/>
            <a:ext cx="625788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PMingLiU"/>
              </a:rPr>
              <a:t>脫髮的影響</a:t>
            </a:r>
            <a:endParaRPr b="1" lang="en-US" sz="4400" spc="-1" strike="noStrike">
              <a:solidFill>
                <a:srgbClr val="ffcc00"/>
              </a:solidFill>
              <a:latin typeface="PMingLiU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脫髮影響個人的自信心及自尊心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脫髮為男性帶來負面的心理影響，害怕提早衰老，失去男性魅力，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及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成為別人的取笑對象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頭髮是女士們儀表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極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重要的一環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；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頭髮稀薄令女性對自己的吸引力產生懷疑；缺乏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傾訴對象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更令面對這問題的女性感到孤單無助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Arial Unicode MS"/>
              </a:rPr>
              <a:t>在競爭激烈的環境下，不少在職人士需要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Arial Unicode MS"/>
              </a:rPr>
              <a:t>保持競爭力，而調查結果顯示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</a:rPr>
              <a:t>脫髮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原來嚴重影響求職致勝機會，故更應儘早尋求協助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Arial Unicode MS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PMingLiU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5:52Z</dcterms:created>
  <dc:creator>cawan</dc:creator>
  <dc:description/>
  <dc:language>en-US</dc:language>
  <cp:lastModifiedBy>tony</cp:lastModifiedBy>
  <dcterms:modified xsi:type="dcterms:W3CDTF">2005-07-25T06:54:40Z</dcterms:modified>
  <cp:revision>61</cp:revision>
  <dc:subject/>
  <dc:title>Slide 1</dc:title>
</cp:coreProperties>
</file>