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B4CAE-6F06-4591-B983-873931CD5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FF15D-325A-4896-9D2B-4ADC8CB70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2ADFD-2086-4AA6-8051-B36172DDF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9F457-6A61-4874-9DB2-3A1CF498D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C3110-3A66-4271-B6F8-C5CCC6355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D16E2-0EC0-4C02-944B-21850EE5C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FBD86-7C50-4919-AF85-E46BE924A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0D476-A28C-4DEA-A4DA-B16417A98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B3C5E-F87C-4F51-9BAC-4205F4CB0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D8830-0F22-45FE-8F95-419E6B3A5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61B69-C7F8-4113-9126-E498A7531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6ACBF-113D-4728-80B1-9E077C049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75E7F-C644-49AF-9806-2B5E9238EB23}" type="slidenum"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1511280"/>
            <a:ext cx="7848720" cy="417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8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香港更美好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HONG KONG ALTERNATIVE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ww.hkalternatives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85800" y="1511280"/>
            <a:ext cx="7848720" cy="48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西九龍及維港發展計劃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民意調查結果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贊助機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香港更美好</a:t>
            </a:r>
            <a:r>
              <a:rPr b="1" lang="zh-TW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lang="zh-TW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lang="zh-TW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lang="zh-TW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共創我們的海港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Hong Kong Alternative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Designing HK Harbour Distric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990720" y="1066680"/>
            <a:ext cx="7162560" cy="28958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066680" y="1143000"/>
            <a:ext cx="7010640" cy="2743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762120" y="1800360"/>
            <a:ext cx="770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我們是一群關心和熱愛香港的市民。我們無任何政治，商業或個人的目的。但因為對於西九龍這塊土地的用途，我們有一個共同的意念，就是從香港市民長遠的利益出發，希望政府把這塊面對海港中心最珍貴的土地，公開給市民世世代代的享用，所謂「取之於民，用之於民，還富於民」達到「以民為本」的真正目的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457200"/>
            <a:ext cx="7772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「香港更美好」宣言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85800" y="824040"/>
            <a:ext cx="762012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3000" indent="-1143000"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以下是香港更美好對西九龍提出的建議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143000" indent="-1143000"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</a:t>
            </a:r>
            <a:r>
              <a:rPr b="1" lang="zh-TW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一</a:t>
            </a:r>
            <a:r>
              <a:rPr b="1" lang="zh-TW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)</a:t>
            </a:r>
            <a:r>
              <a:rPr b="1" lang="zh-TW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lang="zh-TW" sz="3200" spc="-1" strike="noStrike" u="sng">
                <a:solidFill>
                  <a:srgbClr val="000000"/>
                </a:solidFill>
                <a:uFillTx/>
                <a:latin typeface="Times New Roman"/>
                <a:ea typeface="新細明體"/>
              </a:rPr>
              <a:t>興建文化公園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143000" indent="-1143000"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lang="zh-TW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我們認為西九龍這塊從維港填出來的土地，是香港市民共同擁有的寶貴產業，應該全部公開，用作文化設施和綠化公園，讓市民享用。構思正如十年前地政規劃署的目的，以填海增加的土地作興建綠化公園用途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85800" y="990720"/>
            <a:ext cx="77724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3000" indent="-1143000"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</a:t>
            </a:r>
            <a:r>
              <a:rPr b="1" lang="zh-TW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二</a:t>
            </a:r>
            <a:r>
              <a:rPr b="1" lang="zh-TW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)</a:t>
            </a:r>
            <a:r>
              <a:rPr b="1" lang="zh-TW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lang="zh-TW" sz="3200" spc="-1" strike="noStrike" u="sng">
                <a:solidFill>
                  <a:srgbClr val="000000"/>
                </a:solidFill>
                <a:uFillTx/>
                <a:latin typeface="Times New Roman"/>
                <a:ea typeface="新細明體"/>
              </a:rPr>
              <a:t>反對私人參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143000" indent="-1143000"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lang="zh-TW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我們反對政府在西九龍讓發展商興建私人商業、住宅樓宇，以「地產養文化」的經營方法，不但違反了城市規劃的原則和程序，更可產生很多不必要的流弊。所以我們懇請政府擱置目前的與地產商投標方案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990720"/>
            <a:ext cx="77724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3000" indent="-1143000"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</a:t>
            </a:r>
            <a:r>
              <a:rPr b="1" lang="zh-TW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三</a:t>
            </a:r>
            <a:r>
              <a:rPr b="1" lang="zh-TW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)</a:t>
            </a:r>
            <a:r>
              <a:rPr b="1" lang="zh-TW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lang="zh-TW" sz="3200" spc="-1" strike="noStrike" u="sng">
                <a:solidFill>
                  <a:srgbClr val="000000"/>
                </a:solidFill>
                <a:uFillTx/>
                <a:latin typeface="Times New Roman"/>
                <a:ea typeface="新細明體"/>
              </a:rPr>
              <a:t>刪除天篷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143000" indent="-1143000"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lang="zh-TW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我們極力反對在西九興建一個龐大的玻璃天篷，此「疊床架屋」之「地標」既昂貴亦不切實際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143000" indent="-1143000"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lang="zh-TW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功能方面不能擂擋風遮雨遮太陽，但可以養蟲蟻，禽鳥及細菌，後患無窮。價錢方面，建築造價，維修保養費用高至無法估計，將會為環境及財政帶來嚴重的後果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685800" y="1189080"/>
            <a:ext cx="77724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3000" indent="-1143000"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</a:t>
            </a:r>
            <a:r>
              <a:rPr b="1" lang="zh-TW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四</a:t>
            </a:r>
            <a:r>
              <a:rPr b="1" lang="zh-TW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)</a:t>
            </a:r>
            <a:r>
              <a:rPr b="1" lang="zh-TW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lang="zh-TW" sz="3200" spc="-1" strike="noStrike" u="sng">
                <a:solidFill>
                  <a:srgbClr val="000000"/>
                </a:solidFill>
                <a:uFillTx/>
                <a:latin typeface="Times New Roman"/>
                <a:ea typeface="新細明體"/>
              </a:rPr>
              <a:t>成立文化管理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143000" indent="-1143000"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lang="zh-TW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我們認同大部份立法局西九發展調查委員會的報告結果，如成立一個西九文化管理局用以籌劃，興建及管理西九文娛區，經費由政府直資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685800" y="1235160"/>
            <a:ext cx="77724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3000" indent="-1143000"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</a:t>
            </a:r>
            <a:r>
              <a:rPr b="1" lang="zh-TW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五</a:t>
            </a:r>
            <a:r>
              <a:rPr b="1" lang="zh-TW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)</a:t>
            </a:r>
            <a:r>
              <a:rPr b="1" lang="zh-TW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lang="zh-TW" sz="3200" spc="-1" strike="noStrike" u="sng">
                <a:solidFill>
                  <a:srgbClr val="000000"/>
                </a:solidFill>
                <a:uFillTx/>
                <a:latin typeface="Times New Roman"/>
                <a:ea typeface="新細明體"/>
              </a:rPr>
              <a:t>綠化維港兩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143000" indent="-1143000"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lang="zh-TW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最後，我們希望政府每當規劃及發展維港兩岸的土地時</a:t>
            </a:r>
            <a:r>
              <a:rPr b="1" lang="zh-TW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1" lang="zh-TW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應考慮到保留適當的綠化和公共設施，讓市民能共享這「東方之珠」或「世界都會」的天然美景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685800" y="838080"/>
            <a:ext cx="777240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 u="sng">
                <a:solidFill>
                  <a:srgbClr val="000000"/>
                </a:solidFill>
                <a:uFillTx/>
                <a:latin typeface="Times New Roman"/>
                <a:ea typeface="新細明體"/>
              </a:rPr>
              <a:t>民意調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我們認為香港政府的西九方案民調，志在推銷，有誤導的成份，不盡不實。因此有必要請一獨立機構作客觀詳盡的民意調查，讓市民可以作一比較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22T07:29:42Z</dcterms:created>
  <dc:creator>user</dc:creator>
  <dc:description/>
  <dc:language>en-US</dc:language>
  <cp:lastModifiedBy>HKUPOP</cp:lastModifiedBy>
  <dcterms:modified xsi:type="dcterms:W3CDTF">2006-01-23T06:54:52Z</dcterms:modified>
  <cp:revision>9</cp:revision>
  <dc:subject/>
  <dc:title>PowerPoint Presentation</dc:title>
</cp:coreProperties>
</file>