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C2E5D3-C714-4838-B273-B372A7CF2AD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610-B721-4311-A450-1D955752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113-EDD7-49D9-8566-24FD526F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1AD-BA0E-4964-A65B-CC512218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22B-6F11-4414-BC70-289D5AEC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2A0-8BB4-4A3B-8A7F-C7C579E1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84E-5CF1-4241-A4F4-BF13F06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DD0-2C4F-47FB-B4EF-54940EAC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7A8-33B5-43B1-ACEF-B9821347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F5E-6E6E-4B2B-AC1F-B70C260F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4B0-6743-41BF-821B-0BDE407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EC2-D460-4B45-83DC-30EF63B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789-CF46-4897-8BF5-9BD42D1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38EE-535F-4EE1-A038-DF50DDEF42B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《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西九龍及維港發展計劃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》</a:t>
            </a:r>
            <a:br>
              <a:rPr sz="3600"/>
            </a:b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民意調查結果</a:t>
            </a:r>
            <a:br>
              <a:rPr sz="3600"/>
            </a:br>
            <a:br>
              <a:rPr sz="4000"/>
            </a:b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鍾庭耀博士</a:t>
            </a:r>
            <a:br>
              <a:rPr sz="3600"/>
            </a:br>
            <a:br>
              <a:rPr sz="2800"/>
            </a:br>
            <a:r>
              <a:rPr b="0" i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006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2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0" i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 </a:t>
            </a:r>
            <a:br>
              <a:rPr sz="3200"/>
            </a:br>
            <a:br>
              <a:rPr sz="3200"/>
            </a:b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本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報告</a:t>
            </a:r>
            <a:r>
              <a:rPr b="0" i="1" lang="zh-TW" sz="1400" spc="-1" strike="noStrike">
                <a:solidFill>
                  <a:srgbClr val="ccecff"/>
                </a:solidFill>
                <a:latin typeface="標楷體"/>
                <a:ea typeface="標楷體"/>
              </a:rPr>
              <a:t>內一切內容與香港大學立場無關，內容由民意研究計劃主任鍾庭耀博士負責。</a:t>
            </a:r>
            <a:br>
              <a:rPr sz="2000"/>
            </a:b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對香港發展成為一個環保綠色城市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有幾喜歡或者不喜歡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04160" y="44956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04920" y="1600200"/>
          <a:ext cx="1044432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600200"/>
                    <a:ext cx="1044432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2057400"/>
          <a:ext cx="8610480" cy="45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86104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現時香港從維港填海得出黎既地方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屬於太多、太少抑或恰到好處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93720" y="25146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2101680"/>
          <a:ext cx="815328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01680"/>
                    <a:ext cx="815328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你有幾贊成或者反對政府將近年及未來</a:t>
            </a:r>
            <a:br>
              <a:rPr sz="3200"/>
            </a:b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從維港填海得出既空地，用作：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66688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商業及住宅發展用途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道路和天橋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政府辦公室和機構設施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文化、運動和消閒設施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-37476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露天空間和綠化公園，包括海濱長廊、步行及單車徑等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6021360"/>
            <a:ext cx="74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*</a:t>
            </a:r>
            <a:r>
              <a:rPr b="1" i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時以上項目在各張問卷出現的次序由電腦隨機安排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商業及住宅發展用途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057400"/>
          <a:ext cx="831852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0" y="1447920"/>
          <a:ext cx="7319880" cy="302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731988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080120" y="2362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道路和天橋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057400"/>
          <a:ext cx="831852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-228600" y="1295280"/>
          <a:ext cx="7288200" cy="336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295280"/>
                    <a:ext cx="72882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699240" y="27432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興建政府辦公室和機構設施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286000"/>
          <a:ext cx="891540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1540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-304920" y="1295280"/>
          <a:ext cx="7288200" cy="336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295280"/>
                    <a:ext cx="72882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004160" y="25146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文化、運動和消閒設施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514600"/>
          <a:ext cx="89186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918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048120" y="1752480"/>
          <a:ext cx="7302240" cy="274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752480"/>
                    <a:ext cx="730224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050920" y="2362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提供露天空間和綠化公園，包括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海濱長廊、步行及單車徑等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133720"/>
          <a:ext cx="89186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918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133720" y="380880"/>
          <a:ext cx="9453600" cy="513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0880"/>
                    <a:ext cx="94536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898640" y="22860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按平均數排列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2286000"/>
          <a:ext cx="761976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61976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你是否知道西九龍文娛藝術區本來係劃作興建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一個設有文化設施既綠化公園，作為赤鱲角</a:t>
            </a:r>
            <a:br>
              <a:rPr sz="2800"/>
            </a:b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機場發展計劃的其中一個項目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2112840"/>
          <a:ext cx="7391520" cy="36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12840"/>
                    <a:ext cx="739152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934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2860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研究背景及調查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香港居住環境的健康程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巿民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維港發展的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意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巿民對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西九龍文娛藝術區發展的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意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總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政府返回原先既規劃，把西九龍文娛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藝術區發展成為一個設有文化設施既綠化公園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17760" y="21337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1752480"/>
          <a:ext cx="10155240" cy="39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10155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2209680"/>
          <a:ext cx="8763120" cy="459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87631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如果只有兩個選擇，你認為以下哪一個方案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較適合西九龍文娛藝術區既發展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95280" y="2209680"/>
          <a:ext cx="7417080" cy="38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4170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238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你在原則上贊成定反對係西九龍文娛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藝術區興建一個大型天幕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584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95280" y="1219320"/>
          <a:ext cx="9753840" cy="40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975384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1981080"/>
          <a:ext cx="8991720" cy="4710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89917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係西九龍文娛藝術區興建一個約有三十層高，覆蓋半個西九龍文娛藝術區，並佔地二十畂既天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9432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2590920" y="914400"/>
          <a:ext cx="10515600" cy="43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90920" y="914400"/>
                    <a:ext cx="105156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2286000"/>
          <a:ext cx="831852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係西九龍文娛藝術區興建一個預計費用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超過四十億港元、每年維修費用數千萬港元既天幕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0120" y="22096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-1905120" y="1371600"/>
          <a:ext cx="9225000" cy="38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922500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0" y="1828800"/>
          <a:ext cx="883908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883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總結關於興建天幕意見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30040" y="1600200"/>
          <a:ext cx="1011744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00200"/>
                    <a:ext cx="101174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90720" y="13716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贊成定反對政府將西九龍文娛藝術區的地皮賣給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地產發展商作為商用和住宅物業發展，然後把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資金用以興建西九文化設施同埋天幕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75560" y="25146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-1405080" y="1773360"/>
          <a:ext cx="922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773360"/>
                    <a:ext cx="922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39640" y="2133720"/>
          <a:ext cx="8345520" cy="45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834552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 flipV="1">
            <a:off x="1042920" y="1904760"/>
            <a:ext cx="749160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西九龍文娛藝術區的計劃和發展最好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由以下邊一個單位負責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2438280"/>
          <a:ext cx="7531200" cy="37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53120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8580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0574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整體來說，就西九龍文娛藝術區既發展，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你認為香港特區政府有幾尊重民意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27240" y="22860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1447920"/>
          <a:ext cx="922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922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28600" y="2496960"/>
          <a:ext cx="8516880" cy="413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496960"/>
                    <a:ext cx="8516880" cy="41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ecff"/>
                </a:solidFill>
                <a:uFillTx/>
                <a:latin typeface="標楷體"/>
                <a:ea typeface="標楷體"/>
              </a:rPr>
              <a:t>整體環境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香港的整體居住環境屬於健康及不健康的比率是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5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：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9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36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認為是一半半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香港露天空間和綠化公園不足，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4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香港不及其他國際城市，認為香港比中國主要城市較佳及較差的則各有四成左右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90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希望香港可以發展成為一個環保綠色城市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「香港更美好」及「共創我們的海港區」於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2005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11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月委託香港大學民意研究計劃進行《西九龍及維港發展計劃》民意調查，以了解市民對西九龍及維港發展計劃的意願及期望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調查由香港大學民意研究計劃獨立設計及進行，結果由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港大民研計劃全面負責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ccec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調查問卷由民研計劃諮詢「香港更美好」及「共創我們的海港區」後獨立設計，所有操作、數據收集及分析均</a:t>
            </a: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不受任何機構影響</a:t>
            </a:r>
            <a:r>
              <a:rPr b="1" lang="zh-TW" sz="2400" spc="-1" strike="noStrike">
                <a:solidFill>
                  <a:srgbClr val="ccec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ecff"/>
                </a:solidFill>
                <a:uFillTx/>
                <a:latin typeface="標楷體"/>
                <a:ea typeface="標楷體"/>
              </a:rPr>
              <a:t>維港發展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65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現時維港填海太多，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6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恰到好處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政府將近年及未來從維港填海得出空地的用途，超過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76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支持用作提供露天空間和綠化公園，包括海濱長廊、步行及單車徑等 ，是五項選擇中最被大眾支持的建議。而用作商業及住宅發展用途則排列最後，有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7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反對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ecff"/>
                </a:solidFill>
                <a:uFillTx/>
                <a:latin typeface="標楷體"/>
                <a:ea typeface="標楷體"/>
              </a:rPr>
              <a:t>西九龍文娛藝術區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81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贊成把西九還原劃作興建一個設有文化設施的綠化公園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4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原則上贊成興建天幕，但當得悉具體設計和費用後，支持比率跌至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1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9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反對政府把西九地皮賣給地產發展商作為商用和住宅物業發展，然後把資金用以興建西九文化設施和天幕。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50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西九龍計劃應由有公眾代表參與的獨立監管機構負責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22%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認為政府在西九的發展是尊重民意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2193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整體結論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從香港巿民的角度看，香港的居住環境和綠化程度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遠遠不及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其他國際城市，充其量只能與中國城市比較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就維多利亞港的發展和西九龍文娛藝術區的規劃，政府的發展方向和方案與巿民的要求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相去甚遠</a:t>
            </a:r>
            <a:r>
              <a:rPr b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被訪者個人</a:t>
            </a:r>
            <a:br>
              <a:rPr sz="4400"/>
            </a:br>
            <a:r>
              <a:rPr b="1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背景資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38080" y="1828800"/>
          <a:ext cx="7724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2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8580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7524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38080" y="1604880"/>
          <a:ext cx="775044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4880"/>
                    <a:ext cx="7750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58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Webdings"/>
                <a:ea typeface="Webdings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33520" y="1219320"/>
          <a:ext cx="815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29528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5800" y="1576440"/>
          <a:ext cx="777240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6440"/>
                    <a:ext cx="77724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172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509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6765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標楷體"/>
                <a:ea typeface="標楷體"/>
              </a:rPr>
              <a:t>家庭每月總收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4760" y="1219320"/>
          <a:ext cx="812628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19320"/>
                    <a:ext cx="8126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78168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= 49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002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124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286000"/>
            <a:ext cx="7239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1560" indent="-1771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2006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月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訪問對象：年齡為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18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歲或以上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操粵語、國語或英語的香港居民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調查方法：由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訪問員直接進行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  <a:ea typeface="標楷體"/>
              </a:rPr>
              <a:t>電話訪問，</a:t>
            </a:r>
            <a:r>
              <a:rPr b="1" lang="zh-TW" sz="2800" spc="-1" strike="noStrike">
                <a:solidFill>
                  <a:srgbClr val="ccecff"/>
                </a:solidFill>
                <a:latin typeface="標楷體"/>
                <a:ea typeface="標楷體"/>
              </a:rPr>
              <a:t>訪問員在成功接觸目標住戶後，再從住戶內符合條件的成員中以出生日期抽取一人接受訪問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標楷體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標楷體"/>
                <a:ea typeface="標楷體"/>
              </a:rPr>
              <a:t>樣本數目：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510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59.6% (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+/-2.2%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數據調整：調查數字已經按照政府統計處提供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03240" indent="-1803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中全港人口年齡及性別分佈初步統計數字，以「加權」方法作出調整。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香港既整體居住環境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標楷體"/>
                <a:ea typeface="標楷體"/>
              </a:rPr>
              <a:t>有幾健康或者不健康？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864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971800" y="1523880"/>
          <a:ext cx="67816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67816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920" y="2286000"/>
          <a:ext cx="831852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0"/>
                    <a:ext cx="8318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90720" y="190512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你覺得香港都市地區是否有足夠既露天空間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標楷體"/>
                <a:ea typeface="標楷體"/>
              </a:rPr>
              <a:t>同埋綠化公園讓市民享受健康生活？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98640" y="243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86200" y="1371600"/>
          <a:ext cx="6095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371600"/>
                    <a:ext cx="6095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57200" y="2286000"/>
          <a:ext cx="7772400" cy="42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86000"/>
                    <a:ext cx="777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以都市地區露天空間和綠化公園的狀況而論，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認為香港與其他主要國際城市比較，例如紐約、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倫敦、温哥華、悉尼等，屬於好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定係差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1520" y="28195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-1143000" y="1523880"/>
          <a:ext cx="7772400" cy="42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523880"/>
                    <a:ext cx="77724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24000" y="2060640"/>
          <a:ext cx="8623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060640"/>
                    <a:ext cx="8623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以都市地區露天空間和綠化公園的狀況而論，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你認為的香港與其他主要中國城市比較，例如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廣州、上海、北京等，屬於好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定係差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標楷體"/>
                <a:ea typeface="標楷體"/>
              </a:rPr>
              <a:t>？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2160" y="28195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5120" y="1295280"/>
          <a:ext cx="8386560" cy="36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83865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9280" y="2060640"/>
          <a:ext cx="8699760" cy="46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060640"/>
                    <a:ext cx="86997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90720" y="1828800"/>
            <a:ext cx="754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1-23T05:04:43Z</dcterms:modified>
  <cp:revision>831</cp:revision>
  <dc:subject/>
  <dc:title>無投影片標題</dc:title>
</cp:coreProperties>
</file>